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F054-F3E6-4A16-A96D-ADEF2AEA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4E90-D4F7-4AAD-B714-DCA498BC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2AEA-AC09-48A2-BBF1-07699AE0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57D3-AF0B-47B2-8F57-A50CCECD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D5A2-772A-4176-9D11-CAE92B0D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5194-49E4-4692-891D-AF9CF6D7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F4FC-2C70-4840-8249-24DC0AF4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279D-7CDB-4550-8C3A-EE1C28BC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D10E-F7B7-4B05-9186-2B80667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AC30-EB0A-4D35-A280-D4F013F3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740B-AD85-4422-B4C2-4A15D719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C4A4-E07F-4AAA-A776-785DF88E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F887-04CA-4E40-A640-0148FF61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585C-9935-4BE8-B9CF-5B56194C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E267-2008-454C-BA33-9C46F854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1107-7CA0-454B-9328-B1261259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1787-4BE2-4666-8E67-775BB9BD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6622-0D3A-4782-BE4C-25D25FD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1071-B15A-47FD-BB26-8525C445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03FF-59D3-4A28-BC7E-317F2F0F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1745-80D5-4E38-B031-E52FCD0B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E518-7962-432C-AB09-B8263286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623E-E43E-4B39-A77E-56366E50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D91A-1630-4C12-B8E8-9C0A08F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7B48-D24D-4F35-87DE-59783BAA2B26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D529-71F1-4DE7-8CD7-3F6BD5F26FAD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LO SPAZI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6248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Mr.sc. Snježana Nevia Močini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bilit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legate allo schema corpo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criminare le parti del co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onoscere i legami tra i segmenti del corpo e le relazioni spa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criminare e organizzare stimoli percettivi (tattili, sonori, olfattivi e visi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llocare se stesso nelle posizioni in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ocalizzare gli oggetti secondo i riferimenti prev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ordinazione oculo-manuale dei mov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lazioni spazi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iste una correlazione forte tra la costituzione dello schema corporeo e dei rapporti tra esso e lo spazio circo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scuola materna - attiv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finalizzate alla costituzione dello schema corporeo e dei rapporti tra esso e lo spazio circo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lazioni spaziali: sopra – sotto; su – g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in alto - in basso; dentro – fuori; davanti – dietro; vicino – lontano; destra – sinist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Gli spazi esterni: microspazio e macro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icrospazio – spazio di piccole dimen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crospazio – spazio di grandi dimen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 real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a distinzione fa riferimento all’attiv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cognitiva del soggetto nel corso dell’esplo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523880" y="2514600"/>
            <a:ext cx="914400" cy="800280"/>
          </a:xfrm>
          <a:prstGeom prst="flowChartPunchedTap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giardin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00200" y="3809880"/>
            <a:ext cx="154296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riteri di differenziazi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nclusion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il sogget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ncluso nel macrospazio ed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esterno al micro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odalit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di esplorazio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il soggetto p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muoversi nel macrospazio, mentre esplora con la vista e la manipolazione il micro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ercezio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il macrospazio non si p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bbracciare tutto con lo sguardo (cambiamenti di prospettiva lenti); il microspazio – percezione istantanea e facili cambiamenti di prospet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siderazioni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giardino della scuola p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essere macrospazio o microspazio a seconda dell’esplorazione possibile per il s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aminare con cautela le situazioni di apprendimento evitando facili generalizzazioni (es. esplorare il giardino e la palestra della scuola 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o stes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 passaggio dal microspazio al macrospazio e viceversa 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utomatico, ma richiede esperienze specif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o spazio astra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o spazio della geometria nella cultura occid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condo Piage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lo spazio delle operazioni formali, collocato come stadio evolutivo f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udi recenti di protomatematica suggeriscono cautela nel generalizzare (dipende dalla cultura in cui si op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la nostra cultura – geometria euclidea – ruolo fortissimo nelle proposte edu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Apprendimento dello spazio astra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naturalmente indotto dall’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seguenza di un progetto intenzionale di accultu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 fonda sull’intervento intenzionale del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. esperimento con donne analfab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tenuti geometrici nella scuola mate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tinzione delle forme geometriche (cerchio, quadrato, rettangolo, triango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tinzione dei corpi geometrici (cubo, parallelepipedo, cilindro, sfera, piramide, c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rendere l’uso dei grafici e saperli leggere (es. tabelle a doppia entrata, istogrammi, diagrammi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parare a leggere le ma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spressione delle relazioni spazi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Tramite proposizion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n cui alcuni oggetti o referenti sono collegati da predic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less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elle proposizio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 predicato unario: es. Il campani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l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predicato binario: es. La pall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ul tavo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) predicato ternario: es. Giovann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eduto tra Carlo e M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ndice della complessit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cognitiva delle proposizioni spazi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ncipio di informa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ggior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 numero di argomenti o predicati, maggior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la probabi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he vi siano errori di comprensione o di produzione di relazioni spaziali (specialmente nei soggetti p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iova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Principio di invarian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zioni spaziali invarianti (su-g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; dentro-fuori; sopra-sotto; in alto - in bas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zioni spaziali diverse a seconda dell’osserv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o 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’ un concetto estremamente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livello psic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livello pedag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 livello culturale (scienze: geografia, geometria, astronomia, ecologia; arti: architettura, pittura, scultura…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egliamo lo spazio nella prospettiva della mate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rientamento nello spazio – I sistemi di rifer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stema di riferimento (in uno spazio esterno) – luogo (oggetto) o insieme di luoghi (oggetti) rispetto a cui le posizioni spaziali possono essere descri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atteristiche spazio ester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rtemente determinato dagli oggetti che cont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tiene punti ed oggetti privilegi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tiene direzioni privileg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istemi di riferimento secondo Pia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ferimen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egocentric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il punto di riferimento fondamenta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l soggetto che esp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ferimen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allocentrici –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l punto di riferimento fondamenta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n luogo o oggetto esterno al s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ferimen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geocentrici -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i punti di riferimento sono scelti in modo astrat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istemi di riferimento secondo studi pi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recenti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scelta del sistema di riferimento non appare legata allo sviluppo cognitivo, ma al tipo di compi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zioni corpo - corpo: (es. succhiare un dito, battere le mani, battere il petto, saltellare, ecc.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ufficiente un riferimento egocent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zioni corpo – oggetto (es. sollevare un sacco, saltare ostacoli, inseguire una palla, ecc.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ufficiente un riferimento egocentrico nel microspazio e uno allocentrico nel macrospa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istemi di riferimento secondo studi pi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recenti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lazioni oggetto – oggetto (es. lanciare una palla contro un birillo, avvitare una vite con il cacciavite, ecc.)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pesso necessario un riferimento allocen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ferimenti geocentrici – non sono necessari nelle situazioni di esperienza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’evoluzione si svolge da un sistema di riferimento egocentrico alla scelta del sistema allocentrico, quando il problema lo es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a scelta del punto di rifer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rme implicite usate per definire un punto di riferimento opport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isso, inserito nel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rande e p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is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geometricamente p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ompl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) era g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resente sulla scena e nella memoria delle persone coinvo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ercizi: camion-casa; fiore-albero; Arena-parcheggio Carolina; scuola materna Calimero-macelleria Li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lassificazione dei punti di rifer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Oggettivi o assoluti – indipendenti dal soggetto che descrive la relazione spa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Soggettivi – dipendono dal soggetto e dal modo in cui proietta il suo schema corpo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riferimenti soggettivi si dividono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) riferimenti egocentrici – punto di riferimento il soggetto st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) riferimenti allocentrici – punto di riferimento oggetto o persona diversi dal sog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ferimenti </a:t>
            </a:r>
            <a:r>
              <a:rPr b="0" lang="hr-HR" sz="4400" spc="-1" strike="noStrike">
                <a:solidFill>
                  <a:srgbClr val="ff3300"/>
                </a:solidFill>
                <a:latin typeface="Arial"/>
              </a:rPr>
              <a:t>allocentr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portuno distinguere tra oggetti canonici e oggetti non cano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get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canonic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hanno delle parti privilegiate: es. automobile, animali, persone, manichino, bambolotto; armadio, specchio, casa, quadro; divano, sedia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getti </a:t>
            </a: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non canonic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senza parti privilegiate per l’orientamento: es. albero, sasso, scatola senza etichette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nell’orientamento -microspa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ferimenti egocentrici – si verificano conflitti di orientamento tra soggetto ed oggetto: es. problemi di lateralizzazione – la destra non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alla stessa parte di chi sta di fro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ferimenti allocentrici – si verificano conflitti tra le diverse orientazioni indotte dal soggetto prima e dopo uno spostamento nello spa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ausate dalla moda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 proiettare lo schema corporeo sull’oggetto di fronte: per traslazione (oggetti adattati al corpo), per rotazione (ogg. canonici animati), per riflessione (oggetti canonici inanim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nell’orientamento – microspazio: eserci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ercitazioni da eseguire: cambiare posizione o punto di osservazione di alcuni oggetti posti su un tav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primere le visuali diverse tramite linguaggio iconico, verbale, ges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mbiare consegna: scegliere il disegno, la fotografia, la descrizione, il plastico che rappresenta la visuale, oppure esegui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ifficolt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nell’orientamento – macro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guarda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apac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orientamento in senso pragmatico – saper trovare la strada senza perde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costruzione di piante e carte topografiche (dal macrospazio al microspaz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lettura di piante e carte topografiche (dal microspazio al macrospaz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efinizione dello sp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tensione illimitata in cui sono contenuti tutti gli oggetti mater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Qua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relativa alla posizione nel mondo degli oggetti mater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ntrambe le definizioni = libere creazioni dell’immaginazione umana per una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facile comprensione della nostra esperienza sensi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’orientamento spa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hiede la capac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definire in modo pragmatico o descrittivo le posizioni di uno o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ggetti nello spazio in relazione a uno o 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istemi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pende dalla ricchezza della mappa cogni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a mappa cognitiva ha la funzione di facilitare la localizzazione e il movimento del soggetto nonch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fornirgli un sistema di riferimento gen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aratteristiche delle mappe cogn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cesso-prodotto di una serie di trasformazioni psicologiche tramite le quali un soggetto acquisisce, codifica, archivia, ricorda, decodifica informazioni relative a posizioni e attributi dei fenomeni nel suo ambiente qutid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ppresentazione tridimensionale con informazioni affettive; struttura attiva in grado di accettare e fornire inform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lante cognitivo – insieme di mapp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aratteristiche delle mappe cogn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complete – non contengono tutte le inform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storte – interpretazioni soggettive dello sp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hematizzate – ridotte a stereotipi o simboli legati all’ambiente (es. torre di Pi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umentate – completate con l’aggiunta di particolari fantasi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a costruzione delle mappe cognitive dipende d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Fattori individu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ltezza del sog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ipo di movimento effettu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fidenza con 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Quant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 esper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Fattori legati all’ambiente fis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senza di oggetti significativi e dotati di un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golar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 certe forme urbanistiche o architetto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livell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a costruzione delle mappe cognitive dipende da: (continuazio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) Fattori legati ai codici rappresentativi (es. linguaggio verbale, graf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) Fattori legati alla storia e alla 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iettivi generali del gru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stemi di codifica di uso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ber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movimento e strumenti disponibili fin dalla prima inf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odello di costruzione di una mappa cogni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viduazione di punti di riferimento con le caratteristiche che li rendono facilmente identific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rdinamento dei punti di riferimento secondo percorsi sequenziali (traccia mentale delle vie di mov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ocomo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struzione di mappe d’insi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ostruzione di piante o carte topograf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erazione complessa – le carte geografiche odierne -  prodotto culturale relativamente re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mplica una serie di operazioni diverse tra cui ricordia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) identificazione degli oggetti da riprodu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) identificazione delle relazioni spaziali fra ogg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) la riduzione di dimensioni in 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) identificazione di 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he deve essere descritto dalla pianta (utili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ella pian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Esperimento di costruzione della pianta di un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ase: al bambin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affidata la costruzione di un modello in miniatura di un locale con arredi in scala sistemati in una scat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ase: si scatta una foto digitale dall’alto per simulare la proiezione ortog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ase: si commenta la foto e si chiede al bambino di disegnare il modello copiando la f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ª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fase: si chiede al bambino di disegnare nello stesso modo un altro ambiente a lui molto n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isultati possibili dell’esperimen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egni realistici con persone e oggetti non in scala all’interno di un recinto che simboleggia 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egni realistici con elementi in pianta, senza attenzione alle relazioni spa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egni in pianta con elementi realistici, in cui la maggior parte degli arred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rappresentata in pianta rispettando la riduzione in scala e le relazioni spa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egni in pianta, secondo i canoni adul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ettura e costruzione di piante o carte topograf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terpretazione di piante costruite da altri -risulta problematica per questa fascia d’e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ate in genere nel gioco dell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ccia al tesor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struzione di piante e relativa interpretazione - per usi scolastici (es. disposizione dei bambini intorno ai tavoli della men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mportamento e rappresentazione spa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mportamento spaziale – attiv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nso-motoria nell’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spaziale – processo di ricostruzione dell’esperienza usando un sistema simbolico qualsiasi (disegno, linguaggio, ges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ambina 3-anni"/>
          <p:cNvPicPr/>
          <p:nvPr/>
        </p:nvPicPr>
        <p:blipFill>
          <a:blip r:embed="rId1"/>
          <a:stretch/>
        </p:blipFill>
        <p:spPr>
          <a:xfrm>
            <a:off x="7308720" y="990720"/>
            <a:ext cx="1835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dotta e rappresentazione spa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sso causale tra i due concet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Il comportamento spaziale precede la costruzione dello spazio concettu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La rappresentazione spaziale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n mezzo propulsivo per la condotta spazi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nsiderare le divergenze di teorizzazione nell’ottica dell’uti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er la spiegazione dei fenomeni concreti a livello della scuola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mbiguit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del termine rappresentazione spa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spaziale esterna – osservabile direttamente tramite i medium usati (linguaggio, gesto, disegn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spaziale interna – pensiero e memoria spaziale usate nella soluzione di problemi, processo volontario, accessibile all’introsp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ppresentazione spaziale interna – codifica e archiviazione nella memoria (a livello inconscio), processo involo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ontenuti della rappresentazione spaz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no soggetti a variabili individuali ed evolutive e a fattori di tipo storico-cult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Lo spazio del corpo presa di coscienza del proprio corpo, delle sue parti, dei suoi mov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Gli spazi esterni specifici – gli spazi ambientali concreti e gli spazi rappresent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Lo spazio astratto – modello geometrico della cultura occid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siderazio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ascuno dei filoni di esperienza richiede ed implica modi di esplorazione ed attiv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cognitiv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n esistono abili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paziali generali, ma sono legate al contesto specifico dell’esperienza viss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sistono comunque collegamenti e intersezioni signif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o spazio del cor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cquisizione della posizione eretta – serve alla costruzione del sistema di riferimento postur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chema corporeo – rappresentazione dell’immagine del corpo sia a livello globale che segmentario, sia in posizione statica che dina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sultato dei legami tra spazio posturale e spazio circos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o</cp:lastModifiedBy>
  <dcterms:modified xsi:type="dcterms:W3CDTF">2013-11-05T17:30:00Z</dcterms:modified>
  <cp:revision>32</cp:revision>
  <dc:subject/>
  <dc:title>PowerPoint Presentation</dc:title>
</cp:coreProperties>
</file>