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CD2-A89A-4461-903F-2CEA1872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BE4-B7CD-4A2D-B18F-A781F58D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FDC-F3B8-40B2-AC90-B4C861F4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E41-B121-4EDA-A736-FEE45DED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7D7B-8A17-4ABD-9AA7-D26434CD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F002-9700-4AC9-A38A-63A096F6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8634-A078-49A8-A8D3-FB18B9A4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1FFE-C437-4C01-9B5A-2F257260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B6C8-106C-4DF2-AD5C-6A534F1C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FE10-519A-4830-A0E7-7B893B6F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9E98-5DDC-4564-A8D8-3AD2A08B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264-D2DB-4B63-A49B-CFF9106E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3E18-1951-4162-89BD-055AF293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D5CD-28D7-4EE0-AFA9-69A0F156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6EED-6E89-4461-B8FA-13E59108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4B8B-E499-4CA0-84DD-6EAF5D81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1D69-7296-440A-B515-A8DE11FB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D2FE4-D387-431F-85BE-E3E3D9D2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4C7D-CF72-4881-BE65-12A8981C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CCE5-1DBC-415F-A815-AEB16030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BFE7-7A4C-46B9-99BC-0A815000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5A33-3F0F-45AA-87A3-DFD1BDC0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4B9-FFED-4A79-8FBE-0F969EAB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762A7-F0B5-4B9D-ACDC-4595BD58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EDB31-15CE-4495-9FE4-EFFB2C3C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A960-D381-4F8F-A1D1-E296CF7F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7BF52-3C27-4257-AB49-620E1326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BD0DF-EDDF-4894-8583-AA620383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3E7C2-C9EF-44E7-9189-46EF3920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1149-E2BB-4674-80B5-96C2D396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D60A7-EECA-4FE0-8850-B44B7C1A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E077C-270B-4AF1-B253-ED900588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62B45D-E524-47B3-82CE-03B6D573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413-494A-4215-A1B5-4989F8BA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D9D78-B41C-40C9-996B-D4C53594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575213-2645-4D17-9F10-5F343E03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C31DE-9EAD-48CB-84DD-36D31CA8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55676-AD15-41BD-B11E-EB589BB8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07C35-B2A9-4318-B484-CDB43FF2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34D1D-E0DC-46D3-9DC7-39E8448F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C96E9-4799-48CD-8560-1ED47127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695E08-8236-4189-B615-3E88A8A5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01706-569F-4EDC-B7E7-8EBFD1C7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9FC76-D263-4282-8305-D1F46625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CF0-C71E-4D49-B2A7-DF731C5A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63A4F-9B76-430D-90E9-01CEFDA6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727F7-265F-46A7-B322-56C917DE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31A3E-66A5-40A3-B332-13D8705D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F0D32-99AE-4318-85EF-EBFA1695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C4650-A71C-4134-83D1-D718FC0F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CF9CD-4122-42FD-B49C-294D967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01E6D-2968-4FD3-8860-ED03B41E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FB6A0-94F6-4825-9882-FA0FF977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B7007-4D9A-4F9B-9EC8-131988C5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1AA2A-46CB-4D11-AB57-02892577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DDC-92EC-4325-BB37-23D39396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B09EC-56AA-4D97-B7A4-9EE784F2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1D471-80D0-49AF-8DBF-4E28C991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77DAE1-8D10-4417-93A4-DC43CACB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31105-C1A6-474B-B5C4-35597F4A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D1EF9-02BB-4BF5-AE76-C71659D6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CB5BF-64AF-4C05-8938-2F50ECBF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D9D1F-7286-46F7-BFFD-DD4C3E19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7826B-30CB-4EEB-8FA2-6234B497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1EB582-3432-424F-9EE0-A10BBC49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7CABD-CF88-47D1-8C11-1506DE79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839-495A-43AD-A934-FC5106D7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C346F-948F-41A7-ACF9-D1A27597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95CE0-BDD0-487E-A0DF-A5F2735F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8DC94-7C52-4466-A905-0C4F74B0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941-FAF1-464D-998F-89B468E9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358-6CDB-496E-A2E9-C08F135B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7B5E-E33F-4C4A-976D-F8CA23C4BEF7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55BB-01EB-4E1B-89A8-60FD99CA94DC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737D-DA11-41FE-B2F6-FA606F83DC8A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2D54-E741-48EA-A31C-590FDC26E14B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D245-40CE-49BD-ADA9-367C26EF6255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53DA-18DA-48AF-9144-B3BFD0D07014}" type="slidenum"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928600" y="1285560"/>
            <a:ext cx="5529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Comic Sans MS"/>
              </a:rPr>
              <a:t>I </a:t>
            </a:r>
            <a:r>
              <a:rPr b="1" lang="hr-HR" sz="4400" spc="-1" strike="noStrike">
                <a:solidFill>
                  <a:srgbClr val="4e5b6f"/>
                </a:solidFill>
                <a:latin typeface="Arial"/>
              </a:rPr>
              <a:t>PROBLEMI</a:t>
            </a:r>
            <a:endParaRPr b="0" lang="en-US" sz="44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555640" y="49417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f0102"/>
                </a:solidFill>
                <a:latin typeface="Arial"/>
              </a:rPr>
              <a:t>Didattica ambientale e protomatema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Mr.sc. Nevia Močini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Fasi di soluzione di un problema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orre il problema in modo corretto, riflettere sulla situazione problema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comporre a poco a poco il problema complesso in una serie di piccole tappe successive; ad ogni tappa formulare con chiarezza l’obiettivo usando il linguaggio verbale o i simbo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icerca delle soluzio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ndividuare la soluzione migliore:  documentare con fotografie, disegni, schem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e5b6f"/>
                </a:solidFill>
                <a:latin typeface="Comic Sans MS"/>
              </a:rPr>
              <a:t>La rappresentazione dei problemi</a:t>
            </a:r>
            <a:endParaRPr b="0" lang="en-US" sz="2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mportante per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ermette di precisare le id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ivelli di rappresentazion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Rappresentazione concret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 es. Unirsi in gruppi secondo determinati criteri; mettersi seduti attorno ai tavolini; mettersi in fila per due, ecc. Lavoro con oggetti: raggruppare mediante il supporto usato: es. tavolo, cesto, scatola, barattolo, cerchio, cordicella, nastro, ec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Rappresentazione semiconcret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 rappresentare il plastico della sezione o della scuola usando uno scatolone di cartone e altre scatole che rappresentano gli arredi; oppure il plastico di un paesagg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Rappresentazione simbolic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 disegno, schema, grafici, frecce; lasciare i bambini ad arrivare gradualmente all’uso del simbo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Ruolo della maestra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apere bene gli obiettivi da raggiung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noscere a fondo le nozioni matematiche alla base dei problemi affrontati da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on insegnare concetti sbaglia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iutare i bambini a chiarire la situazione problema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on procedere troppo in fretta senza dare il tempo sufficiente per risolvere con calma le difficol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individuate o pos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asciare ai bambini il tempo per maturare e arrivare al simbolo gradua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I problemi secondo le et</a:t>
            </a: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à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785988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on esistono contenuti specifici. E’ importante favorire lo sviluppo psicologico del bambino e la sua capa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i simbolizzazi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Bambini di tre ann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blemi che portano alla scoperta della classific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’uso del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ì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e del no per definire le colle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blemi di corrisponden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blemi vissuti di scoperta del tempo e dello spaz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blemi di ritmi alternati (visuali, auditiv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umerazioni spontan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Tutti i problemi vanno risolti con l’azion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Bambini di quattro anni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iprendere tutti i problemi g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sollev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4600" indent="-2646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ccompagnare i problemi da una graduale simbolizzazione (soprattutto disegn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4600" indent="-2646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ccentuare la scoperta dello spazio e del tem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4600" indent="-2646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nventare le regole dei gioch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4600" indent="-2646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odificare i problemi (spiegarli verbalment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’azione e il linguaggio devono precedere la simbolizzazion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Bambini di cinque - sei anni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28036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accesso al simbol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ricette di cucina, messaggi, codificazione e decodificazione di poesie, danze, giochi, ec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logic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regole di giochi, composizione della figura umana, vero – falso, no – 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ì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, nozione di ident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ersona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classificazion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es. calzature, libri della biblioteca da riordinare, i fiori da inserire nei vasi, ec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relazion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alto di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lungo di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esante di, appartiene/non appartiene a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fratello / sorella di, ec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Continuazione – 5-6 anni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0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corrispondenz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frutta per merenda e bambini, fette di torta e bambini, coppie di bambini per la danza, bambini e attrezzi ginnici (clavette, palle, corde, cerchi…), bambini e mezzi didattici (matite, schede, colori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strutturazione dello spazi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schema corporeo, scoperta dello spazio concreto dell’aula, rappresentazione di ambienti, di un percorso, di un gioco, di una danza, problemi di misura dello spazio, di orientamento nello spazi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alternanze ritmat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decorazioni, collane, ghirlande, bambini nella danza, decorazione di cornici, tappezzerie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oblemi di strutturazione del temp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riordinare le vignette di una storia, le tappe di un gioco, le tappe di una gita, le fasi di realizzazione di una ricet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Arial"/>
              </a:rPr>
              <a:t>Definizioni del concetto di problema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tuazione di conflitto tra soggetto e ogget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tuazione di squilibrio fra 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c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e 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che si deside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stacolo che va eliminato per giungere allo scop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Impegno ulteriore per raggiungere obiettivi superio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Criterio per riconoscere la capac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crea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Comic Sans MS"/>
              </a:rPr>
              <a:t>Intervento pedagogico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timolare lo sviluppo della sensibil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ai problem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tere il bambino in una situazione problema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endere chiaro il problema senza influire sulle possibili soluzio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icerca delle soluzio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Comic Sans MS"/>
              </a:rPr>
              <a:t>Questioni da risolvere: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ituazioni problematiche spontanee e provocate: far attenzione a non cadere nell’artificio; necessario intuito psicologico e preparazione pedagogico-didat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Qual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, quant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e vari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di situazioni e materiali da proporre ai bambini: scegliere tra un unico tipo di at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controllo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facile) o tanti tipi (maggiore possibil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i soddisfare i bisogni e gli interessi dei bambin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n il materiale unic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necessario offrire tanti strumenti diversi per la manipolazione e una grande vari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i materiali e occupa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Comic Sans MS"/>
              </a:rPr>
              <a:t>Ricerca delle soluzioni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77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eazioni diverse dei bambini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Intuitiv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– ha l’illuminazione e trova la soluzione senza tuttavia sapere per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Razionale –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nalizza con calma tutte le possibil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Confusionari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intempes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Metodic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lento – ha bisogno di molto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Rinunciatari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– aspetta le soluzioni degli alt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ssibili situazioni nella ricerca delle soluzion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Tentativi confu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potesi irrea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ercezione non oggettiva del probl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appresentazione del problema con schemi grafic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Comic Sans MS"/>
              </a:rPr>
              <a:t>Livelli di soluzione del problema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0755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º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livello – manipolazione degli ogget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Funzioni: serve per conoscere il materiale, sviluppare la motrici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fine della mano, la coordinazione oculo-manuale, la soddisfazione del bisogno di divertir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º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livello – mettere gli oggetti in relazione tra lo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Funzioni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rricchisce l’interazione dei bambini con l’amb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ermette di modificare la real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circost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iuta il bambino a controllare lo spazio che lo circon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timola ad usare strumenti (uso insolito per gli adult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ffina i movimenti del co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ichiede di agire in base ad un’idea, un progetto inizi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Comic Sans MS"/>
              </a:rPr>
              <a:t>Situazioni problematiche provocate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570800" cy="51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 problemi didatticamente preparat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Devono corrisponder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alle capa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ei bambini, al loro bagaglio esperienziale, ai loro interessi e alle motivazioni, al loro sviluppo cogni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Esempi di situazioni provocat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 chiodo conficcato nel polistirolo – se disturba cosa facciamo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me  facciamo a riempire di acqua le provette usando un tubo di gomma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me si fa a trasportare un oggetto di ferro da una scatola all’altra senza toccarlo con le man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Tali richieste devono essere basate su esperienze precedenti de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Arial"/>
              </a:rPr>
              <a:t>Originalit</a:t>
            </a:r>
            <a:r>
              <a:rPr b="0" lang="en-US" sz="3000" spc="-1" strike="noStrike">
                <a:solidFill>
                  <a:srgbClr val="4e5b6f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4e5b6f"/>
                </a:solidFill>
                <a:latin typeface="Arial"/>
                <a:ea typeface="Arial"/>
              </a:rPr>
              <a:t> delle soluzioni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oluzioni originali dei bambini – indice di crea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e original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rima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 comportamenti di routine diventano dominanti per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economici ed efficac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ell’at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ei bambini si alternano momenti di ordine e crea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a momenti di disordine e confus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a ricerca della soluzione del problema va lasciata ai bambini sotto la guida della maestra che deve aiutarli a scoprire l’errore e a superar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Trovare la soluzione: effetti sulla psiche </a:t>
            </a:r>
            <a:br>
              <a:rPr sz="3000"/>
            </a:b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dei bambini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Trovare la soluzione soddisfacente ad un problem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causa d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iacere ed entusias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afforzamento dell’immagine positiva di se stes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oddisfazione e motivazione a continuare con nuove sf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Miglioramento e ristrutturazione delle strutture cogni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viluppo della fantasia e della crea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timolo alla ricerca delle cause di fenomeni va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nclusione: offrire numerose occasioni al bambino per ricercare, scoprire, esprimere le cose fat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22:41:28Z</dcterms:created>
  <dc:creator>pc</dc:creator>
  <dc:description/>
  <dc:language>en-US</dc:language>
  <cp:lastModifiedBy>Miro</cp:lastModifiedBy>
  <dcterms:modified xsi:type="dcterms:W3CDTF">2009-06-19T09:33:47Z</dcterms:modified>
  <cp:revision>29</cp:revision>
  <dc:subject/>
  <dc:title>I METODI VISIVI</dc:title>
</cp:coreProperties>
</file>