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C7EC-C001-479A-B622-5014749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0193-EFB8-4C29-A4E4-9FBED8A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FA59-0BC4-4D4A-BACE-0C632FAA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E04C-9FC6-4B64-B5D5-F04B94E1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8311-AD4F-4EF9-8F0D-C11F9616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78D2-DD7C-46D5-A820-150C9645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F7C1-D4D5-426B-9E58-1E65053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EDFF-6BFF-4EBB-998F-C9B7F79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99E-8972-4064-AF80-16384139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C0B8-2F3C-4075-91CC-0C9C9F5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EC14-EB7A-4734-9478-A7121D6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D2F4-7DC0-4FC0-9676-8B0F7AD5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326-5D42-456F-B586-1801D2B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0D0-30F4-4C51-A87A-FDA8405A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3D0-2D6B-44BB-9B8A-D4591B0F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5E8-4D1C-4234-AA2E-4BD910D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25E4-AB71-43CF-8E2C-FE940066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6179-D78C-438D-A3C0-5D9A07D6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DCE8-0F0A-4A13-B311-AD085607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4827-8FC2-4DB1-A720-8CC084D0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51E9-EA80-4443-8438-F48BF73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DC0D-8FB5-4CA0-9477-9E0B06A9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3D18-9B78-408C-A95E-47A4C90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E00A-04E9-4F0F-A8D0-21309E4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8ED0-3A21-49AF-B9D8-D16D2825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389A-CEB0-4D18-81D2-70A103A3B6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dfdef6"/>
                </a:solidFill>
                <a:latin typeface="Arial"/>
              </a:rPr>
              <a:t>Organizzazione funzionale dello spazio</a:t>
            </a:r>
            <a:br>
              <a:rPr sz="4800"/>
            </a:br>
            <a:r>
              <a:rPr b="0" lang="hr-HR" sz="4800" spc="-1" strike="noStrike">
                <a:solidFill>
                  <a:srgbClr val="dfdef6"/>
                </a:solidFill>
                <a:latin typeface="Arial"/>
              </a:rPr>
              <a:t>nella scuola d’infanzi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dattica dell’educazione ambientale e protomatema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r.sc. Nevia Močini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5. Lo spazio aula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Possibili scelte organizzativ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rganizzazione classica dell’aula in uno spazio unico per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front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boratori – centri privilegiati di esperienza e di sviluppo dei bambini in piccoli grup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i laboratori si svolgono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pensate e preparate con c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l laboratorio permette di curiosare, provare e riprovare, concentrarsi, esplorare, cercare soluzioni, agire con calma e riflettere su 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che si sta facendo, divertir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ia i processi e non i risultati, i metodi e non i contenu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e scelte organizzative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dello spazio au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vono tener con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dimensioni di sviluppo de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sfere di esperi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lle modal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di procedere nella soluzione di probl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ei significati e delle funzioni insiti nello spazio per una sua efficace azione educ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L’allestimento degli angol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’angolo logico-matema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ecessari materiali strutturati e non strutturati che permettono di operare con grandezze, misure, quant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, relazioni spaziali, ec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Materiali occorren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Materiali di recupero (foglie, conchiglie, frutta secca, ec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Sussidi strutturati: carte, domino, corpi e forme geometr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Bastoncini, gettoni, fiche per la numer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estini con materiali come pasta, riso, bott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ggetti e immagini per riconoscere le dimens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Schede e quaderni operativi per attiv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logiche e matemat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Percorsi e labirinti per le relazioni topologi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’angolo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“</a:t>
            </a: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esplorazione e sperimentazione</a:t>
            </a:r>
            <a:r>
              <a:rPr b="0" lang="hr-HR" sz="4000" spc="-1" strike="noStrike">
                <a:solidFill>
                  <a:srgbClr val="dfdef6"/>
                </a:solidFill>
                <a:latin typeface="Arial"/>
                <a:ea typeface="Arial"/>
              </a:rPr>
              <a:t> “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lementi necessari per l’angolo della natura viv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ante in vaso da curare e su cui constatare il fenomeno della cresc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errario con piante e animalett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naffiatoi, terra, vasi, bastoncini per reggere le piante, filo, corda, concimi v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ano d’appoggio o mensola per le pi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emi (fagioli, piselli, grano, granoturco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iccoli animali da curare: tartarughe, pesci rossi, criceti, uccellini, ec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L’angolo “esplorazione e sperimentazione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ontinu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eperti naturalistici (sassi, minerali, foglie, fiori essicati, erbe, semi) da ordinare e classif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lbi illustrati di animali e pi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ccolte di farfalle, insetti, conchiglie, nidi di uccell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artelloni murali temat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nti d’ingrand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trumenti per la misurazione del tempo, del peso, della lunghezza, del volume, della tempera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Radici del laborato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ohn Dewey - l’apprendimento deve collocarsi sul piano della ricerca, dell’azione e dell’espl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Kilpatrick - inventore del metodo dei progetti (progetto del produttore; progetto del consumatore, progetto del problem-solving, progetto dell’addestramen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orelle Agazzi – le “cianfrusaglie” per soddisfare il bisogno di esplorazione e di scoperta, e mantenere un costante riferimento al mondo es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aria Montessori – il bambino protagonista della propria educazione, si mette alla prova, saggia le proprie potenzia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I punti qualit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dfdef6"/>
                </a:solidFill>
                <a:latin typeface="Arial"/>
                <a:ea typeface="Arial"/>
              </a:rPr>
              <a:t> del laborator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idattico attrezzato per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specifi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Eccellente analizzatore dei bisogni espressi dai bamb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Risveglia bisogni  fortemente deprivati: comunicazione, socializzazione, esplorazione, costruzione, fantasia, avventura, movimento, fare da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ede di produzione di c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truttura didattica adatta a praticare un metodo scienti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 livelli metodologici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del laborato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1. livello – aspetto esteriore: spazi, arredi, materiali a disposizione, tecni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. livello – percorsi che vengono attivati per la realizzazione di un obiettivo – scelte metodologiche dominanti, strategie e metodi didatt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3. livello – attiv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creativa,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 linguaggi usati, il tipo di coinvolgimento dei bambini, le motivazioni che sottendono le scelte effettuate, il raccordo con il cont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1. livello: il laboratorio come cassetta degli attrezz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boratorio – centro polivalente di ris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 risorse materiali: pennelli, martelli, strumenti musicali, raccolte di oggetti, immagini, libri, fume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e tecniche: - sequenza di azioni organizzate per la realizzazione di un prodotto. Tecniche operative o pratiche e tecniche di tipo astra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Forme possibili: magazzino, banco di lavoro (falegname, fioraio, calzolaio), archivio -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di classificazione e ordinamento per dimensione, funzione, genere, autore,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2. Il laboratorio come spazio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 di progettazion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ipi di percorsi didattic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 palestra – esercitazione delle proprie abil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La bottega dell’apprendista – lavoro guidato in vista di un obiettivo preciso senza perdere di vista la ricerca di soluzioni nuove, cre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l museo – oggetti esposti secondo regole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L’imprinting culturale – immersione nel proprio contesto culturale e nei suoi tipici modi di 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Importanza dello spazio 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eve essere un ambiente finalizzato, ma non artific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i carica di risonanze e connotazioni sogget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vitare continue destruttur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vitare tipologie di organizzazioni standardizz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e e arredi predisposti al fine di facilitare l’incontro con le persone, gli oggetti e l’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uolo di promozione e sviluppo delle competen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i vita e di cultura che favorisce l’apprendimento e le attiv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relaz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bambini_lettura"/>
          <p:cNvPicPr/>
          <p:nvPr/>
        </p:nvPicPr>
        <p:blipFill>
          <a:blip r:embed="rId8"/>
          <a:stretch/>
        </p:blipFill>
        <p:spPr>
          <a:xfrm>
            <a:off x="6372360" y="26028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3. Il laboratorio come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bottega dell’art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come corso di formazione, come addestramento per utilizzare nel miglior modo le riso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ipolog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gioco – l’impegno nel fa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anche divert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’atelier creativo – sede e regno della fant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di id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l laboratorio di proget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Funzioni dello spazio </a:t>
            </a:r>
            <a:br>
              <a:rPr sz="4000"/>
            </a:b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viluppo delle capac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comprens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organizzazione del pens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espressione di idee e sentim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stare con gli alt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el senso di sicurezza e autos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di accettare le regole di v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fdef6"/>
                </a:solidFill>
                <a:latin typeface="Arial"/>
              </a:rPr>
              <a:t>Caratteristiche dello spazio organizzat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oporzionat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lle capac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motorie, operative, mentali del bambino per permettergli di padroneggiarlo e trovarsi a proprio ag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Ordinato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er offrirgli punti di riferimento e rassicurarlo sul piano emo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almo e armonios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le esperienze e rafforzare la fiducia in se st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urato nei particolari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il senso dell’ordine e il senso este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Funzional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er aiutarlo a capire le funzioni molteplici degli arredi, degli angoli, dei materiali didatt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Flessibil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– possibili interventi e modificaz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Differenziat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rispondere alle diverse esigenze dei bamb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Comunicativ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– per favorire le relazioni interpersonali e la comunic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L’allestimento degli spaz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L’atrio per la comuni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pazio della presentazione, l’identikit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ffre una visione sintetica di quello che succede all’interno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tilizza le pareti o le bacheche per informare e documentare i visitatori sul lavoro che vi si svol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ggiunge alle informazioni elementi accoglienti e invitanti (piante verdi, elementi stagionali, manifesti per feste e ricorrenze, pitture alle pareti, cartelloni piacevoli, ec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ostre dei lavori dei bamb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2. I corrido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lteriore spazio di presentazione della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lle pareti in alto inserire lavori de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 basso panche e armadietti per le scar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3. I servizi igienic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omunicanti con la se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Contenenti tutto l’occorrente per l’igiene personale di ciascun bambino (spazzolino, carta per asciugare le mani, spazzole o pettini, ec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ggetti per attiv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 didattiche (contenitori vari per i giochi con l’acqua, grembiuli in plasti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Spazzolone e straccio per pul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4. Il cortile o altri spazi all’aper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ffre ai bambini l’opportun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d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perimentare il contatto con la natura e rafforzare la propria auton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ntegrare le esperienze vissute all’interno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nteragire con i compagni in un ambiente dive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acquisire padronanza dei movimenti e migliorare la capac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 di coordinamento motorio degli ar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coprire l’ambiente natur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fdef6"/>
                </a:solidFill>
                <a:latin typeface="Arial"/>
              </a:rPr>
              <a:t>Il cort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’ opportuno suddividerlo in zo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l mov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i percor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ell’orto e del giardinagg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i manipol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na di sperimentazione e ricer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bambino"/>
          <p:cNvPicPr/>
          <p:nvPr/>
        </p:nvPicPr>
        <p:blipFill>
          <a:blip r:embed="rId6"/>
          <a:stretch/>
        </p:blipFill>
        <p:spPr>
          <a:xfrm>
            <a:off x="6786720" y="2428920"/>
            <a:ext cx="685800" cy="1209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giardino"/>
          <p:cNvPicPr/>
          <p:nvPr/>
        </p:nvPicPr>
        <p:blipFill>
          <a:blip r:embed="rId7"/>
          <a:stretch/>
        </p:blipFill>
        <p:spPr>
          <a:xfrm>
            <a:off x="4572000" y="514368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violaciocca"/>
          <p:cNvPicPr/>
          <p:nvPr/>
        </p:nvPicPr>
        <p:blipFill>
          <a:blip r:embed="rId8"/>
          <a:stretch/>
        </p:blipFill>
        <p:spPr>
          <a:xfrm>
            <a:off x="7286760" y="3929040"/>
            <a:ext cx="1309680" cy="1749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girotondo"/>
          <p:cNvPicPr/>
          <p:nvPr/>
        </p:nvPicPr>
        <p:blipFill>
          <a:blip r:embed="rId9"/>
          <a:stretch/>
        </p:blipFill>
        <p:spPr>
          <a:xfrm>
            <a:off x="4929120" y="207180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4:33:45Z</dcterms:created>
  <dc:creator>miro</dc:creator>
  <dc:description/>
  <dc:language>en-US</dc:language>
  <cp:lastModifiedBy>Miro</cp:lastModifiedBy>
  <dcterms:modified xsi:type="dcterms:W3CDTF">2014-01-07T18:39:29Z</dcterms:modified>
  <cp:revision>41</cp:revision>
  <dc:subject/>
  <dc:title>Organizzazione funzionale dello spazio</dc:title>
</cp:coreProperties>
</file>