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4.jpeg" ContentType="image/jpeg"/>
  <Override PartName="/ppt/media/image8.png" ContentType="image/png"/>
  <Override PartName="/ppt/media/image19.jpeg" ContentType="image/jpeg"/>
  <Override PartName="/ppt/media/image2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33F9-95D5-4D2D-AFB6-BD0B78423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704B-7354-4C21-BB3F-3C1D9C88D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C15-B246-4FD6-A9F3-6A14DAEC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5F2-9205-4E19-8F52-C76B1435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04B-978E-473C-9390-317744E1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721-A548-41EC-B7B5-C72AA636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DD64-C1B2-4C53-AFB2-0B8ED835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7B6A-A41B-4D59-9BB3-5611BADF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80F1-B996-4E03-9C8D-E9FD50E1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D6B3-4C1F-47C4-8E9C-823511B7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49BC-9B80-420B-AA92-51C6D7F6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58DD-AC29-4E07-9146-556C3459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76BC-29CB-496C-ADCF-6E26716E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110-7766-4B51-86DD-347FCF01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99BB-B6B8-494C-9114-1730F8B2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7125-CC4F-425D-ABA5-F1AB9CCD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6EFD-0186-408E-B153-8097CE83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0028-AE16-4C03-B4EA-654695D6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0153-DE4D-46B3-B0EF-70AFB1F5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C676A-53FB-4DEC-99BA-69B6AAE3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143F6-E152-4BBA-960D-2D9710C0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8814E-34AE-41DA-A539-D0C1D183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423AA-C9E4-43E7-A7E0-F736E2A7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F6AEA-DF3D-4F81-95C5-EF35A019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D2A-01D8-4CCF-B449-D2D4FDC3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2AAA-D74E-4244-8F8B-7E28D23D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EEF30-BA60-413D-A40D-9E4AD55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31E27-A620-422D-8D37-EF62087A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5CA9A-18CC-4848-8181-851F79C4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E5F3A-6B0C-4C49-823D-C18FACA0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2CE30-A477-4CFA-9DA9-B51FACC2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DB1B1-40DC-4AC7-A095-113CE8E1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35F93-FDC5-4239-ACBC-596C43D3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95AA6-142C-4525-894C-572809C7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9B9FC-24CB-4770-9872-DFB47102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FEF-EC7A-4204-BBC5-4BA1D29F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4EBA9-33DF-4CA6-A7F5-6D1C1909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B98BF-1BBB-4748-B5DF-EAE9245E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7D82D-2A3A-467E-A863-785B3C28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ABD7E-2F4D-4005-AB69-797B4A96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4B99B-BCB3-41C1-A44D-972D5FC3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09E3E-D870-412E-91FC-5918E4B8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F0EAF-F665-456B-A989-4F8A7F64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03672-8543-4B2E-856D-EFA67691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025F8-50B9-4422-9514-CEA65694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4C3-EFC8-4860-8E53-4EBC397B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D10-B932-4221-A425-E49C6183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F7F0-FD04-4AA2-8E2D-5B71CC26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CED-BDCE-4829-A121-E3A3B73D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D32-FEC9-4B8D-B99D-A78C11A5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BCA6-C503-48F1-B6DC-C65E3D3C0911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1FA1-C69B-48D5-87A5-E4ED0A1DE6C1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A28D-9D63-4385-8A52-2BBE1086D1E2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8186-A242-4C0C-9A9A-19EECE4F3E93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420840" y="1243080"/>
            <a:ext cx="8454960" cy="2012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mr.sc. Nevia Močini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Altri argoment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i mezzi di riscaldamento usati dalle famiglie dei bambin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i tipi di case in cui vivono i bambini (es. palazzo, villa, grattacielo, condominio, ecc.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gli alimenti preferiti (es. minestra, pasta, pizza, brodo, carne, patatine, ecc.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i lavori di mamma e pap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ecc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Istogramma orizzonta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1643040"/>
          <a:ext cx="8229600" cy="4851360"/>
        </p:xfrm>
        <a:graphic>
          <a:graphicData uri="http://schemas.openxmlformats.org/drawingml/2006/table">
            <a:tbl>
              <a:tblPr/>
              <a:tblGrid>
                <a:gridCol w="1257480"/>
                <a:gridCol w="774360"/>
                <a:gridCol w="774720"/>
                <a:gridCol w="774720"/>
                <a:gridCol w="774720"/>
                <a:gridCol w="774720"/>
                <a:gridCol w="774720"/>
                <a:gridCol w="774720"/>
                <a:gridCol w="774720"/>
                <a:gridCol w="774720"/>
              </a:tblGrid>
              <a:tr h="12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Picture 4" descr="arancia.jpg"/>
          <p:cNvPicPr/>
          <p:nvPr/>
        </p:nvPicPr>
        <p:blipFill>
          <a:blip r:embed="rId1"/>
          <a:srcRect l="7937" t="3968" r="4749" b="8718"/>
          <a:stretch/>
        </p:blipFill>
        <p:spPr>
          <a:xfrm>
            <a:off x="500040" y="171468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limone.jpg"/>
          <p:cNvPicPr/>
          <p:nvPr/>
        </p:nvPicPr>
        <p:blipFill>
          <a:blip r:embed="rId2"/>
          <a:stretch/>
        </p:blipFill>
        <p:spPr>
          <a:xfrm>
            <a:off x="571680" y="3000240"/>
            <a:ext cx="1133280" cy="962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mandarino.jpg"/>
          <p:cNvPicPr/>
          <p:nvPr/>
        </p:nvPicPr>
        <p:blipFill>
          <a:blip r:embed="rId3"/>
          <a:srcRect l="0" t="15630" r="0" b="0"/>
          <a:stretch/>
        </p:blipFill>
        <p:spPr>
          <a:xfrm>
            <a:off x="571680" y="4286160"/>
            <a:ext cx="1066680" cy="900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pompelmo.jpg"/>
          <p:cNvPicPr/>
          <p:nvPr/>
        </p:nvPicPr>
        <p:blipFill>
          <a:blip r:embed="rId4"/>
          <a:srcRect l="12100" t="6484" r="9265" b="9482"/>
          <a:stretch/>
        </p:blipFill>
        <p:spPr>
          <a:xfrm>
            <a:off x="500040" y="535788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La tabella a doppia entra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tabella a doppia entrata è costituita da un reticolo ortogonale, formato a sua volta da quadrati sistemati in righe e colonne perpendicolari tra di lo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 si inseriscono i dati di due tipi di categorie, nella prima colonna e nella prima riga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’uso del reticolo ortogonale è utile per preparare i bambini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all’orientamento sulla carta topografic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sulla carta geografic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 nel grafico delle coordinate cartesia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825804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4617b"/>
                </a:solidFill>
                <a:latin typeface="Calibri"/>
              </a:rPr>
              <a:t>Esempio di tabella a doppia entrat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Content Placeholder 3" descr="tabella-grafico1.jpg"/>
          <p:cNvPicPr/>
          <p:nvPr/>
        </p:nvPicPr>
        <p:blipFill>
          <a:blip r:embed="rId1"/>
          <a:stretch/>
        </p:blipFill>
        <p:spPr>
          <a:xfrm>
            <a:off x="2798640" y="1643040"/>
            <a:ext cx="379116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0722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4617b"/>
                </a:solidFill>
                <a:latin typeface="Calibri"/>
              </a:rPr>
              <a:t>Esempio di tabella a doppia entrata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935000"/>
          <a:ext cx="7829640" cy="4754880"/>
        </p:xfrm>
        <a:graphic>
          <a:graphicData uri="http://schemas.openxmlformats.org/drawingml/2006/table">
            <a:tbl>
              <a:tblPr/>
              <a:tblGrid>
                <a:gridCol w="1305000"/>
                <a:gridCol w="1305000"/>
                <a:gridCol w="1304640"/>
                <a:gridCol w="1305000"/>
                <a:gridCol w="1305000"/>
                <a:gridCol w="130500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4" descr="cane.jpg"/>
          <p:cNvPicPr/>
          <p:nvPr/>
        </p:nvPicPr>
        <p:blipFill>
          <a:blip r:embed="rId1"/>
          <a:stretch/>
        </p:blipFill>
        <p:spPr>
          <a:xfrm>
            <a:off x="7286760" y="20001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gatti.jpg"/>
          <p:cNvPicPr/>
          <p:nvPr/>
        </p:nvPicPr>
        <p:blipFill>
          <a:blip r:embed="rId2"/>
          <a:stretch/>
        </p:blipFill>
        <p:spPr>
          <a:xfrm>
            <a:off x="2071800" y="2000160"/>
            <a:ext cx="815760" cy="61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coniglio1.bmp"/>
          <p:cNvPicPr/>
          <p:nvPr/>
        </p:nvPicPr>
        <p:blipFill>
          <a:blip r:embed="rId3"/>
          <a:stretch/>
        </p:blipFill>
        <p:spPr>
          <a:xfrm>
            <a:off x="3357720" y="2000160"/>
            <a:ext cx="768240" cy="576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porcellino-India1.bmp"/>
          <p:cNvPicPr/>
          <p:nvPr/>
        </p:nvPicPr>
        <p:blipFill>
          <a:blip r:embed="rId4"/>
          <a:srcRect l="21655" t="16379" r="3326" b="5788"/>
          <a:stretch/>
        </p:blipFill>
        <p:spPr>
          <a:xfrm>
            <a:off x="4643280" y="2000160"/>
            <a:ext cx="700200" cy="684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tartaruga.jpg"/>
          <p:cNvPicPr/>
          <p:nvPr/>
        </p:nvPicPr>
        <p:blipFill>
          <a:blip r:embed="rId5"/>
          <a:stretch/>
        </p:blipFill>
        <p:spPr>
          <a:xfrm>
            <a:off x="5857920" y="200016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Calimero 1.jpg"/>
          <p:cNvPicPr/>
          <p:nvPr/>
        </p:nvPicPr>
        <p:blipFill>
          <a:blip r:embed="rId6"/>
          <a:stretch/>
        </p:blipFill>
        <p:spPr>
          <a:xfrm>
            <a:off x="857160" y="2786040"/>
            <a:ext cx="550800" cy="612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ape.bmp"/>
          <p:cNvPicPr/>
          <p:nvPr/>
        </p:nvPicPr>
        <p:blipFill>
          <a:blip r:embed="rId7"/>
          <a:stretch/>
        </p:blipFill>
        <p:spPr>
          <a:xfrm>
            <a:off x="857160" y="3429000"/>
            <a:ext cx="630360" cy="539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cardellino.bmp"/>
          <p:cNvPicPr/>
          <p:nvPr/>
        </p:nvPicPr>
        <p:blipFill>
          <a:blip r:embed="rId8"/>
          <a:stretch/>
        </p:blipFill>
        <p:spPr>
          <a:xfrm>
            <a:off x="857160" y="4143240"/>
            <a:ext cx="652680" cy="503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coccinella1.bmp"/>
          <p:cNvPicPr/>
          <p:nvPr/>
        </p:nvPicPr>
        <p:blipFill>
          <a:blip r:embed="rId9"/>
          <a:stretch/>
        </p:blipFill>
        <p:spPr>
          <a:xfrm>
            <a:off x="857160" y="4786200"/>
            <a:ext cx="684360" cy="576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giglio.bmp"/>
          <p:cNvPicPr/>
          <p:nvPr/>
        </p:nvPicPr>
        <p:blipFill>
          <a:blip r:embed="rId10"/>
          <a:stretch/>
        </p:blipFill>
        <p:spPr>
          <a:xfrm>
            <a:off x="857160" y="5429160"/>
            <a:ext cx="627120" cy="540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margherita.bmp"/>
          <p:cNvPicPr/>
          <p:nvPr/>
        </p:nvPicPr>
        <p:blipFill>
          <a:blip r:embed="rId11"/>
          <a:stretch/>
        </p:blipFill>
        <p:spPr>
          <a:xfrm>
            <a:off x="857160" y="6072120"/>
            <a:ext cx="75564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4617b"/>
                </a:solidFill>
                <a:latin typeface="Calibri"/>
              </a:rPr>
              <a:t>E</a:t>
            </a:r>
            <a:r>
              <a:rPr b="0" lang="it-IT" sz="4400" spc="-1" strike="noStrike">
                <a:solidFill>
                  <a:srgbClr val="04617b"/>
                </a:solidFill>
                <a:latin typeface="Calibri"/>
              </a:rPr>
              <a:t>sempi d’uso delle tabelle a doppia entrat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071440"/>
            <a:ext cx="82296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la tabella con gli ambienti della cas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la tabella degli aliment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la tabella dei fiori (le preferenze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i tipi di case in cui vivono i bambini (es. palazzo, villa, grattacielo, condominio, ecc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gli alimenti preferiti (es. minestra, pasta, pizza, brodo, carne, patatine, ecc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4617b"/>
                </a:solidFill>
                <a:latin typeface="Calibri"/>
              </a:rPr>
              <a:t>Materiale occorrente per le attività descritte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785600"/>
            <a:ext cx="84009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scatole di fiammiferi, quadrati, cerchi di carta autoadesiv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fogli di carta a quadratini per disegnare gli istogramm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un grande reticolo ortogonale per esercizi di orientamento su di ess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giochi didattici che prevedono l’uso del reticolo ortogonale (es. memory, battaglia navale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2600" y="928800"/>
            <a:ext cx="764388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04617b"/>
                </a:solidFill>
                <a:latin typeface="Calibri"/>
              </a:rPr>
              <a:t>I grafici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8568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Il grafico è un disegno che rappresenta il rapporto tra due o più grandezze numerich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Richiede il </a:t>
            </a: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passaggio dall’esperienza concreta</a:t>
            </a: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 alla rappresentazione astratt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 bambini possono usare </a:t>
            </a: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i grafici d</a:t>
            </a: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ai cinque anni in poi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Gli istogramm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43040"/>
            <a:ext cx="8329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Si possono 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usare gli istogrammi per rappresentare i risultati di indagini svolte in vari campi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nell’osservazione della natura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negli esperimenti di scienze naturali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nei questionari proposti ai bambini del gruppo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nelle misurazioni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nell’analisi del traffico, 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ecc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Preparativi precedent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Prima di disegnare il grafico bisogna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rappresentare il numero degli animali domestici posseduti dai bambini usando scatole di fiammiferi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oppure 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usando 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carte con le immagini degli animali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passare poi alla rappresentazione c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 rettangoli colorati su un foglio a quadratini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Ogni colonna </a:t>
            </a: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nstantia"/>
              </a:rPr>
              <a:t>va costruita dalla base in su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Istogramma degli animali da compagn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935000"/>
          <a:ext cx="8229600" cy="45658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ss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4" descr="cane.jpg"/>
          <p:cNvPicPr/>
          <p:nvPr/>
        </p:nvPicPr>
        <p:blipFill>
          <a:blip r:embed="rId1"/>
          <a:stretch/>
        </p:blipFill>
        <p:spPr>
          <a:xfrm>
            <a:off x="714240" y="5357880"/>
            <a:ext cx="1105200" cy="1104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gattino.bmp"/>
          <p:cNvPicPr/>
          <p:nvPr/>
        </p:nvPicPr>
        <p:blipFill>
          <a:blip r:embed="rId2"/>
          <a:srcRect l="14378" t="0" r="23755" b="0"/>
          <a:stretch/>
        </p:blipFill>
        <p:spPr>
          <a:xfrm>
            <a:off x="2428920" y="5286240"/>
            <a:ext cx="996840" cy="1187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oniglio.jpg"/>
          <p:cNvPicPr/>
          <p:nvPr/>
        </p:nvPicPr>
        <p:blipFill>
          <a:blip r:embed="rId3"/>
          <a:stretch/>
        </p:blipFill>
        <p:spPr>
          <a:xfrm>
            <a:off x="3929040" y="5357880"/>
            <a:ext cx="1285920" cy="1019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riceti.jpg"/>
          <p:cNvPicPr/>
          <p:nvPr/>
        </p:nvPicPr>
        <p:blipFill>
          <a:blip r:embed="rId4"/>
          <a:stretch/>
        </p:blipFill>
        <p:spPr>
          <a:xfrm>
            <a:off x="5643720" y="5500800"/>
            <a:ext cx="1238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4617b"/>
                </a:solidFill>
                <a:latin typeface="Calibri"/>
              </a:rPr>
              <a:t>Comment</a:t>
            </a:r>
            <a:r>
              <a:rPr b="0" lang="hr-HR" sz="4800" spc="-1" strike="noStrike">
                <a:solidFill>
                  <a:srgbClr val="04617b"/>
                </a:solidFill>
                <a:latin typeface="Calibri"/>
              </a:rPr>
              <a:t>o de</a:t>
            </a:r>
            <a:r>
              <a:rPr b="0" lang="it-IT" sz="4800" spc="-1" strike="noStrike">
                <a:solidFill>
                  <a:srgbClr val="04617b"/>
                </a:solidFill>
                <a:latin typeface="Calibri"/>
              </a:rPr>
              <a:t>i dati rappresentati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Quanti cani hanno in tutto i bambini del gruppo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Qual è l’animale domestico posseduto da più bambini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Quanti bambini possiedono in tutto un animale da compagnia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I bambini possiedono più cani o conigli? Di quanti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Perché ci sono sul grafico più rettangoli che bambini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Quanti sono gli animali do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it-IT" sz="2800" spc="-1" strike="noStrike">
                <a:solidFill>
                  <a:srgbClr val="000000"/>
                </a:solidFill>
                <a:latin typeface="Constantia"/>
              </a:rPr>
              <a:t>estici in tutto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Istogramma degli alber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28840"/>
          <a:ext cx="8229600" cy="54291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LO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GOLA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EC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0" name="Picture 4" descr="alloro.bmp"/>
          <p:cNvPicPr/>
          <p:nvPr/>
        </p:nvPicPr>
        <p:blipFill>
          <a:blip r:embed="rId1"/>
          <a:stretch/>
        </p:blipFill>
        <p:spPr>
          <a:xfrm>
            <a:off x="571680" y="5429160"/>
            <a:ext cx="140940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acero-monte.bmp"/>
          <p:cNvPicPr/>
          <p:nvPr/>
        </p:nvPicPr>
        <p:blipFill>
          <a:blip r:embed="rId2"/>
          <a:stretch/>
        </p:blipFill>
        <p:spPr>
          <a:xfrm>
            <a:off x="2286000" y="5429160"/>
            <a:ext cx="1285920" cy="1019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bagolaro-ramo.bmp"/>
          <p:cNvPicPr/>
          <p:nvPr/>
        </p:nvPicPr>
        <p:blipFill>
          <a:blip r:embed="rId3"/>
          <a:stretch/>
        </p:blipFill>
        <p:spPr>
          <a:xfrm>
            <a:off x="4000680" y="5429160"/>
            <a:ext cx="1245960" cy="1079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leccio-ghiande.bmp"/>
          <p:cNvPicPr/>
          <p:nvPr/>
        </p:nvPicPr>
        <p:blipFill>
          <a:blip r:embed="rId4"/>
          <a:srcRect l="0" t="0" r="6064" b="5104"/>
          <a:stretch/>
        </p:blipFill>
        <p:spPr>
          <a:xfrm>
            <a:off x="5643720" y="5357880"/>
            <a:ext cx="1100160" cy="1152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pino.bmp"/>
          <p:cNvPicPr/>
          <p:nvPr/>
        </p:nvPicPr>
        <p:blipFill>
          <a:blip r:embed="rId5"/>
          <a:stretch/>
        </p:blipFill>
        <p:spPr>
          <a:xfrm>
            <a:off x="7215120" y="5357880"/>
            <a:ext cx="12556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4617b"/>
                </a:solidFill>
                <a:latin typeface="Calibri"/>
              </a:rPr>
              <a:t>Comment</a:t>
            </a:r>
            <a:r>
              <a:rPr b="0" lang="hr-HR" sz="4800" spc="-1" strike="noStrike">
                <a:solidFill>
                  <a:srgbClr val="04617b"/>
                </a:solidFill>
                <a:latin typeface="Calibri"/>
              </a:rPr>
              <a:t>o de</a:t>
            </a:r>
            <a:r>
              <a:rPr b="0" lang="it-IT" sz="4800" spc="-1" strike="noStrike">
                <a:solidFill>
                  <a:srgbClr val="04617b"/>
                </a:solidFill>
                <a:latin typeface="Calibri"/>
              </a:rPr>
              <a:t>i dati rappresentati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Quale albero ha più quadratini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Quale albero ha meno quadratini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Quanti alberi in tutto abbiamo registrato nelle vicinanze della scuola dell’infanzia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Quali alberi perdono le foglie d’inverno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Quali alberi non perdono le foglie d’inverno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Le foglie di quale albero si usano in cucina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4617b"/>
                </a:solidFill>
                <a:latin typeface="Calibri"/>
              </a:rPr>
              <a:t>A</a:t>
            </a:r>
            <a:r>
              <a:rPr b="0" lang="it-IT" sz="4800" spc="-1" strike="noStrike">
                <a:solidFill>
                  <a:srgbClr val="04617b"/>
                </a:solidFill>
                <a:latin typeface="Calibri"/>
              </a:rPr>
              <a:t>rgomenti </a:t>
            </a:r>
            <a:r>
              <a:rPr b="0" lang="hr-HR" sz="4800" spc="-1" strike="noStrike">
                <a:solidFill>
                  <a:srgbClr val="04617b"/>
                </a:solidFill>
                <a:latin typeface="Calibri"/>
              </a:rPr>
              <a:t>da </a:t>
            </a:r>
            <a:r>
              <a:rPr b="0" lang="it-IT" sz="4800" spc="-1" strike="noStrike">
                <a:solidFill>
                  <a:srgbClr val="04617b"/>
                </a:solidFill>
                <a:latin typeface="Calibri"/>
              </a:rPr>
              <a:t>rappresentare con un istogramma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trasmissione televisiva preferita o i programmi preferi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 mesi in cui i bambini sono na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l tempo atmosferico nel mese di magg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 mezzi di trasporto che passano vicino alla scuola dell’infanz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e attività dei bambini al di fuori della scuola dell’infanz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l modo di arrivare a scuo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e misurazioni, ec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8:41:08Z</dcterms:created>
  <dc:creator>Luana Buić</dc:creator>
  <dc:description/>
  <dc:language>en-US</dc:language>
  <cp:lastModifiedBy>Miro</cp:lastModifiedBy>
  <dcterms:modified xsi:type="dcterms:W3CDTF">2010-11-09T20:26:46Z</dcterms:modified>
  <cp:revision>41</cp:revision>
  <dc:subject/>
  <dc:title>Le informazioni più importanti sono:</dc:title>
</cp:coreProperties>
</file>