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E18-38D6-4A29-826D-26003143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2B-4573-4BE1-B090-306CCB66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88E-F307-4855-88E6-85692C42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184-763E-4AC5-8ECF-5D3D987D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171-9A6D-464B-BE57-A3CE2CA6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CC14-61D9-44F4-A7B9-82622F90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98F-21BD-4638-8187-CF9A004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15C-AD9C-4F42-BABB-3E7C31E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E523-A40E-4CFE-9A95-6197423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770-6E4A-4851-888D-953C96A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BF96-B3ED-4623-ACD0-C37C359F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3BE-2DD4-44CC-B67C-50D54F8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3013-EC3A-4C1C-841B-5CD7188D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7682-6B09-4B41-BFCA-8BB46A0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CB0-F99F-4749-98C3-FFD48DC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123-AB45-4B77-97A7-2A1270E5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816C-F7C7-46F5-80FD-83E72D9F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802-6AE5-406B-A845-1F99DD5E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63D-C7FA-415C-BA60-DCA15E96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0F9-9136-437C-8E46-E84F923F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A23-C3F7-4228-A1AC-D6EE615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3A6-5E8B-41EF-8957-C39FD64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00C-2605-406F-A1F4-A4FB079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6DD-9CBF-44E4-BA04-B699DFF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BF78-E2DC-420E-B068-4294BD0DB02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6CE-B9D5-47C3-8982-195F82C2804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Attività topologi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440" y="4051440"/>
            <a:ext cx="629928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idattica dell’educazione ambientale e protomate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9,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heda 9 – logico completamento della scheda 2 (percorso dell’eroe della storia senza suggerimenti di tappa in tappa, ma seguendo la narrazione come filo condutto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heda 10 – ricorda la Caccia al tesoro; uso di codici convenzionali di lettura ben precisi, concordati in preceden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ercorsi ad ostaco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Content Placeholder 3" descr="percorso-ostacoli1.jpg"/>
          <p:cNvPicPr/>
          <p:nvPr/>
        </p:nvPicPr>
        <p:blipFill>
          <a:blip r:embed="rId1"/>
          <a:stretch/>
        </p:blipFill>
        <p:spPr>
          <a:xfrm>
            <a:off x="5000760" y="2071800"/>
            <a:ext cx="3809880" cy="361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percorso-ostacoli.jpg"/>
          <p:cNvPicPr/>
          <p:nvPr/>
        </p:nvPicPr>
        <p:blipFill>
          <a:blip r:embed="rId2"/>
          <a:stretch/>
        </p:blipFill>
        <p:spPr>
          <a:xfrm>
            <a:off x="0" y="2357280"/>
            <a:ext cx="49816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Motivazione dei bambin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gire sugli aspetti emotivo, affettivo, sociale e cognitivo della personalit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involgere operativamente i bambini: progettare assieme a loro il gioco e allestire 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tilizzare il supporto narrativo/ fiabesco o immaginario per contestualizzare il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Il ruolo dell’insegn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sservatore – rileva la presenza o meno delle capacità topologiche nei bamb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rtecipatore – assume le attività in funzione promozionale ed edu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gioco funge sia da strumento di verifica che da materiale idoneo a sviluppare le capacità topologi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Esempio di percorso obblig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Situazione motivante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Seduti in cerchi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apriamo la scatola e scopriamo il delfino Velocino, il personaggio che ci accompagnerà nella nostra avventura e che ci racconta del suo mondo sotto il mare.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opriamo su un cartoncino la parola magica per aprire la porta ed entrare  nel m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13880" y="571680"/>
            <a:ext cx="76964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elocino è un delfino molto curioso che nuota sempre per trovare nuovi amici. Ama  anche cercare gli anemoni di mare che regala sempre alla sua mam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2786040" y="2857680"/>
            <a:ext cx="5761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INGRES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8760" y="1142640"/>
            <a:ext cx="8286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ssiamo la porta che ci condurrà nel mare. Con musica di sottofondo che imita le sonorità del mare e dei delfini. Magicamente diventiamo tutti pesci e con la musica nuotiamo in un grande acquario facciamo la gimcana delle perle e delle onde del mare (si deve portare la propria perla, spingendola solo con i piedi, attraverso un percorso dove le onde sono ostacoli e posizionando degli anemoni di ma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960" y="7920"/>
            <a:ext cx="780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ff"/>
                </a:solidFill>
                <a:latin typeface="Calibri"/>
                <a:ea typeface="Times New Roman"/>
              </a:rPr>
              <a:t>Si legge la parola magica che è M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foto della parola  magica per entrare nel mondo sottomarino: mare!"/>
          <p:cNvPicPr/>
          <p:nvPr/>
        </p:nvPicPr>
        <p:blipFill>
          <a:blip r:embed="rId1"/>
          <a:stretch/>
        </p:blipFill>
        <p:spPr>
          <a:xfrm>
            <a:off x="2143080" y="1928880"/>
            <a:ext cx="470232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i entra dalla porta magica e ci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mmergiamo nel ma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Content Placeholder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14720" y="2071800"/>
            <a:ext cx="5643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ndiamo all'inizio del percorso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gli anemoni di m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Content Placeholder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000160" y="1928880"/>
            <a:ext cx="5857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Tipi di attività topologi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Realizzazione di percors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zione di relazioni spaziali (sopra – sotto, dentro – fuori, vicino – lontano, davanti – dietro, in alto – in basso, su – giù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72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Facciamo il percorso spostando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solo con i piedi una grande per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13880" y="17859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14720" y="200016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Ad ogni ostacolo mettiamo un anemone di ma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071800" y="2143080"/>
            <a:ext cx="564336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Torniamo indietro nel percorso sempre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controllando la perla con i piedi e..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286000" y="2357280"/>
            <a:ext cx="5143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...togliendo gli anemoni di mare messi prim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2428920" y="2000160"/>
            <a:ext cx="50720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rrivati al traguardo infiliamo di nuovo gli anemon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 mare  nel ramo marino, contandol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3" descr="foto dei bambini che fanno il percorso rappresentante &quot;nel mare&quot;"/>
          <p:cNvPicPr/>
          <p:nvPr/>
        </p:nvPicPr>
        <p:blipFill>
          <a:blip r:embed="rId1"/>
          <a:stretch/>
        </p:blipFill>
        <p:spPr>
          <a:xfrm>
            <a:off x="3000240" y="1857240"/>
            <a:ext cx="3643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I percor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Percorsi liberi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( vengono date alcune indicazioni formali: punto di partenza 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 arrivo, limitazioni al percors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Percorsi obbligat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vengono date indicazioni ben precise sulla strada da seguire). Possono essere complicati per l’uso di ostacoli insoliti o perché mettono in forse la padronanza  dell’ambiente del bambino o la sua sicurezz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Gli ostaco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Ostacoli natural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 es. i muri, le porte e tutto ciò che rientra nell’ambiente come oggetto fisso e stab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cc"/>
                </a:solidFill>
                <a:latin typeface="Comic Sans MS"/>
              </a:rPr>
              <a:t>Ostacoli artificiali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: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sono fissati a piacere dall’arbitro del gioco (la maestra o un gruppo di bambini). Nei percorsi liberi – si tratta di zone proibite, più o meno vaste. Nei percorsi obbligati si tratta di strisce colorate, file di sedie, linee tratteggiate sul pavimento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Obiettivi didattici dei percors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igliorare le capacità deambulato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mparare ad orientarsi nello spazio e usare con proprietà i punti di rifer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mparare a dominare lo spazio con sempre maggiore sicure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viluppare un atteggiamento critico e riflessivo nei confronti del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umentare le capacità espressive (arr. lessicale, esprimersi correttam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Fasi di realizzazione </a:t>
            </a:r>
            <a:br>
              <a:rPr sz="4400"/>
            </a:b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del gio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orale del gioc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progettazione del gioco; narrazione storia; rego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del gioco attivo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preparazione ostacoli, gioco vero e propri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Commento e discussione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dello svolgimento del gioco (difficoltà, errori propri o altrui, pareri, stati d’animo, soluzioni alternative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hr-HR" sz="3200" spc="-1" strike="noStrike">
                <a:solidFill>
                  <a:srgbClr val="0033cc"/>
                </a:solidFill>
                <a:latin typeface="Comic Sans MS"/>
              </a:rPr>
              <a:t>Fase grafico-pittorica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(disegnare le tappe del gioc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1 e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i liberi molto sempl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imiti – alcune zone viet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fficoltà crescenti (es. dominio assoluto dell’ambiente / dominio parziale dell’ambien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o del tutto libero / tappe obbligatorie per numero e ord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i basati su una storia concordata con i bambi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3,4,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tratta di percorsi obbligati e labiri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fficoltà gradualmente più al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ominio assoluto dell’ambiente (aul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erifica della capacità di rispettare le regole e della sicurezza di se stes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al percorso lineare si passa al vero e proprio labirinto con un solo percorso giust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cc"/>
                </a:solidFill>
                <a:latin typeface="Comic Sans MS"/>
              </a:rPr>
              <a:t>Schede 6, 7,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tratta di percorsi obbligati con ostacoli o gimk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corso circolare con ostacoli artificiali (in aula, in palestra, nel cortile, sul campo da gioco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ostacoli hanno lo scopo di distogliere l’attenzione dal perco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ostacoli richiedono: a) impegno fisico, b) impegno logico e fisico, c) impegno menta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2-10T17:55:03Z</dcterms:modified>
  <cp:revision>13</cp:revision>
  <dc:subject/>
  <dc:title>PowerPoint Presentation</dc:title>
</cp:coreProperties>
</file>