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2EBB-6973-4171-ACF7-260B8DA0C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0EB6-EB66-4568-B46D-9093B686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7FE0-D87E-485C-BF0F-387C10FF0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36E6-CFBA-48C5-9209-C153B8F13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82D3-E715-4F13-949E-C655C1E3F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4C05-31BE-45A6-B08A-E4B8DC6D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8E58-B45F-4037-9234-A182046B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DD63-4C88-4682-92A9-63C3BADD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FCC2-705A-49EC-8D24-46C66D28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B61D-D113-4BFB-9CAC-5B5FD5E8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84B6-02FD-405F-BF71-85522A2D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EB46-3844-4CA5-9141-05516C54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7814-7653-4C6E-A054-F30BD701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D1FC-03A1-479A-99C7-9DE0AC4E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EB1B-9767-46CA-9670-8A220C5E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E6AB-EFF7-45A3-B4EC-DA4E6EAEC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E4A2-861E-4F1A-8BE5-C4A47D099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7A00-0A58-4741-BDB7-AA98EEEB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3B55-6E03-4C31-9880-F8F17851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03F7-F4B1-4579-997E-1570E9AD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A915-E6C9-4EC1-9136-923A03FA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5409-4925-473F-81AB-5CFFC35F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07D9-2545-425D-9590-B137407E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F3A8-1CED-4858-8B99-E7631AFD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3055-2410-4012-A47E-EF3E44AE2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B087-F6DC-45EA-939E-6A25C9A595F3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I contenuti geometric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Didattica dell’educazione ambiental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e protomatemat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ahoma"/>
              </a:rPr>
              <a:t>Mr.sc. Nevia Močinić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Ulteriori attivit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ahoma"/>
              </a:rPr>
              <a:t>à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Attiv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 di associazione o uni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258920" y="2781360"/>
            <a:ext cx="1800360" cy="792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1258920" y="2637000"/>
            <a:ext cx="93672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195640" y="2637000"/>
            <a:ext cx="431640" cy="9144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2627280" y="2637000"/>
            <a:ext cx="432000" cy="914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1258920" y="5373720"/>
            <a:ext cx="27367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4427640" y="5373720"/>
            <a:ext cx="15127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6372360" y="5373720"/>
            <a:ext cx="9144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15"/>
          <p:cNvSpPr/>
          <p:nvPr/>
        </p:nvSpPr>
        <p:spPr>
          <a:xfrm>
            <a:off x="1258920" y="4076640"/>
            <a:ext cx="1057320" cy="1057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16"/>
          <p:cNvSpPr/>
          <p:nvPr/>
        </p:nvSpPr>
        <p:spPr>
          <a:xfrm>
            <a:off x="2556000" y="4581360"/>
            <a:ext cx="1057320" cy="5540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17"/>
          <p:cNvSpPr/>
          <p:nvPr/>
        </p:nvSpPr>
        <p:spPr>
          <a:xfrm>
            <a:off x="3851280" y="4797360"/>
            <a:ext cx="914400" cy="301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18"/>
          <p:cNvSpPr/>
          <p:nvPr/>
        </p:nvSpPr>
        <p:spPr>
          <a:xfrm>
            <a:off x="1187280" y="364500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Attiv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 di confro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Giochi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2017440"/>
            <a:ext cx="827064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Indovina di quale corpo geometrico si tratta! Es.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Ha una faccia curva e due piane a forma di cerch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Ha tutte le facce di forma quadrat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Il sacchetto magico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toccare i corpi nascosti in un sacchetto e indovinare in base al tatto di quale corpo si trat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far descrivere al bambino che cosa sta toccando e chiedere agli altri di indovin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La forma euclide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Forme congruenti - sovrapponibi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Forme simili – stessa for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Forma rettangolare, quadrata, triangolare, roto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Forma di foglia, di cuore, di pesce, ec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Riferimenti ad oggetti tridimensionali o immagini bidimensionali dell’ogget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Dall’oggetto all’immag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Idea di forma – nasce dal confronto di immagini sulla base di relazioni spazia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Fasi di attiv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 con i bambin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ercezione fisica dell’ogget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Confronto di oggetti simili (simmetria, lati, grandezza, ec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Ricostruzione dell’immagine (stampa, ricalco, proiezi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Riproduzione dal vero mediante diseg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Indagini sulla for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0920" y="2017440"/>
            <a:ext cx="834372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Oggetti: martelli, cacciaviti, tenaglie, lime, seghetti; casseruole, padelle, tegami, tortiere, setacci, grattugie, taglieri, matterelli, formine per dolci, ec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Elementi di osservazione: forma, materiale, uso e funzi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Attivi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  <a:ea typeface="Tahoma"/>
              </a:rPr>
              <a:t> utili: discussione in piccoli gruppi, manipolazione e sperimentazione, disegno, progettazione e realizzazione di modell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Contenuti geometrici nella scuola mater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Distinzione delle forme geometriche (cerchio, quadrato, rettangolo, triangol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Distinzione dei corpi geometrici (cubo, parallelepipedo, cilindro, sfera, piramide, con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Comprendere l’uso dei grafici e saperli leggere (es. tabelle a doppia entrata, istogrammi, diagrammi,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Imparare a leggere le map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Forme geometrich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rime attivi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  <a:ea typeface="Tahoma"/>
              </a:rPr>
              <a:t>: osservazione degli oggetti nei giochi di costruzi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  <a:ea typeface="Tahoma"/>
              </a:rPr>
              <a:t>Abbinamenti di oggetti che combaciano per forma (associazione in base alla form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  <a:ea typeface="Tahoma"/>
              </a:rPr>
              <a:t>Concetti da assimilare: faccia, spigolo, diritto, curvo, vertice, simile, congruente, rotondo, rettangolare, quadrato, triangolare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Le forme nel pian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2017440"/>
            <a:ext cx="841536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Figure geometriche: quadrato, cerchio, rettangolo, triango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Figure geometriche da costrui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5 cerchi (raggio – 8 cm, 4 cm, 2 c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5 quadrati (lato – 16 cm, 8 cm, 4 c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10 rettangoli (8x16 cm, 4x8 cm, 2x4 cm; 4x16 cm, 2x8 cm, 1x4 cm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21 triangoli (equilateri – lato 16, 8, 4 cm, rettangolari isosceli – 16, 8, 4 cm, rettangolari – me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  <a:ea typeface="Tahoma"/>
              </a:rPr>
              <a:t> del rettangol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Attivit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ahoma"/>
              </a:rPr>
              <a:t>à</a:t>
            </a:r>
            <a:r>
              <a:rPr b="0" lang="hr-HR" sz="4400" spc="-1" strike="noStrike">
                <a:solidFill>
                  <a:srgbClr val="333399"/>
                </a:solidFill>
                <a:latin typeface="Tahoma"/>
                <a:ea typeface="Tahoma"/>
              </a:rPr>
              <a:t> consiglia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Stampa con i colori a tempera di facce dei corpi geometrici, stampa con le pa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Collage con figure geometriche preparate in precedenz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258920" y="4941720"/>
            <a:ext cx="91440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3995640" y="4941720"/>
            <a:ext cx="505080" cy="914400"/>
          </a:xfrm>
          <a:prstGeom prst="rect">
            <a:avLst/>
          </a:prstGeom>
          <a:solidFill>
            <a:srgbClr val="78776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635280" y="3860640"/>
            <a:ext cx="1224000" cy="1130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1908000" y="5734080"/>
            <a:ext cx="289080" cy="863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1258920" y="5734080"/>
            <a:ext cx="288720" cy="863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11"/>
          <p:cNvSpPr/>
          <p:nvPr/>
        </p:nvSpPr>
        <p:spPr>
          <a:xfrm rot="19800000">
            <a:off x="2195640" y="4941720"/>
            <a:ext cx="2887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12"/>
          <p:cNvSpPr/>
          <p:nvPr/>
        </p:nvSpPr>
        <p:spPr>
          <a:xfrm rot="1800000">
            <a:off x="971640" y="4941720"/>
            <a:ext cx="2887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Oval 13"/>
          <p:cNvSpPr/>
          <p:nvPr/>
        </p:nvSpPr>
        <p:spPr>
          <a:xfrm>
            <a:off x="1547640" y="5084640"/>
            <a:ext cx="287640" cy="230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1547640" y="4869000"/>
            <a:ext cx="289080" cy="193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15"/>
          <p:cNvSpPr/>
          <p:nvPr/>
        </p:nvSpPr>
        <p:spPr>
          <a:xfrm>
            <a:off x="5076720" y="4581360"/>
            <a:ext cx="3167280" cy="14907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Oval 16"/>
          <p:cNvSpPr/>
          <p:nvPr/>
        </p:nvSpPr>
        <p:spPr>
          <a:xfrm>
            <a:off x="5292720" y="5877000"/>
            <a:ext cx="57636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Oval 17"/>
          <p:cNvSpPr/>
          <p:nvPr/>
        </p:nvSpPr>
        <p:spPr>
          <a:xfrm>
            <a:off x="7380360" y="5877000"/>
            <a:ext cx="57636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5292720" y="4724280"/>
            <a:ext cx="431640" cy="433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19"/>
          <p:cNvSpPr/>
          <p:nvPr/>
        </p:nvSpPr>
        <p:spPr>
          <a:xfrm>
            <a:off x="5867280" y="4724280"/>
            <a:ext cx="432000" cy="433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20"/>
          <p:cNvSpPr/>
          <p:nvPr/>
        </p:nvSpPr>
        <p:spPr>
          <a:xfrm>
            <a:off x="6443640" y="4724280"/>
            <a:ext cx="432000" cy="433440"/>
          </a:xfrm>
          <a:prstGeom prst="rect">
            <a:avLst/>
          </a:prstGeom>
          <a:solidFill>
            <a:srgbClr val="f3d6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21"/>
          <p:cNvSpPr/>
          <p:nvPr/>
        </p:nvSpPr>
        <p:spPr>
          <a:xfrm>
            <a:off x="7020000" y="4724280"/>
            <a:ext cx="431640" cy="433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22"/>
          <p:cNvSpPr/>
          <p:nvPr/>
        </p:nvSpPr>
        <p:spPr>
          <a:xfrm>
            <a:off x="7596360" y="4724280"/>
            <a:ext cx="431640" cy="433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23"/>
          <p:cNvSpPr/>
          <p:nvPr/>
        </p:nvSpPr>
        <p:spPr>
          <a:xfrm>
            <a:off x="5867280" y="5229360"/>
            <a:ext cx="505080" cy="8427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24"/>
          <p:cNvSpPr/>
          <p:nvPr/>
        </p:nvSpPr>
        <p:spPr>
          <a:xfrm>
            <a:off x="2771640" y="5589720"/>
            <a:ext cx="100836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AutoShape 25"/>
          <p:cNvSpPr/>
          <p:nvPr/>
        </p:nvSpPr>
        <p:spPr>
          <a:xfrm rot="8100000">
            <a:off x="2842920" y="5157720"/>
            <a:ext cx="914400" cy="91440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26"/>
          <p:cNvSpPr/>
          <p:nvPr/>
        </p:nvSpPr>
        <p:spPr>
          <a:xfrm>
            <a:off x="2843280" y="5734080"/>
            <a:ext cx="288720" cy="193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27"/>
          <p:cNvSpPr/>
          <p:nvPr/>
        </p:nvSpPr>
        <p:spPr>
          <a:xfrm>
            <a:off x="3419640" y="5734080"/>
            <a:ext cx="288720" cy="193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28"/>
          <p:cNvSpPr/>
          <p:nvPr/>
        </p:nvSpPr>
        <p:spPr>
          <a:xfrm>
            <a:off x="3132000" y="6165720"/>
            <a:ext cx="289080" cy="336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AutoShape 29"/>
          <p:cNvSpPr/>
          <p:nvPr/>
        </p:nvSpPr>
        <p:spPr>
          <a:xfrm>
            <a:off x="1332000" y="4149720"/>
            <a:ext cx="698400" cy="69840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Altre attivit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ahoma"/>
              </a:rPr>
              <a:t>à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l gioco del tangram (tagliare il quadrato secondo le righe e comporre delle figure con i pezzi ottenut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Picture 4" descr="tangram"/>
          <p:cNvPicPr/>
          <p:nvPr/>
        </p:nvPicPr>
        <p:blipFill>
          <a:blip r:embed="rId1"/>
          <a:stretch/>
        </p:blipFill>
        <p:spPr>
          <a:xfrm>
            <a:off x="1042920" y="3213000"/>
            <a:ext cx="1990800" cy="1990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Tangram_casa"/>
          <p:cNvPicPr/>
          <p:nvPr/>
        </p:nvPicPr>
        <p:blipFill>
          <a:blip r:embed="rId2"/>
          <a:stretch/>
        </p:blipFill>
        <p:spPr>
          <a:xfrm>
            <a:off x="3348000" y="3213000"/>
            <a:ext cx="1565280" cy="2003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Tangram_pesci"/>
          <p:cNvPicPr/>
          <p:nvPr/>
        </p:nvPicPr>
        <p:blipFill>
          <a:blip r:embed="rId3"/>
          <a:stretch/>
        </p:blipFill>
        <p:spPr>
          <a:xfrm>
            <a:off x="5364000" y="3213000"/>
            <a:ext cx="217332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6:53:49Z</dcterms:created>
  <dc:creator>miro</dc:creator>
  <dc:description/>
  <dc:language>en-US</dc:language>
  <cp:lastModifiedBy>Miro</cp:lastModifiedBy>
  <dcterms:modified xsi:type="dcterms:W3CDTF">2012-07-03T18:10:47Z</dcterms:modified>
  <cp:revision>15</cp:revision>
  <dc:subject/>
  <dc:title>I contenuti geometrici</dc:title>
</cp:coreProperties>
</file>