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B6E-B200-498E-92C3-ACFB98D3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DE7-9B3C-4458-9BD1-1DD917DC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43C-EB08-4D14-9B65-BCB05F33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66C-475B-4702-B176-0F9EC0A3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B696-5474-468B-9440-2AC93243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86BF-AB8F-46EB-BE53-6F7E2582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B4F7-411F-4508-8913-41403C8D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C347-1F1D-417A-9805-103E91DF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9D4E-B3B9-4068-A7C3-A957A33E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69EA-D7F8-45A7-A8ED-46B20A5D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E0BD-2DF6-4BA4-A947-5F9080A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18C-6C4C-4F61-9FBF-2CDAEE5C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7270-383D-4DA4-903A-933D1CF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2271-6D6E-460A-BB32-ADA98EF2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14C5-7232-48B5-8EB7-55E3A959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1019-CFBA-4939-827D-31E8EB9D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746C-BAE4-4184-9561-9B29C839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15C1-3DD1-42F4-AEB3-6027541E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C9B4-1D2E-4791-A2D8-6E73E9B0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3E0D-6D31-4E7D-B491-B1101E1E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1BB5-BADB-43BA-ADA4-C58A1A68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5A45A-C508-43E7-B84D-BDA59A0A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9DB-0A52-4BCD-9AB4-27A500BD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23FD-A323-4007-A4D3-A12AE244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696D-BD1A-4A58-9D27-FA7793FF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2EBC-B5B5-4579-A162-35BC5B08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1B7A-DD1E-4784-9D71-C8C46E7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8704-AF64-431C-966F-720D8E10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4DEC-B8B2-4C61-B76C-14F66E2B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54741-2DAB-4BA7-B8E5-014625DF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ED27F-2590-468E-889A-8537DBA9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FA0AD-C36A-412D-9CA1-FDEF0390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9085B-3321-4AFB-9BFD-5E532651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144-027F-4C0A-9A90-87632E2E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223B6-BF88-4B56-8951-033DEBFC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97E88-1190-49A7-B472-BA24125E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4F3C9-A7B7-4836-AD9D-9AF34500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A7610-29D9-48B4-8736-7B89743D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C022F-44AE-4AA1-AF44-59B720A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0FB2B-79BE-4B25-9D3C-A0A6AB98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36448-5740-4875-86B0-479F6AD5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01FD2-0B2D-4C8B-9786-D9A861D8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C69FC-9980-474B-9BAC-FF719FBD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3EA16-AC26-448E-9561-CA05CFD4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627-1A24-439A-80E2-D045C11B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E7101-9D44-477C-8D57-829B2A11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0DE0F-AC14-480D-BCF5-E9FDD944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900F1-1B08-40E6-BD5A-D295A5CF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FF1F7-82EB-484A-9F41-09A1B510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F0B75-F619-43C1-90EB-FAE17277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D0688-FA0F-41CD-A934-88E59029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8ED3C-6F31-4E11-A8CC-968C243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0C2FA-EF2A-474E-887D-2351C3F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21629-5F29-4CF9-B08C-9887B297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C3297-1537-4668-8CD1-FA12F2EA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10C-DDCA-43B4-9434-ED139967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8046A-C115-4F10-8618-1EDB510E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CA061-C43B-48EB-818C-A5014429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D26AF-0CAE-4F7D-A890-3AD86F60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63C17-8C21-4C34-9B08-16F42140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DC8F6-9F34-49D6-B770-888B6F51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0C3B7-D390-4115-8481-AA47F4AD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7728E-2734-4F3F-ACF3-BA783EF9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E791B-B236-4D11-BDE9-B1F7D825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471AF-7452-468C-B183-4B78DE93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397E2-C574-4C05-80ED-5C21B186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F08-1F99-467C-BEC6-ABFE70BE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6F1E2-F581-4917-9053-942E43FB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9FE88-92CB-4B26-808E-E108AB2D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E76F5-D15E-4E38-9F2F-6C031967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B18-ADBE-48ED-B618-DF4F837C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83F-2A04-4E60-BA5F-D57AA4C9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5ECA-210F-48B5-8ADD-8CCA732365E7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3737-2012-4C6E-A136-4AC5C319BDE0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6ec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d6ecf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C031-D3B6-4FCA-9897-6A46A82B5153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CB8B-2216-461E-B684-C12A9AD956DA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E3CF-8B01-4398-83EF-4DD01DAA9A43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e389"/>
            </a:gs>
            <a:gs pos="100000">
              <a:srgbClr val="e7fa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omic Sans MS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4e5b6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4e5b6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3EF2-3C87-4706-A118-5C9D61A29F2E}" type="slidenum">
              <a:rPr b="1" lang="hr-HR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28600" y="1285560"/>
            <a:ext cx="552924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Comic Sans MS"/>
              </a:rPr>
              <a:t>I METODI </a:t>
            </a:r>
            <a:r>
              <a:rPr b="1" lang="hr-HR" sz="4400" spc="-1" strike="noStrike">
                <a:solidFill>
                  <a:srgbClr val="4e5b6f"/>
                </a:solidFill>
                <a:latin typeface="Arial"/>
              </a:rPr>
              <a:t>DI LAVORO</a:t>
            </a:r>
            <a:endParaRPr b="0" lang="en-US" sz="44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642760" y="4929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Docente</a:t>
            </a: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: Mr.sc. Nevia Močini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Corso di studio: </a:t>
            </a:r>
            <a:r>
              <a:rPr b="1" lang="hr-HR" sz="1800" spc="-1" strike="noStrike">
                <a:solidFill>
                  <a:srgbClr val="0f0102"/>
                </a:solidFill>
                <a:latin typeface="Arial"/>
              </a:rPr>
              <a:t>Educazione Prescolare</a:t>
            </a:r>
            <a:r>
              <a:rPr b="1" lang="en-US" sz="1800" spc="-1" strike="noStrike">
                <a:solidFill>
                  <a:srgbClr val="0f0102"/>
                </a:solidFill>
                <a:latin typeface="Comic Sans MS"/>
              </a:rPr>
              <a:t> III an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4e5b6f"/>
                </a:solidFill>
                <a:latin typeface="Comic Sans MS"/>
              </a:rPr>
              <a:t>La percezione sensoriale di oggetti, fenomeni, processi, movimenti</a:t>
            </a:r>
            <a:endParaRPr b="0" lang="en-US" sz="2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’oggetto concre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a preferire rispetto alla sua foto o illustr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fenomeni naturali in genere durano nel tempo e per osservarli nella loro interezza bisogna registrarli (foto, filmati, serie di illustrazion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enomeni naturali dinamici e processi: es. giro dell’acqua in natura, metamorfosi girino-rana, bruco-farfalla, crescita fagiolo o pisello; esperimenti provocati (es. decomposizione materiali naturali e artificiali) – da curare in ogni partico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Movimenti: pronuncia corretta di suoni e parole, esecuzione di movimenti specifici, operazioni tipiche di mestieri e profess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54380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r>
              <a:rPr b="1" lang="hr-HR" sz="2800" spc="-1" strike="noStrike">
                <a:solidFill>
                  <a:srgbClr val="4e5b6f"/>
                </a:solidFill>
                <a:latin typeface="Comic Sans MS"/>
              </a:rPr>
              <a:t>Il metodo della conversazione</a:t>
            </a:r>
            <a:br>
              <a:rPr sz="2300"/>
            </a:br>
            <a:endParaRPr b="0" lang="en-US" sz="28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sato per conoscere l’ambiente, consolidare e sistemare il sapere, formare concet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 basa su una serie di domande e rispos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ccompagna ogni osservazione o percezione sensoriale in gen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e organizzata in modo efficace, non si limita ad una serie arida di domande e risposte, m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ricca di spunti, mantiene un ritmo vivace che ne conserva la freschezza e stimola l’interesse d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conversazione deve stimolare lo sviluppo delle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comunicative del bamb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Il successo della conversazione dipende: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a conduzione corretta della stes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’interesse dei bambini per l’argo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a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ll’educatrice di dimostrare entusiasmo e interesse per l’argomento tratt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a tecnica usata nel fare le domande (domande chiare, semplici, formulate correttamente, adatte alla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i comprensione dei bambin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a regola stabilita per prendere la parola (utile usare un oggetto che funge da passaparola, come se si usasse il microfon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alla preparazione dell’educatrice sul tema della conversazione, analizzato da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unti di vi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467480" cy="98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5b6f"/>
                </a:solidFill>
                <a:latin typeface="Comic Sans MS"/>
              </a:rPr>
              <a:t>Il metodo dell’esposizione</a:t>
            </a:r>
            <a:br>
              <a:rPr sz="2700"/>
            </a:br>
            <a:endParaRPr b="0" lang="en-US" sz="32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9152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i espongono di solito contenuti sconosciuti ai bambini, temi che non conoscono abbastanza per partecipare alla conversazi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’esposizione serve per avvicinare avvenimenti, fenomeni o oggetti lontani nello spazio e nel t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orme di esposizione: a) raccontare; b) spiegare; c) descriv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RACCONTARE - REGOLE DA RISPETTARE: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725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spressione corretta dal punto di vista della sintassi e della morfolog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urare l’espress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l racconto (accenti, tono, ritmo della vo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ontenuto adeguato ai bambini che ascolt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endere il racconto vivace e dinamico per influire sulle emozioni dei bambini (rallentare o accelerare l’esposizione, alzare o abbassare il tono della voce, cambiare timbro all’occorrenz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ar attenzione alla diffusione acustica del suono nell’ambiente (cattiva diffusione del suono – racconto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lent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SPIEGARE E DESCRIVERE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Spiegar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si usa durante la dimostr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erve per stimolare la riflessione dei bambini e cogliere legami e relazioni tra oggetti e fenome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ar attenzione a spiegare in modo comprensibile per 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Descrivere: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spesso si descrivono gli oggetti che si trovano nella stanza, o nel resto della scuola dell’infanzia, i fenomeni naturali (tramonto del sole, nuvole, pioggia, ghiaccio, brina, ...), gli avvenimenti (la vendemmia, le vacanze estive, la festa del compleanno, l’arrivo di Babbo Natale, .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nvitare i bambini a raccontare esperienze viss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Il metodo del lavoro sul testo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sato soltanto dall’educatr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ettura di testi informativi su argomenti di alto interesse per 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sempi: storie di animali o piante, descrizioni della natura, storie sulla vita sociale, storie su luoghi o tempi lontan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rre attenzione all’espress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nella lettu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cegliere racconti movimentati, dinamici, con tanti dialogh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Drammatizzare i racconti con dialogh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molare nel bambino l’amore per la lettura, approfondire l’esperienza, influire sulle emo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Il metodo dei lavori pratici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00244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mola l’at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i bambini, migliora la loro indipendenza, la coordinazione dinamica generale, la coordinazione oculo-manuale, lo sviluppo della motri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fine della mano, del senso estetico e della crea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 usa soprattutto nell’educazione artistica, nelle attiv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sui concetti protomatematici, sugli esperimenti riguardanti la natura, ec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sempi di lavori pratici: soluzione di schede, costruzione di regali per i propri cari, di modellini di animali, di oggetti vari, ec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Materiali usati: frutti, legno, cartone, carta, stoffa, plastilina, pasta al sale, das, oggetti di recup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erve per imparare ad usare determinati attrezzi, a rispettare le sequenze corrette delle operazioni da esegu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4e5b6f"/>
                </a:solidFill>
                <a:latin typeface="Arial"/>
              </a:rPr>
              <a:t>I metodi didattici nella scuola dell’infanzia</a:t>
            </a:r>
            <a:br>
              <a:rPr sz="2700"/>
            </a:br>
            <a:endParaRPr b="0" lang="en-US" sz="27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78598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ari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i modi di definire e classificare i metodi di lavo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na delle definizioni: strategie, comportamenti intenzionali e tecniche usate per insegnare nuovi concetti, abil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norme di comportamento, abitud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zione o meno con i metodi usati nei gradi di istruzione superi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egola condivisa da tutti gli studiosi: l’insegnamento nella scuola dell’infanzia deve essere integr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e differenze nei comportamenti e tecniche usate dipendono soprattutto dall’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e dalle capac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Criteri di scelta dei metodi didattici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85840" y="980640"/>
            <a:ext cx="80438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rganizzare nel modo migliore l’apprendimento d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Rendere i bambini at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timolare lo sviluppo integrale della personal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el bambino (capac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ntellettuali, riconoscimento e controllo delle emozioni, capac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sociali, sviluppo psicomotori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ealizzare gli obiettivi operativi dell’attiv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organizz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deguare il metodo al campo d’esperienza e alle capacità de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ner conto delle possibil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materiali della scu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ner conto dello spazio e dei mezzi didattici a disposi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deguare la scelta alle proprie capac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rofessiona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5b6f"/>
                </a:solidFill>
                <a:latin typeface="Comic Sans MS"/>
              </a:rPr>
              <a:t>Elenco dei metodi pi</a:t>
            </a:r>
            <a:r>
              <a:rPr b="0" lang="en-US" sz="3200" spc="-1" strike="noStrike">
                <a:solidFill>
                  <a:srgbClr val="4e5b6f"/>
                </a:solidFill>
                <a:latin typeface="Comic Sans MS"/>
              </a:rPr>
              <a:t>ù</a:t>
            </a:r>
            <a:r>
              <a:rPr b="0" lang="hr-HR" sz="3200" spc="-1" strike="noStrike">
                <a:solidFill>
                  <a:srgbClr val="4e5b6f"/>
                </a:solidFill>
                <a:latin typeface="Comic Sans MS"/>
              </a:rPr>
              <a:t> usati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42680" y="1341000"/>
            <a:ext cx="628164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lla dimostr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lla convers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ll’esposi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l lavoro sul tes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i lavori prat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odo del gio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Il metodo della dimostrazione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28440" y="1600200"/>
            <a:ext cx="6995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 basa sulla percezione sensoriale di oggetti, processi e fenome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gnifica far osservare, toccare gli oggetti, le piante, gli animali, sentire gli odori, i suoni, i gus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percezione sensoriale facilita la formazione dei concet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importante per arricchire la scarsa esperienza del bamb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Favorisce una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efficace memorizz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ssibilmente bisogna attivare p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ù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sensi contemporaneamen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5b6f"/>
                </a:solidFill>
                <a:latin typeface="Comic Sans MS"/>
              </a:rPr>
              <a:t>Ruolo dell’educatrice</a:t>
            </a:r>
            <a:endParaRPr b="0" lang="en-US" sz="36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71720" y="1356840"/>
            <a:ext cx="685296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cegliere un oggetto, un fenomeno, un’attiv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tipica e non cose eccentri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eterminare le fasi dell’osservazione o altro tipo di percezione sensori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vedere e procurare i materiali necessa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pararsi per le dimostrazioni comples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cegliere di preferenza la dimostrazione di oggetti concre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Regole da rispettare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0755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’oggetto da osservare deve essere abbastanza grande e sistemato in modo da essere visto da tut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Gli oggetti da odorare, sentire il profumo, toccare con le mani, sentire il gusto, non devono essere pericolosi per i bambini (contenuto, fragil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 oggetti appuntiti.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el corso della dimostrazione l’educatrice attira l’attenzione dei bambini con domande opportune, stimola i bambini a riflettere, confrontare e trarre conclus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dimostrazione deve essere ordinata; se necessario si usa un cartellone per annotare le osserva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l tempo dell’osservazione deve tener conto delle capa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ei bambini e del loro interesse per l’ogget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Si possono dimostrare: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pic>
        <p:nvPicPr>
          <p:cNvPr id="343" name="Content Placeholder 2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1552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5b6f"/>
                </a:solidFill>
                <a:latin typeface="Comic Sans MS"/>
              </a:rPr>
              <a:t>Osservazione di modellini, fotografie, illustrazioni</a:t>
            </a:r>
            <a:endParaRPr b="0" lang="en-US" sz="3000" spc="-1" strike="noStrike">
              <a:solidFill>
                <a:srgbClr val="4e5b6f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00120"/>
            <a:ext cx="7829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l pregio dei modellini: far vedere l’aspetto esterno e la struttura interna, se il modellin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smontab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l pregio delle fotografie: mettere in evidenza particolari essenziali di un oggetto o fenomeno; presentare l’oggetto o il fenomeno nei suoi aspetti reali (colori, forme e dimension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e illustrazioni: molto utili per fornire informazioni nuove organizzate in sequenze logich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22:41:28Z</dcterms:created>
  <dc:creator>pc</dc:creator>
  <dc:description/>
  <dc:language>en-US</dc:language>
  <cp:lastModifiedBy>Miro</cp:lastModifiedBy>
  <dcterms:modified xsi:type="dcterms:W3CDTF">2014-01-07T20:30:42Z</dcterms:modified>
  <cp:revision>29</cp:revision>
  <dc:subject/>
  <dc:title>I METODI VISIVI</dc:title>
</cp:coreProperties>
</file>