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A51-5907-4A6A-8109-CD23237C7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9187-A4F7-4657-BEA0-A76A867A1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575-56CC-4D20-B622-6FDC4496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955A-094C-474B-83BA-16479044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8BB3-FDE7-4149-A429-6DE6E8F8C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8CAA-CB98-4189-B1B8-9B7846FD7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73762-236D-494A-9108-9FE8AE22A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8512-E0A3-4562-8C27-508A5FA5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85C8C-62C3-4B4F-A221-ABFA08FB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0A6F-C5A3-4CEE-8569-1C4F5E10C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104C-F0C0-43D0-B5F8-DB30119C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1C5-BC6C-46ED-AE07-EAA29264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A313-054E-45C1-8549-609EC60B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5EA7-88B8-47B9-8E20-4CA319E9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28468-C519-4D9F-AEC8-F5C5D3036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1E8F-4F63-46B4-93D7-5EBA3D8A6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3346-547A-4632-8C92-513F5B892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80B7-5B7B-48FD-9C7E-F085E5F1B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F062-47F2-4B6D-87D7-2F0A11CF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EAF-BC66-439E-8FF9-6037B1DA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CD3D-2C0E-4091-BBE8-AC01D363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842-8DBF-49FD-A7EF-159EA79E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4C7-3087-4127-A425-2DD771B2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1DF9-F947-4465-B899-D9F288EA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83B87-D024-464C-8C76-0192F66267C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FEFB-5D6A-464B-B80D-2CCE10C9A71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5" descr=""/>
          <p:cNvPicPr/>
          <p:nvPr/>
        </p:nvPicPr>
        <p:blipFill>
          <a:blip r:embed="rId1"/>
          <a:stretch/>
        </p:blipFill>
        <p:spPr>
          <a:xfrm>
            <a:off x="633240" y="1279440"/>
            <a:ext cx="8467920" cy="2286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33160" y="3428640"/>
            <a:ext cx="7854840" cy="15526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Mr.sc. Nevia Močinić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142720"/>
            <a:ext cx="82296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La libertà dai vincoli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le regole, quando ci sono, non sono già date, ma vengono negoziate dai giocatori stessi che si accordano sul come giocare insiem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071440"/>
            <a:ext cx="82296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Il coinvolgimento attivo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ogni gioco richiede un impegno personale da parte del singolo giocator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l gioco come contest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Ricerche condotte in ambienti organizzati allo scopo di evocare comportamenti ludici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presenza di oggetti e materiali interessan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atteggiamento incoraggiante degli adul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atmosfera amichevole e supportiv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orario predisposto in modo da evitare affaticamento e noia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Il gioco come comportamento </a:t>
            </a:r>
            <a:br>
              <a:rPr sz="4000"/>
            </a:br>
            <a:r>
              <a:rPr b="0" lang="hr-HR" sz="4000" spc="-1" strike="noStrike">
                <a:solidFill>
                  <a:srgbClr val="04617b"/>
                </a:solidFill>
                <a:latin typeface="Calibri"/>
              </a:rPr>
              <a:t> osservabil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4304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nstantia"/>
              </a:rPr>
              <a:t>Secondo Piaget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l gioco di esercizio – esercitazione degli schemi sensomotori acquisi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l gioco simbolico – il gioco di finzion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con regole – giochi social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0000"/>
                </a:solidFill>
                <a:latin typeface="Constantia"/>
              </a:rPr>
              <a:t>Secondo Catherine Garvey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con oggett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con le parole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onstantia"/>
              </a:rPr>
              <a:t>i giochi di ruolo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4617b"/>
                </a:solidFill>
                <a:latin typeface="Calibri"/>
              </a:rPr>
              <a:t>Il gioco come comportamento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197000"/>
            <a:ext cx="84009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Il comportamento osservabile – indicatore di sottostanti processi cognitivi o sociali; più attendibile e veritiero rispetto al criterio della disposizione psicolog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J. Piage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1. gioco di esercizi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2. gioco simboli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3. giochi con reg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C. Garve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1. giochi con oggetti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2. giochi con le paro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600" spc="-1" strike="noStrike">
                <a:solidFill>
                  <a:srgbClr val="000000"/>
                </a:solidFill>
                <a:latin typeface="Constantia"/>
              </a:rPr>
              <a:t>3. giochi di ruolo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600" spc="-1" strike="noStrike">
                <a:solidFill>
                  <a:srgbClr val="04617b"/>
                </a:solidFill>
                <a:latin typeface="Calibri"/>
              </a:rPr>
              <a:t>Definizione del gioc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Il gioco 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 qualsiasi attività liberamente scelta a cui si dedichino, singolarmente o in gruppo, bambini o adulti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senza altri fini immediati che la ricreazione e lo svago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Constantia"/>
              </a:rPr>
              <a:t>esercitano e sviluppano allo stesso tempo capacità fisiche, manuali e intellettive</a:t>
            </a: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r-HR" sz="2400" spc="-1" strike="noStrike">
                <a:solidFill>
                  <a:srgbClr val="000000"/>
                </a:solidFill>
                <a:latin typeface="Constantia"/>
              </a:rPr>
              <a:t>(Enciclopedia Treccani)</a:t>
            </a:r>
            <a:r>
              <a:rPr b="0" lang="it-IT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0040" y="857160"/>
            <a:ext cx="8229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l gioco e i bambin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4289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Modo per conoscere il mond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Forma di comunicazione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Esperienza emotiv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Azione trasformativa sulla realt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Caratter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288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Il gioco si può studiare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come disposizione psicologica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come un insieme di comportamenti osservabili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come contesto in cui avviene un fenomeno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Il gioco come disposizione psicologica: caratteristich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00016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Motivazione intrinsec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Priorità dei mezzi sul fin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Dominanza dell’individuo rispetto alla realtà esterna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La non letteralità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La libertà dai vincoli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onstantia"/>
              </a:rPr>
              <a:t>Il coinvolgimento attivo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2214720"/>
            <a:ext cx="8229600" cy="41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Motivazione intrinseca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non vi sono pressioni esterne o attese sociali che inducano tale comportamento. Si gioca per il piacere di farl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Priorità dei mezzi sul fine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il procedimento è più importante del risultato. L’attività ludica è fine a se stessa e indipendente dal suo esit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Spesso il piacere sta nella fase preparatoria del gioco più che nel gioco stesso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Dominanza dell’individuo rispetto alla realtà esterna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 – l’individuo è al centro dell’attenzione; tutto ciò che lo circonda serve solo a stimolare la sua fantasia e produrre eccitazione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5000" spc="-1" strike="noStrike">
                <a:solidFill>
                  <a:srgbClr val="04617b"/>
                </a:solidFill>
                <a:latin typeface="Calibri"/>
              </a:rPr>
              <a:t>Tratti distintivi del gio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0000"/>
                </a:solidFill>
                <a:latin typeface="Constantia"/>
              </a:rPr>
              <a:t>La non letteralità </a:t>
            </a:r>
            <a:r>
              <a:rPr b="0" lang="hr-HR" sz="4000" spc="-1" strike="noStrike">
                <a:solidFill>
                  <a:srgbClr val="000000"/>
                </a:solidFill>
                <a:latin typeface="Constantia"/>
              </a:rPr>
              <a:t>– il bambino si muove in un mondo immaginario, dove tutto è possibile e gli oggetti reali assumono funzioni nuove e insolite. Il bambino è consapevole di questa realtà diversa, fittizia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2:03:08Z</dcterms:created>
  <dc:creator>Miro</dc:creator>
  <dc:description/>
  <dc:language>en-US</dc:language>
  <cp:lastModifiedBy>Miro</cp:lastModifiedBy>
  <dcterms:modified xsi:type="dcterms:W3CDTF">2013-10-09T20:32:45Z</dcterms:modified>
  <cp:revision>97</cp:revision>
  <dc:subject/>
  <dc:title>Mikropučavanje u nastavi prirode i društva</dc:title>
</cp:coreProperties>
</file>