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0B78-DB54-4C9E-B3DD-A0716E1C4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860B-D87B-4D78-B23C-FE588C719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DC50-8949-40E3-92EC-A72F1BBC8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DD6E-8B80-449D-8C25-7D4C08642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31E99-CAB9-496E-B2A1-7BFDBA237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4129A-06DB-4C6D-85ED-E3E97855B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29577-479D-495D-B7EE-6FDABA840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5E3E4-54C7-4544-B30E-15394768F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AD6DA-8BC5-48BD-BF41-609225BC2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4AF9A-03F8-4C3B-A22D-32BDB5F95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B86BA-F1B9-4620-8544-8FE3A104F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CB9D-7A92-43CF-83BB-3F64B63FE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ADD00-2D51-430E-A2E1-3E54986C2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F78BD-F401-4E7A-B19D-367C1B7B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03CE2-462E-4549-9066-9788B7226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4387A-E9B6-4F5E-8050-71A516211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9C7EF-A26C-4ADF-BAC1-735D4A77E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C253-D66C-40B9-A20E-428611D93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B032-BE47-4661-A65D-5D73A7668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F5B9-7BBB-4412-9609-2CDA7103F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A860-F327-4865-AA07-0F63E6315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FAD4-C6F6-4816-96B6-4F2EDF04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D489-90D5-433C-A9EB-2C08DD71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FB2C-4156-43AB-A10C-47D718F4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345A1-89C0-402A-80B0-2F8048603B2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E2279-961E-405B-9A9C-695B0D43CE6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800" spc="-1" strike="noStrike">
                <a:solidFill>
                  <a:srgbClr val="330066"/>
                </a:solidFill>
                <a:latin typeface="Arial"/>
              </a:rPr>
              <a:t>Giochi maschili e femminili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I giochi dei bambi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000000"/>
                </a:solidFill>
                <a:latin typeface="Arial"/>
              </a:rPr>
              <a:t>Mr.sc. Nevia Močini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330066"/>
                </a:solidFill>
                <a:latin typeface="Arial"/>
              </a:rPr>
              <a:t>Atteggiamenti degli adulti: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400960" cy="487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Sono più propensi ad acquistare giocattoli tipicamente maschili o femminili a seconda del sesso del bambi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Riluttanti a proporre ai bambini giochi o attiv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 considerate tipiche del sesso oppo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Incoraggiano e rinforzano l’uso di giocattoli conformi al gen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Arredo di cameret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per maschio – presenza di numerosi veicoli, armi, giochi di costruzione, piste delle macchin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per femmina – presenza di bambole e pupazzi di pelouche, disegni floreali sulla carta da parati, pizzi sulle tende e sul coprilet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900" spc="-1" strike="noStrike">
                <a:solidFill>
                  <a:srgbClr val="330066"/>
                </a:solidFill>
                <a:latin typeface="Arial"/>
              </a:rPr>
              <a:t>L’influenza del gruppo dei par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7176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Cultura dei pari: l’insieme di idee, valori, conoscenze, interessi condivisi in un conte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Funzione della cultura dei pari: favorire la coesione all’interno del gruppo, permettere di far fronte ai sentimenti di paura o di confusione, rafforzare il senso di padronanza nei confronti del mondo circos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Vita segreta fatta di codici segreti, regole speciali, negoziazioni, routine consoli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Dai 5 anni in poi presente una sorta di segregazione nel gruppo del proprio ses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28400" y="1429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900" spc="-1" strike="noStrike">
                <a:solidFill>
                  <a:srgbClr val="330066"/>
                </a:solidFill>
                <a:latin typeface="Arial"/>
              </a:rPr>
              <a:t>Il ruolo dei medi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La pubblici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  <a:ea typeface="Arial"/>
              </a:rPr>
              <a:t> e alcuni cartoni animati 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inducono stereotipi sessual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Giocattoli per bambine: si usano di preferenza musiche di sottofondo dolci, immagini in dissolvenza, colori particolar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Giocattoli per maschietti: caratterizzati da tagli frequenti, musica ad alto volume, maggior dinamismo nelle azioni, ecc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  <a:ea typeface="Arial"/>
              </a:rPr>
              <a:t>Contrastati i ruoli sessuali tradizionali in trasmissioni sperimentali di success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900" spc="-1" strike="noStrike">
                <a:solidFill>
                  <a:srgbClr val="330066"/>
                </a:solidFill>
                <a:latin typeface="Arial"/>
              </a:rPr>
              <a:t>Il mercato del giocattol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Produce giocattoli ben connotati per gene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Si vede nei cataloghi dei giocattoli e negli spot pubblicitar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I maschi si presentano come più attivi, aggressivi e indipendent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Le femminucce si presentano come più dolci, interessate alle faccende amorose, ai giochi legati al tema della maternità e della casa, preoccupate del loro aspetto esteri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900" spc="-1" strike="noStrike">
                <a:solidFill>
                  <a:srgbClr val="330066"/>
                </a:solidFill>
                <a:latin typeface="Arial"/>
              </a:rPr>
              <a:t>Fattori naturali (innati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719000"/>
            <a:ext cx="8229600" cy="47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ruolo importante degli ormoni per le preferenze ludiche – es. ricerca sulla presenza superiore di ormoni maschili nelle femmine, scelta di giochi maschi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differenze nelle abilità cognitive (a causa della diversa conformazione cerebrale) tra maschi e femmine: maschi – più sviluppate abilità visivo-spaziali, femmine – più brave nelle abilità verb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diversa conformazione degli organi genitali che provocano sensazioni fisiche differe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900" spc="-1" strike="noStrike">
                <a:solidFill>
                  <a:srgbClr val="330066"/>
                </a:solidFill>
                <a:latin typeface="Arial"/>
              </a:rPr>
              <a:t>L’identità di genere e la </a:t>
            </a:r>
            <a:br>
              <a:rPr sz="3900"/>
            </a:br>
            <a:r>
              <a:rPr b="1" lang="hr-HR" sz="3900" spc="-1" strike="noStrike">
                <a:solidFill>
                  <a:srgbClr val="330066"/>
                </a:solidFill>
                <a:latin typeface="Arial"/>
              </a:rPr>
              <a:t>scelta dei gioch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285840" y="1500120"/>
            <a:ext cx="857232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L’identità di genere si forma intorno ai 18 mesi (distinzione tra maschi e femmine e non i loro ruoli tipic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Si sviluppa progressivamente dal 3. anno in poi per effetto degli stimoli cultur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l riconoscimento del proprio genere di appartenenza comporta l’adozione cosciente dei comportamenti considerati adatti allo stes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per evitare la dissonanza cognitiva, per sentirsi confermato nel proprio ruolo, per essere accettato dagli alt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330066"/>
                </a:solidFill>
                <a:latin typeface="Arial"/>
              </a:rPr>
              <a:t>Risultati delle ricerche 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713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Si è giunti a conclusioni contrastanti in favore dei fattori culturali (ambientali) o di quelli innat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Zammuner V. – propone una conciliazione nella disputa tra natura e cultu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Egli afferma che è l’interpretazione che si dà ai dati innati (biologici) in una determinata cultura o epoca storica a dare origine a comportamenti che si ritengono adeguati ad un genere più che il dato biologico in sé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Interpretazione univoca dei dati innati in particolari epoche storiche e nelle relative cul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900" spc="-1" strike="noStrike">
                <a:solidFill>
                  <a:srgbClr val="330066"/>
                </a:solidFill>
                <a:latin typeface="Arial"/>
              </a:rPr>
              <a:t>Considerazioni sulla </a:t>
            </a:r>
            <a:br>
              <a:rPr sz="3900"/>
            </a:br>
            <a:r>
              <a:rPr b="1" lang="hr-HR" sz="3900" spc="-1" strike="noStrike">
                <a:solidFill>
                  <a:srgbClr val="330066"/>
                </a:solidFill>
                <a:latin typeface="Arial"/>
              </a:rPr>
              <a:t>scelta dei gioch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I bambini lasciati liberi di scegliere che cosa fanno: scelgono spontaneamente i giochi e i giocattoli adeguati al proprio gener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A che età inizia a manifestarsi questo gioco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Che cosa incide su tale inclinazion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E’ opportuno per la crescita del bambino incoraggiare o meno comportamenti conformi al gener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900" spc="-1" strike="noStrike">
                <a:solidFill>
                  <a:srgbClr val="330066"/>
                </a:solidFill>
                <a:latin typeface="Arial"/>
              </a:rPr>
              <a:t>Esperiment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Tre sezioni di scuola dell’infanz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Caratteristiche dei gruppi: simile provenienza socioculturale, diverso clima educativ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Prima sezione – controllo delle insegnanti limitato, esercitato senza alzare la voce; liber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  <a:ea typeface="Arial"/>
              </a:rPr>
              <a:t> di movimento e di scelta dei compagni di gioco; risorse sufficient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  <a:ea typeface="Arial"/>
              </a:rPr>
              <a:t>Seconda sezione: l’aula ampia, luminosa e ben attrezzata, bambini liberi di organizzarsi, risorse sufficient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  <a:ea typeface="Arial"/>
              </a:rPr>
              <a:t>Terza sezione: controllo sui bambini notevole, rimproveri frequenti con voce alterata, il tempo dedicato al gioco appare ridotto rispetto alle altre due sezion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900" spc="-1" strike="noStrike">
                <a:solidFill>
                  <a:srgbClr val="330066"/>
                </a:solidFill>
                <a:latin typeface="Arial"/>
              </a:rPr>
              <a:t>Risultati 1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Arial"/>
              </a:rPr>
              <a:t>Prima sezione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hr-HR" sz="3000" spc="-1" strike="noStrike">
                <a:solidFill>
                  <a:srgbClr val="000000"/>
                </a:solidFill>
                <a:latin typeface="Arial"/>
              </a:rPr>
              <a:t>bambini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: i giochi di fantasia con mostri, Batman e i dinosauri, la ricerca di insetti, il gioco del calcio – 64,2% del temp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Arial"/>
              </a:rPr>
              <a:t>Prima sezione – bambine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: giochi di movimento, disegno, raccolta di fiori o foglie, giochi di fantasia – 68,7% del temp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Scelta del gioco e differenza di genere eviden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Varie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  <a:ea typeface="Arial"/>
              </a:rPr>
              <a:t> di giochi scelti molto amp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900" spc="-1" strike="noStrike">
                <a:solidFill>
                  <a:srgbClr val="330066"/>
                </a:solidFill>
                <a:latin typeface="Arial"/>
              </a:rPr>
              <a:t>Differenze di genere nei gioch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Si constata, sia nel passato che oggi, la suddivisione di giochi e giocattoli in maschili e femminil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Tale differenziazione è presente sia nelle concezioni degli adulti che in quelle dei bambin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Occorre individuare le cause del fenomeno (naturali o culturali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900" spc="-1" strike="noStrike">
                <a:solidFill>
                  <a:srgbClr val="330066"/>
                </a:solidFill>
                <a:latin typeface="Arial"/>
              </a:rPr>
              <a:t>Risultati 2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Arial"/>
              </a:rPr>
              <a:t>Seconda sezione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hr-HR" sz="3000" spc="-1" strike="noStrike">
                <a:solidFill>
                  <a:srgbClr val="000000"/>
                </a:solidFill>
                <a:latin typeface="Arial"/>
              </a:rPr>
              <a:t>bambini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: costruzioni, giochi a tavolino, giochi di fantas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Arial"/>
              </a:rPr>
              <a:t>Seconda sezione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hr-HR" sz="3000" spc="-1" strike="noStrike">
                <a:solidFill>
                  <a:srgbClr val="000000"/>
                </a:solidFill>
                <a:latin typeface="Arial"/>
              </a:rPr>
              <a:t>bambine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: costruzioni, giochi di fantasia, giochi a tavolin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Varie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  <a:ea typeface="Arial"/>
              </a:rPr>
              <a:t> di giochi scelti inferi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  <a:ea typeface="Arial"/>
              </a:rPr>
              <a:t>Rari i giochi tipici dell’altro sess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  <a:ea typeface="Arial"/>
              </a:rPr>
              <a:t>Partner del gioco dello stesso sess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900" spc="-1" strike="noStrike">
                <a:solidFill>
                  <a:srgbClr val="330066"/>
                </a:solidFill>
                <a:latin typeface="Arial"/>
              </a:rPr>
              <a:t>Risultati 3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Arial"/>
              </a:rPr>
              <a:t>Terza sezione – bambini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: giochi a tavolino, disegno, attivi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  <a:ea typeface="Arial"/>
              </a:rPr>
              <a:t> ripetitive adatte a bambini pi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ù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  <a:ea typeface="Arial"/>
              </a:rPr>
              <a:t> piccol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000000"/>
                </a:solidFill>
                <a:latin typeface="Arial"/>
              </a:rPr>
              <a:t>Terza sezione - </a:t>
            </a:r>
            <a:r>
              <a:rPr b="1" lang="hr-HR" sz="3000" spc="-1" strike="noStrike">
                <a:solidFill>
                  <a:srgbClr val="000000"/>
                </a:solidFill>
                <a:latin typeface="Arial"/>
                <a:ea typeface="Arial"/>
              </a:rPr>
              <a:t>bambine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  <a:ea typeface="Arial"/>
              </a:rPr>
              <a:t>: disegno, giochi di fantas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  <a:ea typeface="Arial"/>
              </a:rPr>
              <a:t>Varie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  <a:ea typeface="Arial"/>
              </a:rPr>
              <a:t> di giochi scelti molto bass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  <a:ea typeface="Arial"/>
              </a:rPr>
              <a:t>Suddivisione dei giochi secondo stereotipi sessual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900" spc="-1" strike="noStrike">
                <a:solidFill>
                  <a:srgbClr val="330066"/>
                </a:solidFill>
                <a:latin typeface="Arial"/>
              </a:rPr>
              <a:t>Età in cui si manifesta il fenomen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Le interazioni e gli scambi sociali nei gruppi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all’e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  <a:ea typeface="Arial"/>
              </a:rPr>
              <a:t> di 4 anni 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tre volte superiore l’interazione con lo stesso sesso rispetto a quella col sesso oppos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all’e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  <a:ea typeface="Arial"/>
              </a:rPr>
              <a:t> di 6 anni 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11 volte superiore l’interazione con lo stesso sesso rispetto a quella col sesso oppos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I sottogruppi vengono formati da membri dello stesso genere senza alcuna pressione ester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La segregazione di genere diminuisce nella prima fanciullezz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330066"/>
                </a:solidFill>
                <a:latin typeface="Arial"/>
              </a:rPr>
              <a:t>Le scelte dipendono da: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714320"/>
            <a:ext cx="840096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Desiderio di essere accettati dal gruppo dei pari e di evitare reazioni negative da parte dello ste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Risorse sociali a disposizione (prevalenza di maschi o femmi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Aspettative e comportamento degli adulti (pressioni culturali di genitori, nonni, ec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Arredamento e scelta dei giochi nelle stanze dei bambi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Contesti educativi con connotazione degli spazi che riflette stereotipie di gen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nfluenza dei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Processo di formazione dell’identità di gen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330066"/>
                </a:solidFill>
                <a:latin typeface="Arial"/>
              </a:rPr>
              <a:t>Incoraggiare o meno il gioco differenziato per genere?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57120" y="1719360"/>
            <a:ext cx="8429760" cy="48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L’educatore deve incoraggiare incoraggiare il gioco differenziato per genere o combattere gli stereotipi sessual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Consigli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non si escludono del tutto differenze tra maschi e femmine per cui si può recuperare e sviluppare le abilità tipicamente maschili proponendo adeguati giochi maschili alle femmine e vicever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importante favorire il gioco con materiali differenziati, indipendentemente dall’adeguatezza per gen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combattere gli stereotipi sessuali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possibile solo in 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2400" spc="-1" strike="noStrike">
                <a:solidFill>
                  <a:srgbClr val="000000"/>
                </a:solidFill>
                <a:latin typeface="Arial"/>
                <a:ea typeface="Arial"/>
              </a:rPr>
              <a:t> preco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330066"/>
                </a:solidFill>
                <a:latin typeface="Arial"/>
              </a:rPr>
              <a:t>Lottare contro gli stereotipi culturali</a:t>
            </a:r>
            <a:endParaRPr b="1" lang="en-US" sz="4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43040"/>
            <a:ext cx="8229600" cy="44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I bambini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mano sperimentare tutti i ruoli possibili all'interno dei loro giochi, provando una volta la parte del guerriero, un'altra quella della mamma, indipendentemente dal loro sess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È questo il modo in cui i maschi esprimono le loro componenti femminili e le femmine quelle maschi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on c’è bisogno di scandalizzarsi nel vedere i maschi giocare con le bambole e le femmine con i fuci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900" spc="-1" strike="noStrike">
                <a:solidFill>
                  <a:srgbClr val="330066"/>
                </a:solidFill>
                <a:latin typeface="Arial"/>
              </a:rPr>
              <a:t>Giochi e giocattoli maschil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4000" y="1719360"/>
            <a:ext cx="84960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Repertorio di giochi considerati maschili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lotte finte, giochi motori: andare in bicicletta, gioco del calcio, pugilato, giochi di fantasia con temi concernenti mostri o supereroi, combattimenti spaziali, gioco della guerra, gioco delle biglie, giochi con scenari di cantieri, officine e veicoli, giochi con mezzi di trasporto, quali macchine, camion, ruspe, trenini, gioco con la scatola degli attrezzi, ecc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900" spc="-1" strike="noStrike">
                <a:solidFill>
                  <a:srgbClr val="6600cc"/>
                </a:solidFill>
                <a:latin typeface="Arial"/>
              </a:rPr>
              <a:t>Giochi considerati femminil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gioco di finzione con la bambola, gioco della casetta, gioco della scuola e altri giochi di fantasia che riguardano la famiglia, la scuola e l’ambiente sociale; salto della corda, danza, pattinaggio, gioco dei travestimenti, gioco del cucito, gioco con l’orsacchiotto e i pupazzi in genere, disegnare e colorar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giochi più tranquilli e legati a scenari domestic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900" spc="-1" strike="noStrike">
                <a:solidFill>
                  <a:srgbClr val="330066"/>
                </a:solidFill>
                <a:latin typeface="Arial"/>
              </a:rPr>
              <a:t>Considerazioni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24000" y="1719360"/>
            <a:ext cx="83628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Giochi congruenti con gli stereotipi del ruolo socia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Compaiono all’inizio del terzo ann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Verso i 4 anni il 65% delle preferenze per giochi e attivi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  <a:ea typeface="Arial"/>
              </a:rPr>
              <a:t> varie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  <a:ea typeface="Arial"/>
              </a:rPr>
              <a:t> sessualmente tipizza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6600ff"/>
                </a:solidFill>
                <a:latin typeface="Arial"/>
                <a:ea typeface="Arial"/>
              </a:rPr>
              <a:t>I maschi: 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  <a:ea typeface="Arial"/>
              </a:rPr>
              <a:t>preferiscono attivi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  <a:ea typeface="Arial"/>
              </a:rPr>
              <a:t> che richiedono maggior impegno fisico, le lotte finte, i giochi di movime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850aff"/>
                </a:solidFill>
                <a:latin typeface="Arial"/>
                <a:ea typeface="Arial"/>
              </a:rPr>
              <a:t>Le femmine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  <a:ea typeface="Arial"/>
              </a:rPr>
              <a:t>: preferiscono attivi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  <a:ea typeface="Arial"/>
              </a:rPr>
              <a:t> p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ù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  <a:ea typeface="Arial"/>
              </a:rPr>
              <a:t> sedentarie e scenari domestic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  <a:ea typeface="Arial"/>
              </a:rPr>
              <a:t>I bambini “atipici” sembrano violare le aspettative sociali (definiti maschiacci o femminucc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900" spc="-1" strike="noStrike">
                <a:solidFill>
                  <a:srgbClr val="330066"/>
                </a:solidFill>
                <a:latin typeface="Arial"/>
              </a:rPr>
              <a:t>La lotta per fint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50920" y="1719360"/>
            <a:ext cx="864216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Rilevabile anche nel mondo animale (mammiferi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</a:rPr>
              <a:t>La real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  <a:ea typeface="Arial"/>
              </a:rPr>
              <a:t> immaginaria, creata nel gioco, ha delle somiglianze, ma anche differenze morfologiche e contestuali tra le lotte reali e i comportamenti aggressivi della lotta per fin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  <a:ea typeface="Arial"/>
              </a:rPr>
              <a:t>Le differenze si notano in base a: particolari espressioni del volto, comportamenti ritualizzati, durata degli episodi, intensi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  <a:ea typeface="Arial"/>
              </a:rPr>
              <a:t> dei colpi, presenza o meno di spettatori tra i compagn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Arial"/>
                <a:ea typeface="Arial"/>
              </a:rPr>
              <a:t>Serve ad acquisire il controllo sulla propria aggressivi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hr-HR" sz="2600" spc="-1" strike="noStrike">
                <a:solidFill>
                  <a:srgbClr val="000000"/>
                </a:solidFill>
                <a:latin typeface="Arial"/>
                <a:ea typeface="Arial"/>
              </a:rPr>
              <a:t> incanalandola entro comportamenti socialmente accet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900" spc="-1" strike="noStrike">
                <a:solidFill>
                  <a:srgbClr val="330066"/>
                </a:solidFill>
                <a:latin typeface="Arial"/>
              </a:rPr>
              <a:t>Che cosa incide su tale inclinazione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57120" y="1357200"/>
            <a:ext cx="84297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1. Fattori cultur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I bambini giocano in modo differenziato perché gli adulti (genitori, baby-sitter, nonni, zii...) gli altri bambini o i media (pubblicità, cartoni animati) orientano un gioco adeguato al gene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2. Fattori natur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La differenziazione dei giochi secondo il genere dipende da fattori innati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ormoni maschili o femminil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differenze riscontrate a livello cerebrale (emisfero destro più sviluppato nei maschi, sinistro nelle femmine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Arial"/>
              </a:rPr>
              <a:t>diversa conformazione degli organi genitali che provocano sensazioni fisiche differ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900" spc="-1" strike="noStrike">
                <a:solidFill>
                  <a:srgbClr val="330066"/>
                </a:solidFill>
                <a:latin typeface="Arial"/>
              </a:rPr>
              <a:t>L’influenza dei fattori culturali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I fattori culturali comprendon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Il clima educativo (tradizionalista o men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L’appartenenza ad etnie specifiche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Gli atteggiamenti degli adult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L’influenza del gruppo dei par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L’influenza dei media</a:t>
            </a:r>
            <a:r>
              <a:rPr b="0" lang="hr-HR" sz="3200" spc="-1" strike="noStrike">
                <a:solidFill>
                  <a:srgbClr val="000000"/>
                </a:solidFill>
                <a:latin typeface="Arial"/>
              </a:rPr>
              <a:t> (pubblicità, cartoni animat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000000"/>
                </a:solidFill>
                <a:latin typeface="Arial"/>
              </a:rPr>
              <a:t>Il mercato del giocattol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900" spc="-1" strike="noStrike">
                <a:solidFill>
                  <a:srgbClr val="330066"/>
                </a:solidFill>
                <a:latin typeface="Arial"/>
              </a:rPr>
              <a:t>Il clima educativ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7120" y="1719000"/>
            <a:ext cx="84297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Comportamenti sconvenienti: saltare e correre per le femmine, giocare con le bambole per i masch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  <a:ea typeface="Arial"/>
              </a:rPr>
              <a:t>Si assecondano comportamenti sessualmnte tipicizzati nel gioco e in altri ambiti (es. approvati segnali di dipendenza per le femmine es. obbedire senza discutere; incoraggiate l’esplorazione, l’indipendenza per i masch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Arial"/>
              </a:rPr>
              <a:t>Giochi tipici del sesso opposto considerati indizio di sviluppo omosessuale o di atteggiamenti effemin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9T17:49:51Z</dcterms:created>
  <dc:creator>miro</dc:creator>
  <dc:description/>
  <dc:language>en-US</dc:language>
  <cp:lastModifiedBy>Miro</cp:lastModifiedBy>
  <dcterms:modified xsi:type="dcterms:W3CDTF">2014-01-29T17:30:51Z</dcterms:modified>
  <cp:revision>36</cp:revision>
  <dc:subject/>
  <dc:title>Giochi maschili e femminili</dc:title>
</cp:coreProperties>
</file>