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90F0-FCFB-4EA8-A501-066548D1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D385-6CB0-42C1-8690-42AAB703F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BB8F-DAEF-4F9C-A8A5-28833819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AE57-A7BC-4273-A15A-FA1BA470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CF7C2-6253-417B-971B-83BFC464E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CCA2-FD63-4801-85BB-368C4B50F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83DE-5813-474F-9E5C-0DEBCDE3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CC6D-A03E-47A7-9EE4-963EE0DA0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4E85-693B-4F11-8F33-D08E98E1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2E4C-4715-4827-BA78-646BCE81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9336-491E-4789-B203-A07E02A7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A48-558C-4367-880F-7B40DB54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DB06-C26B-4DB4-A5CE-20C14304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BF8D-47D1-4D56-BF74-5783D85E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0E18-A689-43CC-A691-4C00BA4E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A9665-496D-45F8-8E12-6530E149B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A7A1F-FBFE-4A6E-A732-7CA07A833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C93E-FA61-4E82-AFBC-6055B1EAB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D7D1-9104-483B-ABA3-381D2F21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496-29C8-4C0B-8FAB-EC7ECC3B6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CCE3-C78B-43E6-B218-F5993B5B9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4B5-6BE8-4F9D-84C4-7A3BC753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00AE-9FDD-48EA-B7EC-AEBCA881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C146-55A3-4EF9-BFA5-0F1333F3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530B-0FB6-4C3E-9961-5F6CC959798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281D-FAAA-4B7C-80E7-E073305609BE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440cb4"/>
                </a:solidFill>
                <a:latin typeface="Arial"/>
              </a:rPr>
              <a:t>Storia dei </a:t>
            </a:r>
            <a:br>
              <a:rPr sz="4400"/>
            </a:br>
            <a:r>
              <a:rPr b="0" lang="hr-HR" sz="4400" spc="-1" strike="noStrike">
                <a:solidFill>
                  <a:srgbClr val="440cb4"/>
                </a:solidFill>
                <a:latin typeface="Arial"/>
              </a:rPr>
              <a:t>        giocattoli </a:t>
            </a:r>
            <a:br>
              <a:rPr sz="4400"/>
            </a:b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 giochi dei bambini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2f1311"/>
                </a:solidFill>
                <a:latin typeface="Arial"/>
              </a:rPr>
              <a:t>Mr.sc. Nevia Močinić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Picture 6" descr="casetta_gioco"/>
          <p:cNvPicPr/>
          <p:nvPr/>
        </p:nvPicPr>
        <p:blipFill>
          <a:blip r:embed="rId1"/>
          <a:stretch/>
        </p:blipFill>
        <p:spPr>
          <a:xfrm>
            <a:off x="468360" y="3500280"/>
            <a:ext cx="1824120" cy="19656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bambola_inglese"/>
          <p:cNvPicPr/>
          <p:nvPr/>
        </p:nvPicPr>
        <p:blipFill>
          <a:blip r:embed="rId2"/>
          <a:stretch/>
        </p:blipFill>
        <p:spPr>
          <a:xfrm>
            <a:off x="4788000" y="692280"/>
            <a:ext cx="1950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I giocattoli industri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Giocattoli a molla, elettrici, a vapore: es. trenino, automobiline, motociclette, battelli-giocattolo, aerei-giocattol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I giocattoli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entrano t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ra le necessit</a:t>
            </a:r>
            <a:r>
              <a:rPr b="0" lang="en-US" sz="24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  <a:ea typeface="Arial"/>
              </a:rPr>
              <a:t> domestiche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Infanzia considerata come potenzia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merc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Europa: 1880/1890 inizia ad espandersi l’industria dei giocattoli con la produzione di carri di pompieri, trenini, soldatini, bambole e case di bambol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Acquisto di giocattoli riservato alle famiglie benestant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America: Teddy Bear – il primo giocattolo industriale di massa (orsetto morbido e tenero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opo la seconda guerra mondial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412640"/>
            <a:ext cx="73864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aggiore attenzione nei confronti dei bisogni dell’infanz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 produttori di giocattoli sfruttano a loro favore lo spirito del temp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Mattel, un’industria leader nel settore, scopre il potere promozionale della televisio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Agisce sul piacere procurato dal giocattolo e sulla pressione del gruppo dei pari tramite la pubblici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Barbie – bambola frutto di un’attenta ricerca di merc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Armi giocattolo e il gioco della guerra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Uso delle armi giocattolo diffuso tra i bambini (soprattutto maschi) di tutte le epoch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rme pi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ù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frequenti di giochi di guerra: a) lottare per finta con le armi giocattolo; b) giocare con figure da combattimento, quali mostri, soldati, superero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Ricerche sugli effetti dei giochi di guerra: aumentano l’aggressivi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nel gioco, ma non il comportamento aggressivo a lungo termin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Atteggiamenti ambivalenti degli adul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2f1311"/>
                </a:solidFill>
                <a:latin typeface="Arial"/>
              </a:rPr>
              <a:t>Giocattoli attuali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341360"/>
            <a:ext cx="7386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elettroni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Videogiochi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Materiali da costruzione (es. mattoncini Lego, Duplo, ecc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classici (bambole e occorrente per la loro cura, giocattoli-elettrodomestici, batteria cucina, la casetta, tutti i tipi di veicoli, palle di tutti i tipi e dimensioni, ecc.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hi sociali (domino, memory, uomo, non t’arrabbiare, gioco dell’oca e simili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Le origini culturali del giocattol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9280" y="1598760"/>
            <a:ext cx="747072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vengono in parte dal mondo sacro: dai riti magici e religiosi, cerimonie sacre, danze, lotte rituali e pratiche divinatorie (es. palla – Maya; aquilone – Oriente;  sonagli, trottola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Provengono dalla sfera pratica ed economica: minuscoli ninnoli che imitano gli attrezzi usati dagli adulti, in terracotta, legno, stoffa      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I giocattoli nell’antichit</a:t>
            </a:r>
            <a:r>
              <a:rPr b="0" lang="en-US" sz="4000" spc="-1" strike="noStrike">
                <a:solidFill>
                  <a:srgbClr val="440cb4"/>
                </a:solidFill>
                <a:latin typeface="Arial"/>
                <a:ea typeface="Arial"/>
              </a:rPr>
              <a:t>à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268280"/>
            <a:ext cx="73864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Testimonianze sui giocattoli tratte da scavi archeologici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(es. tombe)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, fonti letterarie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 (testi di autori vari),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fonti</a:t>
            </a: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 artistiche (pitture, incisioni, decorazioni varie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2f1311"/>
                </a:solidFill>
                <a:latin typeface="Arial"/>
              </a:rPr>
              <a:t>I primi giocattoli: armi, aratri, oggetti di uso quotidiano in miniatura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, carrettini, burattini, bambole di argilla, cavallini a rotelle, minuscole stoviglie, pupazzi snodabili, trottole, astragali, statuine di anim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Differenze tra i ceti soci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0" name="Picture 5" descr="astragali3"/>
          <p:cNvPicPr/>
          <p:nvPr/>
        </p:nvPicPr>
        <p:blipFill>
          <a:blip r:embed="rId4"/>
          <a:stretch/>
        </p:blipFill>
        <p:spPr>
          <a:xfrm>
            <a:off x="5940360" y="5373720"/>
            <a:ext cx="146520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al tempo dei </a:t>
            </a:r>
            <a:br>
              <a:rPr sz="3600"/>
            </a:b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Greci e dei Romani 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ambini: imitazione delle occupazioni degli adulti (agricoltura, caccia, guerra, riti religiosi), gioco con le noci, con gli astragali, con le bambol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Bambine: imitazione delle faccende domestich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I giocattoli si regalavano alla nascita, per il compleanno e in occasione dei Saturnali (7 giorni dal 17 dicembre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3" name="Picture 4" descr="Bambola_romana"/>
          <p:cNvPicPr/>
          <p:nvPr/>
        </p:nvPicPr>
        <p:blipFill>
          <a:blip r:embed="rId4"/>
          <a:stretch/>
        </p:blipFill>
        <p:spPr>
          <a:xfrm>
            <a:off x="5724360" y="333360"/>
            <a:ext cx="165276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al Medioevo al Cinquecen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76500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Invasioni barbariche – portano miseria sociale e pover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 di commerc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Medioevo: giocattoli – costruiti in casa con mezzi di fortuna, forme rozze e materiali deperibili (legno, tessuto, cuoio), nominati dalle fonti letterari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Conservati giocattoli in osso, terracott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Non esiste il concetto di giocattolo come prodotto destinato ad un vasto merca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Il giocattolo serve a guidare i bambini verso futuri ruoli socia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440cb4"/>
                </a:solidFill>
                <a:latin typeface="Arial"/>
              </a:rPr>
              <a:t>Giocattoli del Medioev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341000"/>
            <a:ext cx="73864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  <a:ea typeface="Arial"/>
              </a:rPr>
              <a:t>Giocattoli tipici - spade, archi, fionde, giavellotti, cerbottane, cavallini di legno, mulini a vento, fischietti, bocce e birilli, figure di soldati in legno, ceramica e piombo, gioco degli scacchi e della dama, coltellini, bambole, ditali in bronzo, contenitori per aghi e anelli da cucit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8" name="Picture 4" descr="cavallino-gioc"/>
          <p:cNvPicPr/>
          <p:nvPr/>
        </p:nvPicPr>
        <p:blipFill>
          <a:blip r:embed="rId2"/>
          <a:stretch/>
        </p:blipFill>
        <p:spPr>
          <a:xfrm>
            <a:off x="5796000" y="5013360"/>
            <a:ext cx="1241280" cy="14540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cerbottana"/>
          <p:cNvPicPr/>
          <p:nvPr/>
        </p:nvPicPr>
        <p:blipFill>
          <a:blip r:embed="rId3"/>
          <a:stretch/>
        </p:blipFill>
        <p:spPr>
          <a:xfrm>
            <a:off x="3059280" y="5229360"/>
            <a:ext cx="1917360" cy="13064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bambola_ceramica"/>
          <p:cNvPicPr/>
          <p:nvPr/>
        </p:nvPicPr>
        <p:blipFill>
          <a:blip r:embed="rId4"/>
          <a:stretch/>
        </p:blipFill>
        <p:spPr>
          <a:xfrm>
            <a:off x="1116000" y="530064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dal Cinquecento al Settecen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Riflesso delle conoscenze tecniche dell’epoca (nuove invenzioni ottiche e meccaniche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struzione di giocattoli per bambini delle case aristocratich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mparsa di giocattoli popolari venduti alle fiere: trottole, cavallucci di legno e cartapesta, bambole di pezza e di leg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Maggiore importanza affidata al gioco da illustri pensatori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2f1311"/>
                </a:solidFill>
                <a:latin typeface="Arial"/>
              </a:rPr>
              <a:t>Compaiono giocattoli insoliti: lanterne magiche, ingegnosi giocattoli animati, giostre, raganelle, carte da gioco, case bambine, gioco dell’oc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Tipologie pi</a:t>
            </a:r>
            <a:r>
              <a:rPr b="0" lang="en-US" sz="3600" spc="-1" strike="noStrike">
                <a:solidFill>
                  <a:srgbClr val="440cb4"/>
                </a:solidFill>
                <a:latin typeface="Arial"/>
                <a:ea typeface="Arial"/>
              </a:rPr>
              <a:t>ù</a:t>
            </a:r>
            <a:r>
              <a:rPr b="0" lang="hr-HR" sz="3600" spc="-1" strike="noStrike">
                <a:solidFill>
                  <a:srgbClr val="440cb4"/>
                </a:solidFill>
                <a:latin typeface="Arial"/>
                <a:ea typeface="Arial"/>
              </a:rPr>
              <a:t> comuni di giocattoli nel passat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La bambola, la palla, il sonaglio, la trottola, le biglie, le statuine di animali, i cerchi, i carrettini, i cavallucci, i soldatini, le marionette, gli arredi domestici, gli attrezzi per il lavoro agricol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2f1311"/>
                </a:solidFill>
                <a:latin typeface="Arial"/>
              </a:rPr>
              <a:t>Materiali usati: creta, oro, bronzo, avorio, legno, terracot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440cb4"/>
                </a:solidFill>
                <a:latin typeface="Arial"/>
              </a:rPr>
              <a:t>I giocattoli nel XIX sec. e inizio XX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267920"/>
            <a:ext cx="7386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La pedagogia dell’800 esorta al gio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Sorgono laboratori artigianali e piccole fabbriche per la produzione di giocatto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Venditori ambulanti smerciano i prodotti nelle fiere e nei mercat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</a:rPr>
              <a:t>Giocattoli per bambini: soldatini, piccole armi, cavallini, trenini, piccoli battelli, piccole automobili, il teatrino con marionette e burattini, giochi di societ</a:t>
            </a:r>
            <a:r>
              <a:rPr b="0" lang="en-US" sz="2800" spc="-1" strike="noStrike">
                <a:solidFill>
                  <a:srgbClr val="2f1311"/>
                </a:solidFill>
                <a:latin typeface="Arial"/>
                <a:ea typeface="Arial"/>
              </a:rPr>
              <a:t>à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2f1311"/>
                </a:solidFill>
                <a:latin typeface="Arial"/>
                <a:ea typeface="Arial"/>
              </a:rPr>
              <a:t>Giocattoli per bambine: bambole, casa delle bambole con arredi e corredi, pupazzi, cerchi, birill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7:19:06Z</dcterms:created>
  <dc:creator>miro</dc:creator>
  <dc:description/>
  <dc:language>en-US</dc:language>
  <cp:lastModifiedBy>Miro</cp:lastModifiedBy>
  <dcterms:modified xsi:type="dcterms:W3CDTF">2012-02-04T17:17:20Z</dcterms:modified>
  <cp:revision>17</cp:revision>
  <dc:subject/>
  <dc:title>I giocattoli </dc:title>
</cp:coreProperties>
</file>