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A74C-C6F5-4E78-A677-728C1EA05CF7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0017-C064-4FA2-8E88-90299C66D608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35D-A348-4563-9A79-A6EA9B55A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B4B4-C2A8-4720-B3B2-A1CD2F5E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B797-5A80-4D07-B3A4-D0074017C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4915-70FD-4991-A34B-E8440A24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6A5B5-408D-4478-B0D4-4ACAE913B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0B4D5-BDBE-41E7-8422-8657377A8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5466D-DC3E-4E4F-8B00-6BC0827A3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3621-D280-485F-B465-245BF2B2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6EAC3-95AD-4E20-AFBA-78B6C491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DCD3-B743-4311-95ED-D84475C1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9E94-0617-4D6F-B17E-A5283646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2A5A-3898-465F-938A-9A3175B8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69D6C-F2E8-45CE-92A4-18E52884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1586-A0A8-4C14-85E2-2D2C23E8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31DC-A296-4C68-8DBC-5743FF5F2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E903-1BD6-4E35-B273-F7A4D003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46480-E242-4A56-BE39-A8F0DB6B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68B-3C50-4AE6-98FB-126A72069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8E0-4F1B-4FAF-B473-94496111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A73-F7A5-4CA6-9509-D7076FEE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5EF5-83B6-4108-8027-8311797C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57C4-AF1C-4C1A-B73A-A394650A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666A-8EFA-4572-A931-CB647BB0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2C31-D14E-40CC-B9EF-E838F224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A044-4217-45D2-B78E-B25E04A4B655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39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69400" y="-84960"/>
            <a:ext cx="2431800" cy="2252880"/>
            <a:chOff x="7169400" y="-84960"/>
            <a:chExt cx="2431800" cy="225288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69400" y="-84960"/>
              <a:ext cx="2431800" cy="2252880"/>
              <a:chOff x="7169400" y="-84960"/>
              <a:chExt cx="2431800" cy="225288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69400" y="-84960"/>
                <a:ext cx="2431800" cy="2252880"/>
                <a:chOff x="7169400" y="-84960"/>
                <a:chExt cx="2431800" cy="225288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560" y="112680"/>
                  <a:ext cx="24444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22600" y="520560"/>
                  <a:ext cx="42948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9840" y="283320"/>
                  <a:ext cx="80640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79600" y="-24840"/>
                  <a:ext cx="12106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8600" y="1421640"/>
                  <a:ext cx="26964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040" y="1276560"/>
                  <a:ext cx="2887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2800" y="334800"/>
                  <a:ext cx="28872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63120" y="215640"/>
                  <a:ext cx="28548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00F2-D10B-4060-A9B6-CF2610982625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5840" y="1356840"/>
            <a:ext cx="8424720" cy="2786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IL GIOCO</a:t>
            </a:r>
            <a:br>
              <a:rPr sz="4400"/>
            </a:b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SOCI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71680" y="4857480"/>
            <a:ext cx="85723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rso di studio: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Educazione Prescol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I giochi e i bambi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cente: Mr.sc. Nevia Močini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Le interazioni faccia a facc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Funzione di conoscersi e adattarsi tra madre e figlio/a; padre e figlio/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timolazioni della madre: sorride, parla, guarda il bambino negli occh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eazioni del bambino: gradualmente riesce a sostenere lo sguardo, sorride, vocalizz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Scambi vocali – definiti protodialoghi, manifestano gioia ed eccitazi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Il gioco sociale nel primo </a:t>
            </a:r>
            <a:br>
              <a:rPr sz="4400"/>
            </a:b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anno di vi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1714320"/>
            <a:ext cx="845820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ai sei mesi in poi aumenta l’interesse per l’ambi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eciproco piacere e divertimento condiviso nel gioco del cuc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ahoma"/>
              </a:rPr>
              <a:t>ù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, nel costruire e distruggere una torre di cubi, nel raccogliere e gettare o mettere e togliere un oggetto, nell’infilare e sfilare, nel recitare la filastrocca e battere le man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Attenzione sul modo in cui si fanno le c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Il gioco sociale nel secondo anno di vit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l bambino diventa autonomo – inizia a cammin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aggiore attenzione dei genitori all’ambiente e alla sicurezza del bambi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ioco delle madri: di tipo didattico con molte stimolazioni verba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ioco dei padri: orientato all’azione, all’esplorazione e alla manipolazione di ogget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Il gioco tra bambini nella prima infanzi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Bambini aperti al contatto sociale con un coetane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Interagiscono prevalentemente attraverso gli oggetti, imitandosi a vicend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ispondono all’iniziativa del compagno con un’azione coere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Giochi: dare e prendere, nascondersi e farsi trovare, indicare e nominare, ec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La funzione del gioco socia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714320"/>
            <a:ext cx="77724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ontesto di sviluppo utile per conoscersi reciprocamente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mettere in atto comportamenti affiliativi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rinsaldare il legame affettivo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creare un sistema di conoscenze e significati comuni, come base per l’apprendimento del linguaggio e di altri processi sociocognitiv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mic Sans MS"/>
              </a:rPr>
              <a:t>Fasi di sviluppo del gioco sociale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85800" y="17859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Bambino spettatore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. Il bambino resta all'estremità del gruppo, probabilmente giocando senza entusiasmo con un giocattolo di sua scelta, ma guarda appena gli altri bambini giocare per conto lor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Gioco solitari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. Il bambino è intento a giocare con i materiali disponibili ma resta completamente sol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omic Sans MS"/>
              </a:rPr>
              <a:t>Continuazion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178596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Gioco parallelo. 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Il bambino fa le stesse cose che un gruppo di bambini sta facendo in quel momento ma non interagisce con loro in alcun modo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Gioco cooperativo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. Il bambino gioca effettivamente con gli altri bambini - assume dei ruoli (- Tu sarai la mamma e io il papà), impartisce istruzioni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, offre e chiede aiut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6:35:01Z</dcterms:created>
  <dc:creator>Korisnik</dc:creator>
  <dc:description/>
  <dc:language>en-US</dc:language>
  <cp:lastModifiedBy>Miro</cp:lastModifiedBy>
  <dcterms:modified xsi:type="dcterms:W3CDTF">2013-11-09T19:52:33Z</dcterms:modified>
  <cp:revision>35</cp:revision>
  <dc:subject/>
  <dc:title>IL RAPPORTO FRA LA DIDATTICA DELLA NATURA E SOCIETÀ E LE ALTRE SCIENZE</dc:title>
</cp:coreProperties>
</file>