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E2FC-DB2F-4ED1-96BE-6E88A73A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264-CBF5-4375-8119-B9938C6A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703-64BC-4680-828A-9EBC6747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E26-1667-455E-9B76-6A872C67B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0677D-7649-4CE1-830C-C9C04D13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8A8A-EC52-4E73-AF77-CDE3E18B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FBBE-22FB-44F1-AE99-7E46EFFA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DAD9-3D83-4094-A20A-F49A6E12B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2AF5-C38A-485E-8B18-E3CB9D63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07A4-FBC0-401A-B53B-E2C48641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EF61-8AA4-40B2-9DE9-FA8DAF40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5FA-2C03-49AF-81CC-626A86D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1C09B-0075-481D-9B37-7087F9A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10D98-D9C5-4CB5-A112-6F267019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87B29-5B7D-44B5-8B2B-7560EEA9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9271F-0A92-4A5F-8C8C-0365A1EEA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C3917-CAC1-4DBA-85AC-AB452DB70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82C4-9782-47D2-875F-541121E9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DC1-981F-46A1-A488-9FDC9A2F1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BD9F-9AB2-4C56-962D-2CC59EEA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682F-6EFA-470C-BCA1-6B8C1CC5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B0C-1442-47C7-8EAD-9D771CCC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BCE1-AB6E-4135-B57C-33D7C25A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D040-6E4E-4E21-ADFE-503DE39F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E95E-3362-4E90-AC67-361B13B4485F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7457-7475-4A45-9F07-44EF5D4721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20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6600" spc="-1" strike="noStrike">
                <a:solidFill>
                  <a:srgbClr val="006633"/>
                </a:solidFill>
                <a:latin typeface="Garamond"/>
              </a:rPr>
              <a:t>I giochi di fantasia e i giochi con regole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aramond"/>
              </a:rPr>
              <a:t>I giochi e i bamb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200" spc="-1" strike="noStrike">
                <a:solidFill>
                  <a:srgbClr val="006633"/>
                </a:solidFill>
                <a:latin typeface="Garamond"/>
              </a:rPr>
              <a:t>I giochi con regol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econdo Piaget rappresentano la forma p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evoluta del gi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Iniziano verso la fine dell’età prescol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Caratterizzano l’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scola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Hanno carattere convenzionale, sono scarsamente flessibili e modificabi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Mettono alla prova le capac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el bambin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Verificano la perseveranza nel raggiungere un obiettiv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6633"/>
                </a:solidFill>
                <a:latin typeface="Garamond"/>
              </a:rPr>
              <a:t>Caratteristiche dei giochi con regole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50920" y="1428480"/>
            <a:ext cx="8642160" cy="50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lmeno due partecipanti in competizione tra loro, infatti, s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i gioca per vince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l comportamento dei giocator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regolato da regole prestabil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Le regole sono esplicite, possono essere comunicate e devono essere accettate e condivise dai giocatori prima di iniziare a gio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I ruoli sono definiti a prio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Hanno dei nomi che li rendono riconoscibil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Fanno parte delle tradizioni di particolari comun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e momenti stor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200" spc="-1" strike="noStrike">
                <a:solidFill>
                  <a:srgbClr val="006633"/>
                </a:solidFill>
                <a:latin typeface="Garamond"/>
              </a:rPr>
              <a:t>Esempi di giochi con regole tradizional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6840" y="1642680"/>
            <a:ext cx="404028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t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Quattro cant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ascond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ubabandie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e belle statu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uardie e lad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gioco del fazzol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gioco delle big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4720" y="1714680"/>
            <a:ext cx="4041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gioco dell’elas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’acchiapp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a palla avvelen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gioco del pand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gioco dei sassoli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6633"/>
                </a:solidFill>
                <a:latin typeface="Garamond"/>
              </a:rPr>
              <a:t>Trasformazione dei giochi </a:t>
            </a:r>
            <a:br>
              <a:rPr sz="4400"/>
            </a:br>
            <a:r>
              <a:rPr b="1" lang="hr-HR" sz="4400" spc="-1" strike="noStrike">
                <a:solidFill>
                  <a:srgbClr val="006633"/>
                </a:solidFill>
                <a:latin typeface="Garamond"/>
              </a:rPr>
              <a:t>simbolici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Dipende da nuove abil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cognitive e sociali del bambi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I temi del gioco simbolico non dipendono p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all’esperienza diretta del bambino ma diventano temi di fanta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Il gioco viene condiviso con altri bambini, con ruoli ben defini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Compare la pianificazione esplicita delle azioni di gioco (“</a:t>
            </a:r>
            <a:r>
              <a:rPr b="0" i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facciamo che io ero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”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006633"/>
                </a:solidFill>
                <a:latin typeface="Garamond"/>
              </a:rPr>
              <a:t>Il gioco di fantasi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4358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evede ruoli immaginari (es. mamma e figlia, medico e paziente, ladro e poliziotto, negoziante e cliente, ec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i basa su trame di storie inven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ottolinea la natura collettiva del gioco e la presenza di ruoli socialmente codific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a coscienza di muoversi in un mondo immaginario viene segnalata attraverso la mimica, la contraffazione della voce, l’esagerazione dei gesti, la canonic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delle a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Non dipende dalle risorse effettivamente a dispos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33"/>
                </a:solidFill>
                <a:latin typeface="Garamond"/>
              </a:rPr>
              <a:t>Le caratteristiche del gioco</a:t>
            </a:r>
            <a:br>
              <a:rPr sz="4000"/>
            </a:br>
            <a:r>
              <a:rPr b="1" lang="hr-HR" sz="4000" spc="-1" strike="noStrike">
                <a:solidFill>
                  <a:srgbClr val="006633"/>
                </a:solidFill>
                <a:latin typeface="Garamond"/>
              </a:rPr>
              <a:t> di fantasia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lcuni ruoli sono preferibili ad alt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e regole non sono stabilite in anticipo, ma vengono concordate dai giocatori stessi mentre stanno giocan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 volte si esce dal proprio ruolo per interpretarne un alt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engono consolidate le conoscenze sociali e messe in pratica le conoscenze sui ru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ibe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ai vincoli re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800" spc="-1" strike="noStrike">
                <a:solidFill>
                  <a:srgbClr val="006633"/>
                </a:solidFill>
                <a:latin typeface="Garamond"/>
              </a:rPr>
              <a:t>Metacomunicazione e gioco </a:t>
            </a:r>
            <a:br>
              <a:rPr sz="3800"/>
            </a:br>
            <a:r>
              <a:rPr b="1" lang="hr-HR" sz="3800" spc="-1" strike="noStrike">
                <a:solidFill>
                  <a:srgbClr val="006633"/>
                </a:solidFill>
                <a:latin typeface="Garamond"/>
              </a:rPr>
              <a:t>di fantas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Bisogna comunicare ai compagni chi sono nella finzione, che cosa stanno facendo, quale funzione hanno gli oggetti usati, in quale situazione immaginaria si trova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pesso escono e poi rientrano nella finzio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Concordano assieme i ruoli e le reg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i comunicano i cambiamenti nel corso del gi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006633"/>
                </a:solidFill>
                <a:latin typeface="Garamond"/>
              </a:rPr>
              <a:t>Componenti del gioco di fantasia </a:t>
            </a:r>
            <a:br>
              <a:rPr sz="4000"/>
            </a:br>
            <a:r>
              <a:rPr b="1" lang="hr-HR" sz="4000" spc="-1" strike="noStrike">
                <a:solidFill>
                  <a:srgbClr val="006633"/>
                </a:solidFill>
                <a:latin typeface="Garamond"/>
              </a:rPr>
              <a:t>secondo la Garvey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1. Ruoli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) funzionali al contesto in cui il bambino si trova: es. caset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b) ruoli familiari (coppie di membri di una famigli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c) ruoli caratteristici – riguardano i mestieri e le professioni che i bambini conoscono meglio: es. dottore, maestra, poliziotto, ballerina, cantante, ec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Componenti del gioco di fantas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2. Piano di gioco (sequenza coordinata di azioni riguardanti un tema – riparare qualcosa, fare un viaggio, guarire un malato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evede un repertorio limitato di azioni e ruoli attinti dalle esperienze personali,  dai personaggi televisivi o pubblicit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Non vengono accettate modifiche non coerenti col piano di gi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Componenti del gioco di fantas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3. Oggetti (presenza o meno di particolari oggetti: es. telefonini p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ò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favorire un particolare tipo di gioc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Gli oggetti possono essere usati con funzioni nuove, concordate dai giocato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Se non ci sono, gli oggetti possono essere inventa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200" spc="-1" strike="noStrike">
                <a:solidFill>
                  <a:srgbClr val="006633"/>
                </a:solidFill>
                <a:latin typeface="Garamond"/>
              </a:rPr>
              <a:t>Componenti del gioco di fantas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4. Scenari o situazioni di gio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iber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ai vincoli situazion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Trasformazioni simboliche degli oggetti e dei luoghi o scenari in funzione dell’elaborazione menta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Si richiede ai partecipanti una condivisione della rappresentazione mentale al fine di creare uno scenario di gioco coer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Negoziazione sul come si gio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9:32:58Z</dcterms:created>
  <dc:creator>miro</dc:creator>
  <dc:description/>
  <dc:language>en-US</dc:language>
  <cp:lastModifiedBy>Miro</cp:lastModifiedBy>
  <dcterms:modified xsi:type="dcterms:W3CDTF">2013-11-20T22:04:26Z</dcterms:modified>
  <cp:revision>22</cp:revision>
  <dc:subject/>
  <dc:title>I giochi con le regole</dc:title>
</cp:coreProperties>
</file>