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wmf" ContentType="image/x-wmf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03A2-6047-4ED8-B730-CAD4CA20C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912A-5E2D-410C-B2D2-AA8B412BBA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D3A-BE09-49E4-B989-ADD14E324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AFA2-20ED-4279-9889-94432F24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A596-74D6-4088-8C15-459B35C3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021F-146B-4CA9-AD51-E2664A6A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D5019-D9DE-40F6-BB91-FA17B0ACC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A064-63E9-47F5-84C9-FB09E540D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A5DF-4B2F-4319-80D5-24AD004A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4BA6-D1B9-4CDE-AD45-F129E2F5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9FAE-5BFB-48C7-BE30-0F024C359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7ABA-E693-4B66-90DB-6C21DEA5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A93-940A-4E13-9F8F-3035E21A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487F-A869-4A4E-946F-1F0775192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04B9-0D25-467F-BF70-5CD286F5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B964-89F1-4BBF-A4AE-2A6AE6E7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AF3AB-3854-4935-B263-D734C85D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F91D-687E-4715-9EA5-8676D4FE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576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0480" y="182844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74140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9576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0480" y="3858480"/>
            <a:ext cx="176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C03A-2FEB-409B-81A6-D92FE5EA9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96CF-B557-4E21-AC8C-91F1C2F0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649-EE85-4630-B307-0BED98161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FD6A-8202-4424-AD03-80B87D89F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41400" y="762120"/>
            <a:ext cx="5484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3183-6B27-412A-93AD-BD5BA9004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6432-44A2-42D3-8D25-1AD1F7D3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51920" y="385848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27F-7FC4-4B14-B001-E91D9D5C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140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51920" y="1828440"/>
            <a:ext cx="267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1400" y="3858480"/>
            <a:ext cx="5484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350A-F4E3-4A50-A087-5228E3C0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3549-CBDD-4128-9227-CB57362CE2FD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1400" y="1828440"/>
            <a:ext cx="5484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683280" indent="-26280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05156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47204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92520" indent="-21024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5D7A2-6F5A-4FC2-B8DE-3B28C23A7C95}" type="slidenum">
              <a:rPr b="0" lang="en-US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743200" y="1752120"/>
            <a:ext cx="5486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79551b"/>
                </a:solidFill>
                <a:latin typeface="Arial"/>
              </a:rPr>
              <a:t>I giochi tra storia e cultura</a:t>
            </a:r>
            <a:endParaRPr b="0" lang="en-US" sz="36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700360" y="2997000"/>
            <a:ext cx="54864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Arial"/>
              </a:rPr>
              <a:t>I giochi dei bambini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000" spc="-1" strike="noStrike">
                <a:solidFill>
                  <a:srgbClr val="79551b"/>
                </a:solidFill>
                <a:latin typeface="Arial"/>
              </a:rPr>
              <a:t>Mr.sc. Nevia Močinić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56920" y="762120"/>
            <a:ext cx="5869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Soggetto , stile, materia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356840" y="15717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l volto di un uomo, di una donna, il teschio, il muso di un particolare animale (es. falco, bufalo, coccodrillo, iena, antilope, ecc.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Forma altamente stilizzata, codificata dalla tradizio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5360" indent="-3153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Materiali: legno intagliato o scolpito e poi dipinto con pigmenti naturali, pietre morbide, pelle, tessuti, elementi decorativi: denti, conchiglie, semi, iuta, ecc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- don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4" name="Content Placeholder 5" descr="maschere-africane-donna-uomo.jpg"/>
          <p:cNvPicPr/>
          <p:nvPr/>
        </p:nvPicPr>
        <p:blipFill>
          <a:blip r:embed="rId1"/>
          <a:stretch/>
        </p:blipFill>
        <p:spPr>
          <a:xfrm>
            <a:off x="1785960" y="1643040"/>
            <a:ext cx="63723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- uomin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6" name="Content Placeholder 3" descr="maschera-africana3jpg.jpg"/>
          <p:cNvPicPr/>
          <p:nvPr/>
        </p:nvPicPr>
        <p:blipFill>
          <a:blip r:embed="rId1"/>
          <a:stretch/>
        </p:blipFill>
        <p:spPr>
          <a:xfrm>
            <a:off x="1214280" y="1857240"/>
            <a:ext cx="4367520" cy="3886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maschera-pietra.jpg"/>
          <p:cNvPicPr/>
          <p:nvPr/>
        </p:nvPicPr>
        <p:blipFill>
          <a:blip r:embed="rId2"/>
          <a:stretch/>
        </p:blipFill>
        <p:spPr>
          <a:xfrm>
            <a:off x="5929200" y="1714680"/>
            <a:ext cx="244980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42680" y="762120"/>
            <a:ext cx="65833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Maschere africane </a:t>
            </a:r>
            <a:br>
              <a:rPr sz="3200"/>
            </a:b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- anima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19" name="Content Placeholder 3" descr="maschera-leopardo-antilope.jpg"/>
          <p:cNvPicPr/>
          <p:nvPr/>
        </p:nvPicPr>
        <p:blipFill>
          <a:blip r:embed="rId1"/>
          <a:stretch/>
        </p:blipFill>
        <p:spPr>
          <a:xfrm>
            <a:off x="2071800" y="1714680"/>
            <a:ext cx="2939760" cy="450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maschera-bufalo.jpg"/>
          <p:cNvPicPr/>
          <p:nvPr/>
        </p:nvPicPr>
        <p:blipFill>
          <a:blip r:embed="rId2"/>
          <a:stretch/>
        </p:blipFill>
        <p:spPr>
          <a:xfrm>
            <a:off x="5286240" y="428760"/>
            <a:ext cx="3314880" cy="59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836640"/>
            <a:ext cx="6696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civil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700280"/>
            <a:ext cx="7399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Ogni volta che una grande cultura riesce ad emergere dal caos originale, s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contra una sensibile regressione delle forze simulacro e vertigin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se veng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llora svuotate della loro antica importanza, respinte alla periferia della vita pubblica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dotte a ruoli sempre più modesti e intermittenti, se non addirittura clandestini 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leciti, oppure confinate nell’ambito limitato e regolato dei giochi e della fantasia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 maschere e travestimenti diventano ornamenti liturgici, accessori del cerimoniale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a danza o del teatr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99640" y="762120"/>
            <a:ext cx="732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maschere, ornamenti della danz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640" y="1828440"/>
            <a:ext cx="725472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25" name="Picture 7" descr="maschera-moderna.jpeg"/>
          <p:cNvPicPr/>
          <p:nvPr/>
        </p:nvPicPr>
        <p:blipFill>
          <a:blip r:embed="rId1"/>
          <a:stretch/>
        </p:blipFill>
        <p:spPr>
          <a:xfrm>
            <a:off x="1428840" y="20001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maschera-veneziana.jpg"/>
          <p:cNvPicPr/>
          <p:nvPr/>
        </p:nvPicPr>
        <p:blipFill>
          <a:blip r:embed="rId2"/>
          <a:srcRect l="0" t="13020" r="0" b="12164"/>
          <a:stretch/>
        </p:blipFill>
        <p:spPr>
          <a:xfrm>
            <a:off x="4714920" y="1571760"/>
            <a:ext cx="2693880" cy="201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maschere-moderne.jpg"/>
          <p:cNvPicPr/>
          <p:nvPr/>
        </p:nvPicPr>
        <p:blipFill>
          <a:blip r:embed="rId3"/>
          <a:stretch/>
        </p:blipFill>
        <p:spPr>
          <a:xfrm>
            <a:off x="4429080" y="3643200"/>
            <a:ext cx="3587760" cy="25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71640" y="762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derivati da rituali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13880" y="1557000"/>
            <a:ext cx="77454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l gioco è interpretato come territorio di costruzione ed esibizione </a:t>
            </a:r>
            <a:r>
              <a:rPr b="1" lang="hr-HR" sz="2800" spc="-1" strike="noStrike">
                <a:solidFill>
                  <a:srgbClr val="79551b"/>
                </a:solidFill>
                <a:latin typeface="Palatino Linotype"/>
              </a:rPr>
              <a:t>dell’appartenenza identitari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ei membri di una data cultura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9551b"/>
                </a:solidFill>
                <a:latin typeface="Palatino Linotype"/>
              </a:rPr>
              <a:t>L’aquilon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: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iventa un gioco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in Europa verso la fine del XVII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lo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rima di diventare un gioc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rappresentava nell’estremo oriente l’anima staccata del su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proprietario rimasto a terra ma collegato magicamente alla fragile armatura di cart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abbandonata ai vortici dei vent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41400" y="642960"/>
            <a:ext cx="5484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'aquilone 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785880" y="1214280"/>
            <a:ext cx="7786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n Corea si fanno volare gli aquiloni nel giorno del capodanno lunare, ripetendo la frase “mandar via la sfortuna e ottenere la fortuna”. Mentre l'aquilone vola alto nel cielo, lo spirito di chi lo fa volare si solleva scacciando la malasorte e si dà il benvenuto alla buona sorte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Qualche volta si esprimono anche desideri specifici più personali. In questo modo, gli aquiloni tradizionali coreani sono stati trasmessi da generazione in generazione per circa 1.300 ann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0" y="713880"/>
            <a:ext cx="54849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79551b"/>
                </a:solidFill>
                <a:latin typeface="Palatino Linotype"/>
              </a:rPr>
              <a:t>L’altalena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: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85880" y="1428840"/>
            <a:ext cx="75722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Nell’India vedica chi offre un sacrificio si dondola sull’altalena per aiutare il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ole a risalire nel cielo. Si ritiene che l’oscillante traiettoria dell’altalen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olleghi il cielo e la terr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39480" indent="-3394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Nell’antica Greci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mboleggia il passaggio dall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terr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al regno dei morti di Erigone che si impiccò all’albero cresciuto dal corpo del padre Icario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, oppure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un’espiazione simbolica delle ragazze ateniesi per la morte di Erigon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79551b"/>
                </a:solidFill>
                <a:latin typeface="Palatino Linotype"/>
              </a:rPr>
              <a:t>Il gioco della palla </a:t>
            </a:r>
            <a:br>
              <a:rPr sz="3200"/>
            </a:b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13880" y="1285920"/>
            <a:ext cx="7572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Il gioco della palla era un rituale radicato nelle culture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ell’America centra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ven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va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praticato già prima del 1400 a.C. nelle basse zone tropicali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dove cresce l’albero della gomm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l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e partite venivano giocate tra due individui o tra due squadr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con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gnificati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rituali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 svolgevano su larghi campi costruiti in pietra e si concludevano a volte con sacrifici umani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47640" y="549000"/>
            <a:ext cx="667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origini del gioc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26560" y="1267920"/>
            <a:ext cx="7705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è più antico della cultura in quanto giocato dagli animali ancor prima degli uomini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’analisi del gioco ci consente di definirlo essenzialmente come attività: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liber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: il gioco è libero, deve essere definito come un’attività volontaria font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i gioia e di divertimento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circoscritt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ntro certo limiti di tempo e di spazio fissati in anticipo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79551b"/>
                </a:solidFill>
                <a:latin typeface="Palatino Linotype"/>
              </a:rPr>
              <a:t>di finzione:</a:t>
            </a: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ccompagnata dalla consapevolezza specifica di una realtà divers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 irreale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400" spc="-1" strike="noStrike">
                <a:solidFill>
                  <a:srgbClr val="79551b"/>
                </a:solidFill>
                <a:latin typeface="Palatino Linotype"/>
              </a:rPr>
              <a:t>ordinata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da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egole precise, arbitrarie, irrevocabili che bisogna accettare come tali e ch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presiedono al corretto svolgimento della partita. Chi bara, anche se le infrange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inge almeno di rispettar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della pall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928440" y="1828440"/>
            <a:ext cx="72975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Le più antiche palle di gomma conosciute provengono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l centroameric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av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vano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un diametro di circa 20 centimetri (all'incirca la dimensione di una pallone d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allavolo)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e un peso oscillante tra i 3 e i 4 chilogrammi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(15 x in più di quella attuale)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gli studiosi ritengono che la palla usata nel gioco veniva colpita con le anche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ssomigliava alla pallavolo senza la ret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Significato del gioco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071720" y="1642680"/>
            <a:ext cx="715464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per i Maya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simboleggiava la lotta tra i signori dell'oltretomba e i loro avversari terrestri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gli Aztechi vedevano nel gioco la lotta tra le forze della notte, capeggiate dalla luna e dalle stell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 contro il so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 volte 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il gioco della palla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era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un metodo per risolvere i conflitti senza arrivare alla vera e propria guerr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32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moderne 1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11280" y="1285920"/>
            <a:ext cx="781848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o Caillois, nelle società modern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lea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, cioè l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ompetizione e 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la fortuna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, sostituiscono la coppia maschera-vertigine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I grandi giochi olimpici, che fanno la loro comparsa in quasi tutte le civiltà,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inaugurano e offrono l’esempio di una rivalità circoscritta e regolata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iene posto alla base di ogni carriera amministrativa, militare, universitari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o giudiziaria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La totalità della vita collettiva poggia su un equilibrio precario e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ariabile fra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gon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e l’</a:t>
            </a:r>
            <a:r>
              <a:rPr b="0" i="1" lang="en-US" sz="2800" spc="-1" strike="noStrike">
                <a:solidFill>
                  <a:srgbClr val="79551b"/>
                </a:solidFill>
                <a:latin typeface="Palatino Linotype"/>
              </a:rPr>
              <a:t>alea,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vale a dire fra il merito e il caso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competitiv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999720" y="1828440"/>
            <a:ext cx="7226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I</a:t>
            </a:r>
            <a:r>
              <a:rPr b="0" lang="it-IT" sz="2800" spc="-1" strike="noStrike">
                <a:solidFill>
                  <a:srgbClr val="79551b"/>
                </a:solidFill>
                <a:latin typeface="Palatino Linotype"/>
              </a:rPr>
              <a:t> giochi più competitivi appartengano al bagaglio culturale delle società industriali, caratterizzate da una forte gerarchia e competitività nei rapporti sociali.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Sport moderni: calcio, pallacanestro, 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2800" spc="-1" strike="noStrike">
                <a:solidFill>
                  <a:srgbClr val="79551b"/>
                </a:solidFill>
                <a:latin typeface="Palatino Linotype"/>
              </a:rPr>
              <a:t>Sport da vertigine: canyoning, base e bungee jumping, rafting, paracadutismo, windsurf, immersione in apnea, motocross, skateboard ...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920" y="762120"/>
            <a:ext cx="7183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n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moderne - giostr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7326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nvece le fiere e i luna-park appaiono come lo spazi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ervato agli strumenti d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vertigine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e giost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 le montagne russ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no appositamente costruite per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provocare un panico visceral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46" name="Picture 6" descr="montagne russe"/>
          <p:cNvPicPr/>
          <p:nvPr/>
        </p:nvPicPr>
        <p:blipFill>
          <a:blip r:embed="rId1"/>
          <a:stretch/>
        </p:blipFill>
        <p:spPr>
          <a:xfrm>
            <a:off x="1928880" y="3500280"/>
            <a:ext cx="2773440" cy="2519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GIOSTRA"/>
          <p:cNvPicPr/>
          <p:nvPr/>
        </p:nvPicPr>
        <p:blipFill>
          <a:blip r:embed="rId2"/>
          <a:stretch/>
        </p:blipFill>
        <p:spPr>
          <a:xfrm>
            <a:off x="5000760" y="3500280"/>
            <a:ext cx="3255840" cy="24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43080" y="762120"/>
            <a:ext cx="608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Carnevale – maschere moder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43000" y="1828440"/>
            <a:ext cx="70833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Un esempio di sopravvivenza dell’antica maschera degli stregoni è la </a:t>
            </a:r>
            <a:r>
              <a:rPr b="1" lang="en-US" sz="2800" spc="-1" strike="noStrike">
                <a:solidFill>
                  <a:srgbClr val="79551b"/>
                </a:solidFill>
                <a:latin typeface="Palatino Linotype"/>
              </a:rPr>
              <a:t>maschera</a:t>
            </a: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grottesca del Carnevale. 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150" name="Picture 4" descr="zvoncari1"/>
          <p:cNvPicPr/>
          <p:nvPr/>
        </p:nvPicPr>
        <p:blipFill>
          <a:blip r:embed="rId1"/>
          <a:stretch/>
        </p:blipFill>
        <p:spPr>
          <a:xfrm>
            <a:off x="2071800" y="3286080"/>
            <a:ext cx="2843280" cy="2627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zvoncari drappi"/>
          <p:cNvPicPr/>
          <p:nvPr/>
        </p:nvPicPr>
        <p:blipFill>
          <a:blip r:embed="rId2"/>
          <a:stretch/>
        </p:blipFill>
        <p:spPr>
          <a:xfrm>
            <a:off x="5500800" y="2786040"/>
            <a:ext cx="15174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640" y="761760"/>
            <a:ext cx="725472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e i bambini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52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hi lavora con i bambini nota con evidenza che quelli con problemi non partecipa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i giochi, tendono ad isolarsi, stanno in disparte, non sanno giocare o non poss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giocar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 gioco è connesso al piacere specifico che ricaviamo d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so, ma poi si rivela estremamente legato alla capacità di </a:t>
            </a:r>
            <a:r>
              <a:rPr b="0" i="1" lang="en-US" sz="2400" spc="-1" strike="noStrike">
                <a:solidFill>
                  <a:srgbClr val="79551b"/>
                </a:solidFill>
                <a:latin typeface="Palatino Linotype"/>
              </a:rPr>
              <a:t>stare al gioco e nel gioco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lla capacità di saper accettare e abitare lo spazio del gioco e della relazione, il su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chio e il suo inevitabile squilibri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Recuperare e conoscere i giochi della propria tradizion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è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importante per l'educazione e può essere un modo per avvicinarsi alle altre culture scoprendo le diversità e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e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similitudini dei giochi.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15640" y="762120"/>
            <a:ext cx="7110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– principio base della civil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99640" y="1828440"/>
            <a:ext cx="7326360" cy="42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Huizing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a deriva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allo spirito ludico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a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maggior parte delle istituzioni che regolano le società o 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iscipline: la giurisprudenza, la politica, l’arte, la musica, perfino la guerra, in cui il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gioco è il principio regolator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43080" indent="-343080"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Negl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semp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che seguono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si può leggere il progredire stess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a civiltà nella misura in cui questa consiste nel passaggio da un universo caotic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d un universo regolato che poggia su di un sistema coerente ed equilibrato di diritti 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overi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5640" y="762120"/>
            <a:ext cx="711036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l gioco prepara alla vit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557000"/>
            <a:ext cx="72547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allena in generale alla vit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umentando 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l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apacità di superare gli ostacoli o di far fronte alle difficoltà.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Esso è un veicolo valido per l'appropriazione di tutte quelle abilità necessarie per la vita nel proprio contesto culturale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gioco presuppone la volontà di vincere, utilizzando nel miglior modo cert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risorse, vietando di far ricorso ai colpi proibit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l gioco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esige d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uperare in lealtà l’avversario, fidarsi di lui per principio e combatterlo senz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nimosità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cettare in anticipo lo scacco eventuale, la sfortuna o l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fatalità, rassegnarsi alla sconfitta senza rabbi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o vincere senza darsi troppe arie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1640" y="762120"/>
            <a:ext cx="7254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Classificazione dei giochi (Callois)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2411280" y="2492280"/>
            <a:ext cx="4573800" cy="28069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3995640" y="1484280"/>
            <a:ext cx="1279800" cy="1143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3"/>
          <a:stretch/>
        </p:blipFill>
        <p:spPr>
          <a:xfrm>
            <a:off x="6877080" y="3141720"/>
            <a:ext cx="1647720" cy="1241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1235160" cy="1233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"/>
          <p:cNvPicPr/>
          <p:nvPr/>
        </p:nvPicPr>
        <p:blipFill>
          <a:blip r:embed="rId5"/>
          <a:stretch/>
        </p:blipFill>
        <p:spPr>
          <a:xfrm>
            <a:off x="611280" y="3284640"/>
            <a:ext cx="1838160" cy="11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99640" y="762120"/>
            <a:ext cx="7326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e le cultur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417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  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Caillois sostiene che i giochi sono largamente dipendenti dalle culture in cui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vengono praticati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Il tipo di gioco al quale giocano i popoli nel mondo rispecchia i valori della loro civiltà.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I giochi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ne sottolineano i gusti, ne prolungano le usanze, ne rifletton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le credenze. Quindi non è affatto assurdo tentare la diagnosi di una civiltà partend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ai giochi che vi fioriscono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i tratta di determinare l’importanza che le divers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cietà attribuiscono al gusto della competizione, alla ricerca della fortuna, al piace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’imitazione o all’attrazione della vertigin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32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I giochi tipici delle societ</a:t>
            </a:r>
            <a:r>
              <a:rPr b="0" lang="en-US" sz="3200" spc="-1" strike="noStrike">
                <a:solidFill>
                  <a:srgbClr val="79551b"/>
                </a:solidFill>
                <a:latin typeface="Palatino Linotype"/>
              </a:rPr>
              <a:t>à</a:t>
            </a: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 primitiv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7704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o Caillois nelle società primitive regnano l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maschera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e la </a:t>
            </a:r>
            <a:r>
              <a:rPr b="1" lang="en-US" sz="2400" spc="-1" strike="noStrike">
                <a:solidFill>
                  <a:srgbClr val="79551b"/>
                </a:solidFill>
                <a:latin typeface="Palatino Linotype"/>
              </a:rPr>
              <a:t>vertigine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. Le maschere sono strumenti di metamorfosi, fanno la loro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apparizione nel corso delle feste sacre. L’irruzione di questi fantasmi è l’irromper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delle potenze dell’ignoto che l’uomo teme e sulle quali sente di non aver potere.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Questa vertigine collettiva, causata dalla presenza contagiosa delle maschere, diventa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il punto culminante e aggregante dell’esistenza pubblica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D’altra parte, nelle 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ocietà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di carattere tribale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 dove il principio fondamentale è quello della convivenza basata sulla condivisione di tutti i beni prodotti dalla comunità</a:t>
            </a:r>
            <a:r>
              <a:rPr b="0" lang="hr-HR" sz="2400" spc="-1" strike="noStrike">
                <a:solidFill>
                  <a:srgbClr val="79551b"/>
                </a:solidFill>
                <a:latin typeface="Palatino Linotype"/>
              </a:rPr>
              <a:t>,</a:t>
            </a: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 </a:t>
            </a:r>
            <a:r>
              <a:rPr b="0" lang="it-IT" sz="2400" spc="-1" strike="noStrike">
                <a:solidFill>
                  <a:srgbClr val="79551b"/>
                </a:solidFill>
                <a:latin typeface="Palatino Linotype"/>
              </a:rPr>
              <a:t>si trovano più facilmente giochi cooperativi. 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41400" y="762120"/>
            <a:ext cx="5484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’uso della maschera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2071800" y="1828440"/>
            <a:ext cx="621504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accompagnato da certi tipi di musica o di danza 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 costumi particolari, che aiutano a nascondere l’identità del danzatore o del sacerdote mascherato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danze e rappresentazioni mascherate servono da buon augurio per riti e cerimonie specifici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6880" y="785880"/>
            <a:ext cx="6357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79551b"/>
                </a:solidFill>
                <a:latin typeface="Palatino Linotype"/>
              </a:rPr>
              <a:t>Le maschere tradizionali africane</a:t>
            </a:r>
            <a:endParaRPr b="0" lang="en-US" sz="32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142640" y="1642680"/>
            <a:ext cx="728676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Significato rituale e sociale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Usata durante rituali o cerimonie sacre, riti propiziatori, feste del raccolto, funerali, matrimoni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Rappresentano: divinità, spiriti degli antenati, esseri mitologici, il bene e il male, gli spiriti degli antenati, degli animali, esseri che hanno potere sull’umanità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marL="318960" indent="-31896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79551b"/>
                </a:solidFill>
                <a:latin typeface="Palatino Linotype"/>
              </a:rPr>
              <a:t>Chi indossa la maschera incarna lo spirito di colui che essa rappresenta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9:49:47Z</dcterms:created>
  <dc:creator>miro</dc:creator>
  <dc:description/>
  <cp:keywords/>
  <dc:language>en-US</dc:language>
  <cp:lastModifiedBy>Miro</cp:lastModifiedBy>
  <dcterms:modified xsi:type="dcterms:W3CDTF">2014-01-08T20:32:25Z</dcterms:modified>
  <cp:revision>77</cp:revision>
  <dc:subject/>
  <dc:title>I giochi tra storia e cultur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94391033</vt:lpwstr>
  </property>
</Properties>
</file>