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5B8B3-2D20-4B3E-80D3-DA9FAB269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78DB7-2E28-4CD5-B33F-34B404DA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6968-E27C-484E-B296-FD34C995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E870-012A-4856-B7ED-5C4BB99F5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DE53-FCA5-4B4F-9AC6-64713B7C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E85E-1D21-4B31-B519-70C71FFC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6CC3-BC5C-463B-B5E1-B33E30EC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6FF5-C066-476E-8547-0E70E23B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084BB-F1CF-4BD9-8D95-EEA72325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51389-9211-4B8B-B2D0-681C808B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DFBC-705F-41A7-9BFB-502559404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3AE1B6-C0F9-4EF5-A4A7-ECA8991C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5244-EFC1-40B5-8C9E-B8FF38ED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28B3-4654-44F9-BD10-AA253B99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CF45-3528-42D0-9D64-8B94B785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6156-A7D8-40A5-9AA9-73642C877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E5CD-AD85-4CDB-A4A4-7E36E183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3E1CE-243A-487F-995F-494C1A5D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1FCAC-F5D0-4B57-BC5C-C91EAEA2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0BBDE-BC54-4BE5-82AA-7B88E9A7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7DE3A-62A5-4AEE-B1AE-24C072EA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39A3-4CB0-43CA-8E9F-62EFD0DA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B6BE5-A533-45E3-BC7D-39CA9947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82B46-69F4-4BBB-BDB6-EA6F49D2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AD757-5F9E-4C42-AADA-FEBDE9E919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794E-E135-45B4-9E82-3206F01EFD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ffffff"/>
                </a:solidFill>
                <a:latin typeface="Arial"/>
              </a:rPr>
              <a:t>Il gioco simboli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400" spc="-1" strike="noStrike">
                <a:solidFill>
                  <a:srgbClr val="000000"/>
                </a:solidFill>
                <a:latin typeface="Arial"/>
              </a:rPr>
              <a:t>I giochi dei bambin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ivelli del gioco simbolico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6760" y="1213920"/>
            <a:ext cx="86439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3.Gioco simbolico decentrat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- nel gioco vengono coinvolte altre persone, prima come destinatari passivi, poi come attori (es. la bambola o la madr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i schemi del bambino diventano più astratti e più distaccati dalle proprie azioni sensomotor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bambino di estend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repertorio degli schemi di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disponibili con l’imitare azioni di altri, come telefonare, leggere, o pul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4.Gioco simbolico combinatori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- integrazione di diverse azioni che costituiscono una sequenza di azioni coerente (es. gioco con la bambo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bambino comincia a combinare schemi singoli, isolati e a coordinarli in sequen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Livelli del gioco simbolico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840" y="1499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5. Gioco simbolico gerarchi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ludica regolata da un processo mentale e non dal contesto ambientale – il gioco preceduto da pianific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’intenzione di mettere in atto un comportamento di finzione - desunta da un annuncio verbale del bambino, dalla ricerca di un oggetto necessario per completar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o dall’esecuzione di un atto preparatorio prima di qu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. l’uso di un cacciavite giocattolo come un "pesce che nuota", poi come un poppato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ntesti del gioco sim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229600" cy="415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avoriscono il gioco simbol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quant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egli oggetti a disposizione dei bam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a somiglianza percettiva degli oggetti (forma o funzione simi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a partecipazione di adulti che propongono scenari p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o meno vicini all’esperienza diretta dei bamb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ondivisione del gioco simbol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li altri inizialmente sono destinatari passivi dell’azione lu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 secondo anno di vita coinvolti i genitori che danno suggerimenti o agiscono in prima persona organizzando le situazioni, cercando i materiali e predisponendo i ruoli; imitazione reciproca tra coetan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 terzo anno di vita i bambini decidono autonomamente la situazione di gioco e la strutturano secondo un preciso cop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ioco simbolico e sviluppo del linguagg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3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 alcuni studi risulta una correlazione rilevante tra le prime parole e il livello dei giochi autosimbolici o del gioco dece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ssociazione stretta tra gioco simbolico e comprensione del lingu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Gioco e linguaggio si sviluppano in risposta a un progresso generale nella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capacità cogn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1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l gioco simbolico e il lingua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356840"/>
            <a:ext cx="8229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e il linguaggi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hanno in comune diverse funzioni nel secondo anno di vit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1. implicano la funzione comunicativa di oggetti condivisi con alt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2. i bambini usano si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che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 linguaggio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er "mettere alla prova" diverse equivalenze di rappresen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unteggi alti nella comprensione del linguaggio a 18 e a 24 mesi mostrano significativamente più finzione decentrata dei bambini con punteggi di comprensione più ba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orrispondenze tra gioco e linguagg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57120" y="1785600"/>
            <a:ext cx="85010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corrispondenze temporali tra sviluppi strutturali nel linguaggio e livelli del gioco simbo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1) comportamenti presimbolici in ambedue  i domini, 2) finzione iniziale e prime parole referenziali, 3) l’emergenza di comportamenti combinatori in entrambi i domini, 4) corrispondenze tra linguaggio organizzato gerarchicamente e gioco simbolico (McCune-Nicolich, 19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Influenza del gioco sul linguagg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57120" y="1571400"/>
            <a:ext cx="84297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li schemi d’azione organizzati che sono parte integrante del gioco simbolico possono contribuire ad arricchire l’uso del linguag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. quand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era organizzato intorno a un tema ("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u cannovaccio") le conversazioni risultavano più lunghe e co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enché non sia facile districare le influenze reciproche fr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e linguaggio, esiste senza dubbio un’interazione di reciproco sostegno fra l’uno e l’al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Gioco simbolico e differenze individu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3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ioco simbolico presente in gruppi culturali e circostanze sociali diverse dai nostri (tra i 13 e i 15 mes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aggiore o minore frequenza dipende dalla predisposizione o meno a ricorrere alla fantasia e all’immaginazione per risolvere problemi re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fluisce anche il funzionamento sociale del bambino: la sua popolar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la prosocia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, l’accettazione e la 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collabor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l gioco sim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4268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ompare nel bambino intorno ai 15 – 18 mesi, tra la fine dello stadio sensomotorio e l’inizio di quello preope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viluppo delle competenze sociali, dell’abi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formare e usare simboli, di elaborare temi narrat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bambino comincia a mostrare la capacità di capire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mondo attraverso l’uso di simbo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izia quando azioni di routine e oggetti sono distaccati dai loro ruoli tipici e dalle loro funzioni e usati in una maniera atipica, gioco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28760" y="571680"/>
            <a:ext cx="822960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otevoli progressi nello sviluppo del linguaggi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nell’uso di una varietà di mezzi di rappresentazione compresa l’imitazione differita,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di finzione, e le immagini mentali di azioni ed ev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bambini fingono di bere, di parlare al telefono, di preparare il caf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, o da mangiare, ec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simulazioni delle attiv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  <a:ea typeface="Arial"/>
              </a:rPr>
              <a:t> di routine quotidi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Importanza del gioco sim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parando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pensiero dall’azione, i simboli mentali consentono al pensiero di essere più efficiente che durante lo stadio sensomotori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bambino può trascendere i confini di tempo e spazio immediati e rappresentare diversi eventi simultaneamente, piuttosto che per gradi e orientati dall’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ndicatore precoce della 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rappresentazione men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dica lo sviluppo della conoscenza sociale mediante la nozione di cop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Caratteristiche gioco simbol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859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azione trasformativa nei confronti della rea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a 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agire “come se” al di fuori del contesto norm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a capac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usare come materiale di gioco oggetti sostitutivi di quelli re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’abi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eseguire azioni tipiche di altre pers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L’abil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di collegare schemi d’azione differenti in sequenze tematiche co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1680" y="7138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Criteri per inferire che si tratta di un gioco simbolic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5840" y="1500120"/>
            <a:ext cx="85723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nimazione degli oggetti inanimati (es. prendersi cura di una bambola, offrire cibo all’orsacchiot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quotidiane svolte senza gli oggetti necessari (es.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bere da una tazza vuo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ompiere azioni abitualmente compiute da altri (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. cucinare, telefonare, fingere di fare il dott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svolte senza giungere al risultato abi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Oggetti usati con funzioni diverse da quella abituale (es.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un cubetto da costruzioni diventa un tega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egnali del bambino per indicare che l’azione n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re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Arial"/>
              </a:rPr>
              <a:t>Evoluzione del gioco simbol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econdo la teoria piagetiana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simbolico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si sviluppa attraverso una sequenza di stadi e fasi in forme sempre più sofistica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assaggi di ordine cogni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ecentramento – estendere l’azione da 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ad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Decontestualizzazione – azioni ludiche indipendenti dai supporti ambi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tegrazione – azioni ludiche organizzate in sequenze complesse e pianificate prima di eseguir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girotondo"/>
          <p:cNvPicPr/>
          <p:nvPr/>
        </p:nvPicPr>
        <p:blipFill>
          <a:blip r:embed="rId1"/>
          <a:stretch/>
        </p:blipFill>
        <p:spPr>
          <a:xfrm>
            <a:off x="7358040" y="285840"/>
            <a:ext cx="103824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Arial"/>
              </a:rPr>
              <a:t>Passaggio dai livelli realistici del gioco a quelli simbol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3840" y="1857240"/>
            <a:ext cx="8472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Dal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gioc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altamente realistico (per es., basato su funzioni dell’oggetto) caratteristico dello stadio sensomotorio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attraverso diversi livelli di finzione dov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simbolo e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referente sono solo marginalmente separabil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fino alla vera simbolizzazione (stadio </a:t>
            </a:r>
            <a:r>
              <a:rPr b="1" lang="hr-HR" sz="3200" spc="-1" strike="noStrike">
                <a:solidFill>
                  <a:srgbClr val="000000"/>
                </a:solidFill>
                <a:latin typeface="Arial"/>
              </a:rPr>
              <a:t>simbolico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) dove é evidente una completa separazione tra significante e signific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Arial"/>
              </a:rPr>
              <a:t>Livelli del gioco simbolico 1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480" y="1341360"/>
            <a:ext cx="8643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1.Schemi presimbolic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oggetti usati in modo appropriato ma al di fuori del contesto normale - primo passo nella transizione dall’attività sensomotoria a quella simbol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Es. lo schema di bere é in origine applicato a una tazza colma di bevanda ma alla fine anche una tazza vuota susciterà il medesimo schema. Azione e significato sono uniti a questo live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6600ff"/>
                </a:solidFill>
                <a:latin typeface="Arial"/>
              </a:rPr>
              <a:t>2.Schemi autosimbolici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– azioni rivolte al bambino stesso (es. mangiare, dormire, pulizia personale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hr-H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 limite di questo livello é che questi schemi sono ancora legati alle azioni sensomotorie del bambin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20:17:48Z</dcterms:created>
  <dc:creator>miro</dc:creator>
  <dc:description/>
  <dc:language>en-US</dc:language>
  <cp:lastModifiedBy>Miro</cp:lastModifiedBy>
  <dcterms:modified xsi:type="dcterms:W3CDTF">2013-11-06T22:40:39Z</dcterms:modified>
  <cp:revision>77</cp:revision>
  <dc:subject/>
  <dc:title>Il gioco simbolico</dc:title>
</cp:coreProperties>
</file>