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9503-9250-4726-B160-EC96C65C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2E23-6DCC-4061-B076-8E9E30079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294E-06AB-4928-92C3-36DCB4BF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11C-2317-41EC-BFC0-9184C6C8A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0B1F-6DDA-42A6-9347-062712E6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C75-FE87-4918-B1E9-D8D7CD09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5BB6D-D33A-4BF1-8E45-489C44BAB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1FA9C-FD1B-43F4-BD22-235D35B7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25DED-AF9D-44D2-BEE9-4E1E55B3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93FF-731F-4C25-AFF1-F8D31BC6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7480-38BD-46BB-A1D7-FB671B57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C3B-E590-489D-A441-AFD487C7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007F5-1DAB-4810-9865-48E660CC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04E5-2B55-48DA-84E2-BB2CA094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D50E-B1E1-4EF1-B871-FECDED1FE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3DD8-79CD-47DA-B97D-7AB8EC413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0966-99A5-4C9F-8576-326087CA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FC19-8567-474F-A87E-67D19EA10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ACAA-545A-453F-97F1-B25A7BCF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BF49-CDCB-4CF4-BABC-8B587C50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72FD-F109-4725-AF0C-6F1B14BA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4634-8D65-452C-8BDD-88D6EA54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8E4-C391-4C53-9D47-155F4B1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26F-03A1-42E6-B672-CE18DD93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4FEF-FD19-4379-B484-8A5A111C0517}" type="slidenum">
              <a:rPr b="0" lang="hr-H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EAF7-5365-4474-9E4E-B86E6B153835}" type="slidenum">
              <a:rPr b="0" lang="hr-HR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179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428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 giochi dei bambin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545472"/>
                </a:solidFill>
                <a:latin typeface="Tahoma"/>
              </a:rPr>
              <a:t>Mr.sc. Nevia Močinić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3629160" y="4191120"/>
            <a:ext cx="1885320" cy="2077920"/>
            <a:chOff x="3629160" y="4191120"/>
            <a:chExt cx="1885320" cy="2077920"/>
          </a:xfrm>
        </p:grpSpPr>
        <p:sp>
          <p:nvSpPr>
            <p:cNvPr id="139" name="Freeform 5"/>
            <p:cNvSpPr/>
            <p:nvPr/>
          </p:nvSpPr>
          <p:spPr>
            <a:xfrm>
              <a:off x="5291640" y="5781600"/>
              <a:ext cx="203400" cy="412560"/>
            </a:xfrm>
            <a:prstGeom prst="pie">
              <a:avLst/>
            </a:prstGeom>
            <a:solidFill>
              <a:srgbClr val="7ab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4458960" y="5608440"/>
              <a:ext cx="885600" cy="642240"/>
            </a:xfrm>
            <a:prstGeom prst="pie">
              <a:avLst/>
            </a:prstGeom>
            <a:solidFill>
              <a:srgbClr val="cc8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1" name="Freeform 7"/>
            <p:cNvSpPr/>
            <p:nvPr/>
          </p:nvSpPr>
          <p:spPr>
            <a:xfrm>
              <a:off x="3650040" y="5274360"/>
              <a:ext cx="774720" cy="977760"/>
            </a:xfrm>
            <a:prstGeom prst="pie">
              <a:avLst/>
            </a:prstGeom>
            <a:solidFill>
              <a:srgbClr val="cc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2" name="Freeform 8"/>
            <p:cNvSpPr/>
            <p:nvPr/>
          </p:nvSpPr>
          <p:spPr>
            <a:xfrm>
              <a:off x="4248000" y="4993200"/>
              <a:ext cx="283680" cy="4482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3" name="Freeform 9"/>
            <p:cNvSpPr/>
            <p:nvPr/>
          </p:nvSpPr>
          <p:spPr>
            <a:xfrm>
              <a:off x="4020480" y="4890600"/>
              <a:ext cx="467280" cy="1713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3927960" y="5392080"/>
              <a:ext cx="324360" cy="39456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5" name="Freeform 11"/>
            <p:cNvSpPr/>
            <p:nvPr/>
          </p:nvSpPr>
          <p:spPr>
            <a:xfrm>
              <a:off x="4580640" y="5013000"/>
              <a:ext cx="828360" cy="730440"/>
            </a:xfrm>
            <a:prstGeom prst="pie">
              <a:avLst/>
            </a:prstGeom>
            <a:solidFill>
              <a:srgbClr val="6e99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4597560" y="4210560"/>
              <a:ext cx="794520" cy="6123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4586400" y="4463280"/>
              <a:ext cx="226080" cy="12780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5069520" y="4519800"/>
              <a:ext cx="325440" cy="307440"/>
            </a:xfrm>
            <a:prstGeom prst="pi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4315680" y="5061960"/>
              <a:ext cx="785880" cy="38484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575240" y="4476240"/>
              <a:ext cx="849240" cy="633600"/>
            </a:xfrm>
            <a:prstGeom prst="pie">
              <a:avLst/>
            </a:pr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627080" y="4474800"/>
              <a:ext cx="561600" cy="633240"/>
            </a:xfrm>
            <a:prstGeom prst="pie">
              <a:avLst/>
            </a:prstGeom>
            <a:solidFill>
              <a:srgbClr val="ffd1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3692160" y="5358240"/>
              <a:ext cx="242640" cy="44388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4399920" y="5796720"/>
              <a:ext cx="277920" cy="452160"/>
            </a:xfrm>
            <a:prstGeom prst="pie">
              <a:avLst/>
            </a:prstGeom>
            <a:solidFill>
              <a:srgbClr val="8ad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4005000" y="4993200"/>
              <a:ext cx="247320" cy="45756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3882960" y="5742000"/>
              <a:ext cx="316800" cy="443880"/>
            </a:xfrm>
            <a:prstGeom prst="pie">
              <a:avLst/>
            </a:prstGeom>
            <a:solidFill>
              <a:srgbClr val="708f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3650040" y="5748840"/>
              <a:ext cx="248040" cy="4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163760" y="5717880"/>
              <a:ext cx="492840" cy="15732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756680" y="5024160"/>
              <a:ext cx="502200" cy="153000"/>
            </a:xfrm>
            <a:prstGeom prst="pie">
              <a:avLst/>
            </a:prstGeom>
            <a:solidFill>
              <a:srgbClr val="476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4555440" y="4349520"/>
              <a:ext cx="887400" cy="7729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4711320" y="4449240"/>
              <a:ext cx="26532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1" name="Freeform 27"/>
            <p:cNvSpPr/>
            <p:nvPr/>
          </p:nvSpPr>
          <p:spPr>
            <a:xfrm>
              <a:off x="4958640" y="4463280"/>
              <a:ext cx="272160" cy="167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2" name="Freeform 28"/>
            <p:cNvSpPr/>
            <p:nvPr/>
          </p:nvSpPr>
          <p:spPr>
            <a:xfrm>
              <a:off x="5156640" y="4615200"/>
              <a:ext cx="99360" cy="78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3" name="Freeform 29"/>
            <p:cNvSpPr/>
            <p:nvPr/>
          </p:nvSpPr>
          <p:spPr>
            <a:xfrm>
              <a:off x="5204160" y="4667400"/>
              <a:ext cx="63360" cy="61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319360" y="4493160"/>
              <a:ext cx="75600" cy="84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5218200" y="4287960"/>
              <a:ext cx="162720" cy="189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6" name="Freeform 32"/>
            <p:cNvSpPr/>
            <p:nvPr/>
          </p:nvSpPr>
          <p:spPr>
            <a:xfrm>
              <a:off x="4728240" y="4201920"/>
              <a:ext cx="268200" cy="1753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7" name="Freeform 33"/>
            <p:cNvSpPr/>
            <p:nvPr/>
          </p:nvSpPr>
          <p:spPr>
            <a:xfrm>
              <a:off x="4999320" y="4191120"/>
              <a:ext cx="209520" cy="1555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Freeform 34"/>
            <p:cNvSpPr/>
            <p:nvPr/>
          </p:nvSpPr>
          <p:spPr>
            <a:xfrm>
              <a:off x="4911120" y="4678560"/>
              <a:ext cx="37800" cy="885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4676400" y="4679640"/>
              <a:ext cx="42120" cy="928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4717080" y="4762800"/>
              <a:ext cx="418320" cy="212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1" name="Freeform 37"/>
            <p:cNvSpPr/>
            <p:nvPr/>
          </p:nvSpPr>
          <p:spPr>
            <a:xfrm>
              <a:off x="4294440" y="5055120"/>
              <a:ext cx="1061280" cy="43812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2" name="Freeform 38"/>
            <p:cNvSpPr/>
            <p:nvPr/>
          </p:nvSpPr>
          <p:spPr>
            <a:xfrm>
              <a:off x="5082120" y="5185800"/>
              <a:ext cx="32040" cy="230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Freeform 39"/>
            <p:cNvSpPr/>
            <p:nvPr/>
          </p:nvSpPr>
          <p:spPr>
            <a:xfrm>
              <a:off x="5077800" y="5014080"/>
              <a:ext cx="345240" cy="1049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Freeform 40"/>
            <p:cNvSpPr/>
            <p:nvPr/>
          </p:nvSpPr>
          <p:spPr>
            <a:xfrm>
              <a:off x="4580640" y="5087160"/>
              <a:ext cx="190800" cy="93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5" name="Freeform 41"/>
            <p:cNvSpPr/>
            <p:nvPr/>
          </p:nvSpPr>
          <p:spPr>
            <a:xfrm>
              <a:off x="4572360" y="5403240"/>
              <a:ext cx="753840" cy="3524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6" name="Freeform 42"/>
            <p:cNvSpPr/>
            <p:nvPr/>
          </p:nvSpPr>
          <p:spPr>
            <a:xfrm>
              <a:off x="4491000" y="5608440"/>
              <a:ext cx="154080" cy="129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Freeform 43"/>
            <p:cNvSpPr/>
            <p:nvPr/>
          </p:nvSpPr>
          <p:spPr>
            <a:xfrm>
              <a:off x="4728240" y="5767560"/>
              <a:ext cx="786240" cy="5014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Freeform 44"/>
            <p:cNvSpPr/>
            <p:nvPr/>
          </p:nvSpPr>
          <p:spPr>
            <a:xfrm>
              <a:off x="4233960" y="4975200"/>
              <a:ext cx="310320" cy="473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9" name="Freeform 45"/>
            <p:cNvSpPr/>
            <p:nvPr/>
          </p:nvSpPr>
          <p:spPr>
            <a:xfrm>
              <a:off x="3995640" y="4887720"/>
              <a:ext cx="530280" cy="5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0" name="Freeform 46"/>
            <p:cNvSpPr/>
            <p:nvPr/>
          </p:nvSpPr>
          <p:spPr>
            <a:xfrm>
              <a:off x="4387320" y="5789880"/>
              <a:ext cx="311400" cy="4662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Freeform 47"/>
            <p:cNvSpPr/>
            <p:nvPr/>
          </p:nvSpPr>
          <p:spPr>
            <a:xfrm>
              <a:off x="4141440" y="5697000"/>
              <a:ext cx="533520" cy="563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Freeform 48"/>
            <p:cNvSpPr/>
            <p:nvPr/>
          </p:nvSpPr>
          <p:spPr>
            <a:xfrm>
              <a:off x="3681000" y="5264280"/>
              <a:ext cx="346680" cy="5619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Freeform 49"/>
            <p:cNvSpPr/>
            <p:nvPr/>
          </p:nvSpPr>
          <p:spPr>
            <a:xfrm>
              <a:off x="3629160" y="5706720"/>
              <a:ext cx="540360" cy="49428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4" name="Freeform 50"/>
            <p:cNvSpPr/>
            <p:nvPr/>
          </p:nvSpPr>
          <p:spPr>
            <a:xfrm>
              <a:off x="3641400" y="5743440"/>
              <a:ext cx="318600" cy="1080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5" name="Freeform 51"/>
            <p:cNvSpPr/>
            <p:nvPr/>
          </p:nvSpPr>
          <p:spPr>
            <a:xfrm>
              <a:off x="3916800" y="5380920"/>
              <a:ext cx="354960" cy="4464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6" name="Freeform 52"/>
            <p:cNvSpPr/>
            <p:nvPr/>
          </p:nvSpPr>
          <p:spPr>
            <a:xfrm>
              <a:off x="4689000" y="6104520"/>
              <a:ext cx="102240" cy="687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Fattori che inibiscono il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1785960"/>
            <a:ext cx="82152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ntesti nei quali il bambino non si sente sicuro e non sono soddisfatti i suoi bisogni di bas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mbienti e oggetti del tutto sconosciuti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l’essere punitivi o la non-attenzione dei genitor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estrizioni nel movimento e assenza di materiali interessan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presenza di persone sconosciu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113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Fasi di sviluppo dell’attivit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esplorativ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857240"/>
            <a:ext cx="853416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Esplorazione orale – mette in bocca gli oggetti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semplice – esplorazione globale di un ogget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funzionale – esplorazione specifica della funzione dell’ogget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relazionale - mette insieme due oggetti senza legame logic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Manipolazione funzionale/relazionale - mette insieme due oggetti in modo appropria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L’attivit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 esplorativa secondo </a:t>
            </a:r>
            <a:br>
              <a:rPr sz="4000"/>
            </a:b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la Benell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Nei primi due anni il bambino sviluppa i seguenti schemi di manipolazion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generic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– applicabili a qualsiasi tipo di oggetto; possono essere di due tipi: a) </a:t>
            </a: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analitic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– esplorazione di parti dell’oggetto; b) </a:t>
            </a: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massiv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- esplorazione globale dell’oggett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b63b10"/>
                </a:solidFill>
                <a:latin typeface="Tahoma"/>
              </a:rPr>
              <a:t>Schemi specifici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– collegati a proprie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intrinseche di un oggett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Cestino dei tesor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Rivolto ai bambini dai 6/7 mesi in po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Fornisce ai bambini oggetti di uso comune pensati per stimolare il tatto, l’olfatto, l’udito, la vista, il gusto e la motric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i tratta di oggetti diversi per peso, consistenza, forma, sapore, suono, colore, lucentezza: es. pigne, ciottoli, conchiglie, piume, pietre pomice, sugheri, spazzolini, pennelli, fischietti, anelli, ciotole, cucchiai, chiavi, imbuti, catenelle, campanelli, borsellini, cilindri di carta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Attivit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  <a:ea typeface="Tahoma"/>
              </a:rPr>
              <a:t>à</a:t>
            </a: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 possibi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Passare gli oggetti da una mano all’altra, succhiarli, leccarli, scuoterli, batterli, gettarli lontano, raccoglierli, metterli uno sopra l’altro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ncoraggia a prendere decisioni, scegliere tra oggetti diversi, confrontarli, mettere in atto un’azione invece di un’altra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67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Gioco euristico con gli oggett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i mette a disposizione del bambino una grande varie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di oggetti e di contenitori diversi in uno spazio e per un tempo controlla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Nasce dall’esigenza del bambino di combinare schemi di movimento e sperimentare nuove relazioni tra ogget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oddisfa il bisogno di esplorare e scoprire il funzionamento e le relazioni tra ogget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Gioco eurist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95360" y="19051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Oggetti possibili: sacchi, sacchetti, scatole, barattoli, tappi, nastri, palline, catenelle, cilindri, chiavi, conchiglie, pigne, mollette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ttiv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possibili: mettere dentro, tirare fuori, selezionare, classificare, ordinare, mettere in corrispondenza, infilare, impilare, far rotolare, mettere in equilibrio, ecc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90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gioco nei primi anni di vi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Gioco con funzioni esplorative del corpo e del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Ha inizio quando il bambino agisce per il piacere che ne ricava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Alle origini – puro esercizio di schemi d’azione (segnali: coinvolgimento attivo, attesa dell’effetto, segnali di piacere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Il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00120"/>
            <a:ext cx="77724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aratteristiche: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è l’attività stimolata dall’incontro con uno stimol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nizia quando il bambino acquisisce familiar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con 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importante quello che si pu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ò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fare con gli oggetti e non come sono o a cosa servon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mportamenti tipici della specie umana e quelli condivisi con i primati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98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L’attività esplorativ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Utilità: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noscere la real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circostante, ovvero acquisire informazioni sugli oggetti e sui fenomeni (Che cos’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è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questo?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ominare gradualmente 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esercitare le proprie capaci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stabilire il contatto con il mondo fisic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Differenza tra esplorazione e gioco esplorativ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856880"/>
            <a:ext cx="8143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Dall’esplorazione si passa al gioco quando il bambino si sposta da ciò che é lo stimolo determinante a ciò che sarà la varietà di risposte che può essere effettuata usando l’oggetto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Questo spostamento é il risultato del calo di novità dello stimolo quando esso è esplorat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l gioco segue l’esplor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429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Differenze nel comportament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357200"/>
            <a:ext cx="8429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il grado di stereotipia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el comportamento: attività esplorativa - altamente stereotipata, cioè invariabile durante una data situazione, laddove il gioco può assumere una gran varietà di forme specifich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l’investimento percettiv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in termini d’attenzione: (il gioco coinvolge un meno elevato stato attenzionale focalizzato sull’oggetto rispetto all’esplorazione)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800" spc="-1" strike="noStrike">
                <a:solidFill>
                  <a:srgbClr val="545472"/>
                </a:solidFill>
                <a:latin typeface="Tahoma"/>
              </a:rPr>
              <a:t>lo stato affettivo 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del bambino: (sorride, è rilassato nel gioco, teso, impaurito  nell’esplorazione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42960" y="78588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Funzioni dei giochi esplorativ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6760" y="1500120"/>
            <a:ext cx="857268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Simulare 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il bambino che ciuccia il suo ciucciotto simula (a se stesso) il comportamento di suzione del latte matern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Conoscere –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gli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ggett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, sé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stesso e il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roprio corpo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, le persone, gli animali, l’ambien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Ripetere 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’iterazione di un gesto, di un’azione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con lo scopo di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acquisire la competenza di quel comportamento o di sperimentare la reazione di un oggetto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824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660066"/>
                </a:solidFill>
                <a:latin typeface="Tahoma"/>
              </a:rPr>
              <a:t>Continuazione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85800" y="1642680"/>
            <a:ext cx="79581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Ipotizzare – 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(“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hissà se battendo più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forte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esto coso si rompe?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545472"/>
                </a:solidFill>
                <a:latin typeface="Tahoma"/>
              </a:rPr>
              <a:t>Analizzare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(“e quest’altro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chissà come è fatto dentro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545472"/>
                </a:solidFill>
                <a:latin typeface="Tahoma"/>
              </a:rPr>
              <a:t>Osservare </a:t>
            </a: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(“questo invece si muove da solo</a:t>
            </a:r>
            <a:r>
              <a:rPr b="0" lang="hr-HR" sz="3200" spc="-1" strike="noStrike">
                <a:solidFill>
                  <a:srgbClr val="545472"/>
                </a:solidFill>
                <a:latin typeface="Tahoma"/>
              </a:rPr>
              <a:t> o no?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545472"/>
                </a:solidFill>
                <a:latin typeface="Tahoma"/>
              </a:rPr>
              <a:t>Sperimentare </a:t>
            </a:r>
            <a:r>
              <a:rPr b="0" i="1" lang="hr-HR" sz="32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(“se faccio così, lui che farà?”)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01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660066"/>
                </a:solidFill>
                <a:latin typeface="Tahoma"/>
              </a:rPr>
              <a:t>Fattori che favoriscono il gioco esplorativo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714320"/>
            <a:ext cx="87631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nov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e la compless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dello stimolo: es. imprevedibilità di forma e modello di moviment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qual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e la quant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dei materiali che inducono a manipolazion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e caratteristiche degli ambienti in cui si trovano i bambini (es. ampiezza, organizzazione degli spazi, esterno o intern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e differenze individuali (es. maturit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  <a:ea typeface="Tahoma"/>
              </a:rPr>
              <a:t>à</a:t>
            </a: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 cognitiva, stile esplorativo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545472"/>
                </a:solidFill>
                <a:latin typeface="Tahoma"/>
              </a:rPr>
              <a:t>La presenza e la stimolazione delle persone che si curano del bambino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iro</cp:lastModifiedBy>
  <dcterms:modified xsi:type="dcterms:W3CDTF">2013-11-09T19:52:27Z</dcterms:modified>
  <cp:revision>53</cp:revision>
  <dc:subject/>
  <dc:title>PowerPoint Presentation</dc:title>
</cp:coreProperties>
</file>