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CD15B-E1A7-42F0-86EF-AACE20C10604}" type="slidenum">
              <a:rPr b="0" lang="hr-H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A36A-489A-4DF8-952C-91C07BD612C1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7C1B-D67E-43A4-9920-C9F4CE2A1E29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73D90-C24D-4B40-A74C-03DFE48793FE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79DBF-410F-443B-884C-26C6B797F3DD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D5E3-5407-42F3-A782-7C824984B342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6544-A943-4222-A4B5-5C84B4496EE4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0D7D-FBE0-44C5-A200-E9500D34EDAD}" type="slidenum">
              <a:rPr b="0" lang="hr-HR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9262-0898-4A08-9392-BEFAB8FE3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F0D-39AB-4440-A324-7BF7A3DE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434-664C-4325-8566-574AA2676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07C0-9491-4B46-AD2F-093B622D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DCD6-91E7-4D07-A7E7-0B3CAB34F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ECE7-5556-41AA-B988-ADAD1F6A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4ABC5-610F-42D0-9131-E42D3C7B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DBF9-A6A0-405E-B501-F9BDED5A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06A5-90D8-4079-962F-5D0657E3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4BCFF-A107-4058-8FC9-C4FBA6BE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32B2-EB04-41E7-A8F9-E7C961E5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4695-6F0A-4B87-975C-6D92061EA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78BA-B57E-4E61-A865-F2187162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448A-C26B-4E9A-93E0-5CA15453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51B6-DF56-45D7-920E-F5F79BA2B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9DF6-8100-4898-87EA-76334EF0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3AED-3B9D-4EAA-85FF-B02ED9330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F8CB-5CFE-4B1D-B6FF-88155CB3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2524-61E3-4FB8-ADF9-8083BB08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5FE-C456-4B42-AAC4-8E0431D5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5231-8952-44D2-86F4-EEC6FFBEC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0EF-9B26-4885-9088-10893379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1F9B-4888-4E95-B513-A1234296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D11D-85A3-4767-9439-A67EAC8A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7FC76-7BBB-424C-82A0-1059055F8F75}" type="slidenum"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B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FA49-9A3D-4E4C-A8C5-BA22FC15D060}" type="slidenum">
              <a:rPr b="0" lang="hr-B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5840" y="1356840"/>
            <a:ext cx="8424720" cy="32259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400" spc="-1" strike="noStrike">
                <a:solidFill>
                  <a:srgbClr val="248e2e"/>
                </a:solidFill>
                <a:latin typeface="Comic Sans MS"/>
              </a:rPr>
              <a:t>IL GIOCO</a:t>
            </a:r>
            <a:br>
              <a:rPr sz="4400"/>
            </a:br>
            <a:r>
              <a:rPr b="1" lang="hr-HR" sz="4400" spc="-1" strike="noStrike">
                <a:solidFill>
                  <a:srgbClr val="248e2e"/>
                </a:solidFill>
                <a:latin typeface="Comic Sans MS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571680" y="4857480"/>
            <a:ext cx="85723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rso di studio: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Educazione Prescolare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I anno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 giochi dei bambi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ocente: Mr.sc. Nevia Močinić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07136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9. Elenca i tipi di gioco simbolico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0. Che cos' è «il cestino dei tesori» e a che cosa serv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1. A che età i bambini iniziano con il gioco simbolic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-2 an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-6 mes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-3 an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     4 ann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2. Che gioco è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ndo i bambini fanno finta di b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ndo corrono dietro ad una pal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ndo giocano a dom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ndo giocano a medico e pazi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quando giocano a nascondi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)      quando giocano a rubabandie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-360" y="228240"/>
            <a:ext cx="88390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3. Classifica le caratteristiche seguenti nelle categorie «giochi di fantasia» e «giochi con le regole»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anificazione esplicita delle azioni di gio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b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egoziazione con i compagni sulle regole del gio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mi di giochi fissi e riconoscibi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ue o più giocatori in competizione tra lor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e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istenza di regole generali con un ampio margine di libert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f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senza di ruoli più desiderabili di alt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g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 ruoli sono definiti a prio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h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amma dei possibili comportamenti ristretta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)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iste un sistema di sanzioni per chi viola le rego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a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fine a se stess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b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esenza della metacomunicazi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c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iano d'azione (sequenza coordinata di azioni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d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so di oggetti e scena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e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i gioca per vinc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f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regole sono prestabilit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g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o o più giocator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h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regole sono esplicite e fisse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i)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ercizio di comportamenti e ruoli socia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696080" cy="56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sifica i seguenti giochi in giochi tipicamente maschili, femminili o neutri. 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 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otta per fin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 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della caset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delle bambo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   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con mezzi di trasporto quali camion,    macchinette, ruspe,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  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della scuo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  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mitazione di supereroi e most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  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hi scientific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    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del merc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  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dei travestime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  </a:t>
            </a:r>
            <a:r>
              <a:rPr b="1" lang="hr-H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delle costruzion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</a:t>
            </a:r>
            <a:r>
              <a:rPr b="1" lang="hr-HR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hi da tavolo (domino, non t’arrabbiar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6960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5. I fattori di influenza sulle differenze di genere nel gioc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le aspettative e il comportamento degli adul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le scelte educative dei genitor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il contesto di gioc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 l'influenza dei media, in particolare della pubblicità televisiv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   la pressione del gruppo dei par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85800" y="-360"/>
            <a:ext cx="7696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6. Nella scuola materna la gamma dei giochi scelti dipende d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possibilità di muoversi liberame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vincoli creati dalle educatric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clima educa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  interazioni sociali tra le maes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    controllo delle maes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)    qualità delle interazioni tra i bambi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)    risorse della scuo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)    risorse dell'aul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)     stili relazionali delle maest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85800" y="83808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7. Il fenomeno dell'industria del giocattolo ha avuto inizi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rso la fine del Novec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rso la fine dell'Ottoc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erso la metà dell'Ottoc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l'inizio del Novecen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380880"/>
            <a:ext cx="7773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.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e </a:t>
            </a:r>
            <a:r>
              <a:rPr b="1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posizione psicologica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quali caratteristiche deve avere il gioco?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   motivazione intrinse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 dimensione non rea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 motivazione estrinsec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    priorità dei mezzi sul fi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      dominanza dell'individuo rispetto alla realtà estern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)        libertà dai vinco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)      priorità del fine sui mezz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)      coinvolgimento atti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)        importanza del contest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8. Il primo giocattolo industriale di massa è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 bambola Barb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'orsacchiotto Teddy Be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l bambolotto Cicciobell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d)      il trenino di latt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9. I mass media influiscono sulle condotte aggressive dei bambini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sì, hanno un ruolo determinan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no, non innescano comportamenti violent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questo effetto non è confermato dalle ricerc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0. Descrivi i lati positivi e quelli negativi dell'uso dei videogiochi.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ndividua il periodo di comparsa del giocatto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Content Placeholder 3" descr="auto-di-legno.jpg"/>
          <p:cNvPicPr/>
          <p:nvPr/>
        </p:nvPicPr>
        <p:blipFill>
          <a:blip r:embed="rId1"/>
          <a:stretch/>
        </p:blipFill>
        <p:spPr>
          <a:xfrm>
            <a:off x="2214720" y="2214720"/>
            <a:ext cx="5716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ndividua il periodo di comparsa del giocatto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3" name="Content Placeholder 7" descr="trottole.jpg"/>
          <p:cNvPicPr/>
          <p:nvPr/>
        </p:nvPicPr>
        <p:blipFill>
          <a:blip r:embed="rId1"/>
          <a:stretch/>
        </p:blipFill>
        <p:spPr>
          <a:xfrm>
            <a:off x="1857240" y="1785960"/>
            <a:ext cx="59817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ndividua il periodo di comparsa del giocatto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5" name="Content Placeholder 3" descr="Bambole-Francia_1800.jpg"/>
          <p:cNvPicPr/>
          <p:nvPr/>
        </p:nvPicPr>
        <p:blipFill>
          <a:blip r:embed="rId1"/>
          <a:stretch/>
        </p:blipFill>
        <p:spPr>
          <a:xfrm>
            <a:off x="3106800" y="1828800"/>
            <a:ext cx="3566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ndividua il periodo di comparsa del giocatto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Content Placeholder 5" descr="aereo-giocattolo.jpg"/>
          <p:cNvPicPr/>
          <p:nvPr/>
        </p:nvPicPr>
        <p:blipFill>
          <a:blip r:embed="rId1"/>
          <a:stretch/>
        </p:blipFill>
        <p:spPr>
          <a:xfrm>
            <a:off x="2214720" y="2071800"/>
            <a:ext cx="571176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ndividua il periodo di comparsa del giocatto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Content Placeholder 3" descr="treno-antico.jpg"/>
          <p:cNvPicPr/>
          <p:nvPr/>
        </p:nvPicPr>
        <p:blipFill>
          <a:blip r:embed="rId1"/>
          <a:stretch/>
        </p:blipFill>
        <p:spPr>
          <a:xfrm>
            <a:off x="2214720" y="2143080"/>
            <a:ext cx="51926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mic Sans MS"/>
              </a:rPr>
              <a:t>Individua il periodo di comparsa del giocatto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1" name="Content Placeholder 3" descr="bambola-romana.jpg"/>
          <p:cNvPicPr/>
          <p:nvPr/>
        </p:nvPicPr>
        <p:blipFill>
          <a:blip r:embed="rId1"/>
          <a:stretch/>
        </p:blipFill>
        <p:spPr>
          <a:xfrm>
            <a:off x="2214720" y="1857240"/>
            <a:ext cx="1596960" cy="47516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Barbie-ballerina.jpg"/>
          <p:cNvPicPr/>
          <p:nvPr/>
        </p:nvPicPr>
        <p:blipFill>
          <a:blip r:embed="rId2"/>
          <a:stretch/>
        </p:blipFill>
        <p:spPr>
          <a:xfrm>
            <a:off x="4643280" y="1857240"/>
            <a:ext cx="331488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17"/>
          <p:cNvSpPr/>
          <p:nvPr/>
        </p:nvSpPr>
        <p:spPr>
          <a:xfrm>
            <a:off x="1000080" y="765000"/>
            <a:ext cx="750096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. Il gioco può essere inteso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come una serie di comportamenti osservabil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come disposizione psicologic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come contesto (situazioni e processi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come sequenza evolutiva di fasi di svilupp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come attività concret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24"/>
          <p:cNvSpPr/>
          <p:nvPr/>
        </p:nvSpPr>
        <p:spPr>
          <a:xfrm>
            <a:off x="6732720" y="476280"/>
            <a:ext cx="194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3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 E' più facile definire il gioco: </a:t>
            </a:r>
            <a:br>
              <a:rPr sz="3600"/>
            </a:b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 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livello teoretico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livello comportamentale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livello empirico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   </a:t>
            </a:r>
            <a:r>
              <a:rPr b="0" lang="hr-H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 livello strumentale</a:t>
            </a:r>
            <a:br>
              <a:rPr sz="3600"/>
            </a:br>
            <a:r>
              <a:rPr b="0" lang="hr-HR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      a livello contestual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6760" y="928440"/>
            <a:ext cx="821556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57120" y="2571840"/>
            <a:ext cx="850104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304920"/>
          <a:ext cx="7848720" cy="5789520"/>
        </p:xfrm>
        <a:graphic>
          <a:graphicData uri="http://schemas.openxmlformats.org/drawingml/2006/table">
            <a:tbl>
              <a:tblPr/>
              <a:tblGrid>
                <a:gridCol w="5638680"/>
                <a:gridCol w="2210040"/>
              </a:tblGrid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o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uto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upporto al processo di creazione simbolica in funzione dello sviluppo cognitivo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ead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isposta originale a bisogni non soddisfatti e possibilità di emanciparsi dalle costrizioni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ituazionali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runer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ossibilità di conciliare il mondo interno con i vincoli della realtà esterna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Piaget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modo di confrontarsi con gli altri  e di assumere la prospettiva altrui</a:t>
                      </a: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Vygotski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r-HR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sercizio di abilità cognitive o socia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Winnicott</a:t>
                      </a:r>
                      <a:r>
                        <a:rPr b="0" lang="hr-HR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62120" y="1523520"/>
            <a:ext cx="78818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 A quale età il bambino inizia ad includere nel gioco gli oggetti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2-3 mes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-6 mes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</a:t>
            </a:r>
            <a:r>
              <a:rPr b="0" lang="hr-H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 ann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360" y="642960"/>
            <a:ext cx="90010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6. Che differenza c'è tra manipolazione generica e manipolazione selettiva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214200" y="380880"/>
            <a:ext cx="850104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 Individua i giochi dei bambini nei primi due anni di vit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plorazione del proprio cor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simbol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ipolazione di ogget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azione ludica con le persone che lo cura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hi voca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)      giochi con le rego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azione ludica tra bambi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285840" y="304560"/>
            <a:ext cx="8215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8. Individua i giochi dei bambini nel terzo anno di vit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splorazione del proprio corp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simbolic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nipolazione di oggett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azione ludica con le persone che lo curan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hi vocal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)      giochi con le rego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terazione ludica tra bambin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)     </a:t>
            </a:r>
            <a:r>
              <a:rPr b="0" lang="hr-H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r-H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ioco di fantas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6:35:01Z</dcterms:created>
  <dc:creator>Korisnik</dc:creator>
  <dc:description/>
  <dc:language>en-US</dc:language>
  <cp:lastModifiedBy>Miro</cp:lastModifiedBy>
  <dcterms:modified xsi:type="dcterms:W3CDTF">2013-01-28T20:28:36Z</dcterms:modified>
  <cp:revision>34</cp:revision>
  <dc:subject/>
  <dc:title>IL RAPPORTO FRA LA DIDATTICA DELLA NATURA E SOCIETÀ E LE ALTRE SCIENZE</dc:title>
</cp:coreProperties>
</file>