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3B8-0C84-4706-9F4A-9E06C124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5AC-1646-4DF5-8B2C-825FC48E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B83-1613-42D5-B46C-7268F23C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276-F89D-479F-9706-C13C3600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30F6-D2AE-4929-BEA3-DD88487D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9968-BFD9-4C7F-AE32-FB33521D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68A-D7D9-4E64-928E-CE8D424D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E33C-D53F-4D6D-94BE-21E5E999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56C7-F609-4EAE-A4ED-8DF28063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6915-6005-4CBA-89EA-D078F60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97A-20FF-4A97-BF71-0E21A78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A09-0FDA-4990-AFB2-6F78CE38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F7B7-E18B-4F66-885F-C48CDC9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50FF-42D6-472A-9F7F-1DCD91F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281F-1D22-45F7-ABAA-47AAA271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838F-60AA-496C-9D20-A9C591E9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23EA-8B94-4A53-B57D-EF00045B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35A-BD98-46F6-A288-18EC9B51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C49-8340-4637-BE95-D46FC79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58C-6BB1-49C6-BCAA-17B95E8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7FE-17D4-4783-A489-4C6CCA7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1DE-F608-4CEB-BD49-FDF697B7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E64-3EAA-4718-A8E8-B7D9B47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FD1-9ABD-49BD-8B3F-E1BCDC6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E9E-15AC-4DF6-8254-BF40BEA1253D}" type="slidenum">
              <a:rPr b="0" lang="hr-H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DB46-C93C-4630-A4AB-B5A5D3B1AB1F}" type="slidenum">
              <a:rPr b="0" lang="hr-H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La formazione dei concet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Mr.sc. Nevia Močini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erchia gli animali a quattro zamp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5" descr="immagini varie 1"/>
          <p:cNvPicPr/>
          <p:nvPr/>
        </p:nvPicPr>
        <p:blipFill>
          <a:blip r:embed="rId1">
            <a:lum bright="6000"/>
          </a:blip>
          <a:srcRect l="0" t="0" r="0" b="79062"/>
          <a:stretch/>
        </p:blipFill>
        <p:spPr>
          <a:xfrm>
            <a:off x="650880" y="2852640"/>
            <a:ext cx="84931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Classificazion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Raggruppare gli oggetti in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insiemi secondo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caratteristiche di un criterio: es.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colori,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forme,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tipi di materiale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Esercizi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sistemare i libri sugli scaffali secondo il contenuto: fiabe, favole, poesie, racconti, fumetti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formare insiemi di animali quadrupedi e bipedi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formare insiemi di strumenti usati dal medico, dalla cuoca, dalla parrucchiera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sistemare i giocattoli nell’angolo delle costruzioni, dei travestimenti, ec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a3d7a"/>
                </a:solidFill>
                <a:latin typeface="Times New Roman"/>
              </a:rPr>
              <a:t>Classifica i segnali stradali in rotondi, triangolari e rettangolari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segnali_stradali[1].jpg"/>
          <p:cNvPicPr/>
          <p:nvPr/>
        </p:nvPicPr>
        <p:blipFill>
          <a:blip r:embed="rId1"/>
          <a:stretch/>
        </p:blipFill>
        <p:spPr>
          <a:xfrm>
            <a:off x="2643120" y="1857240"/>
            <a:ext cx="41608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Corrispondenza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Abbinare un oggetto ad un altro, termine per termin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Importante per determinare in modo semplice quale insieme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è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numeroso (sedie e persone sedute, bambini e piatti, bambini e matite…), ovvero l’eccedenza o la mancanza di element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Esercizi utili: apparecchiare la tavola, assegnare un giocattolo ad ogni bambino, abbinare i piattini con le tazzine, le pentole con i coperchi, le uova con i portauova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a3d7a"/>
                </a:solidFill>
                <a:latin typeface="Times New Roman"/>
              </a:rPr>
              <a:t>Assegna ad ogni bambino un giocattolo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4" descr="bambini e giocattoli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692360" y="1844640"/>
            <a:ext cx="619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Seriazion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Ripetere una sequenza di oggetti sistemati secondo un certo ordi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Serve come preparazione alla scrittura di parole e numer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Modello: uno a uno, due a uno, uno a due, due a due, tre a tre, ec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343400" y="5562720"/>
            <a:ext cx="60948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19320" y="5562720"/>
            <a:ext cx="60948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209680" y="5562720"/>
            <a:ext cx="685800" cy="6094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3124080" y="54864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5219640" y="5516640"/>
            <a:ext cx="685800" cy="6094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012000" y="54450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Ordinamento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Disporre una serie di oggetti da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piccolo a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grande, o secondo altri criter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Richiede il confronto degli oggetti e presuppone la conoscenza dei concetti di primo, fra, accanto, ultimo, i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alto, i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basso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Richiede l’applicazione della propriet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transi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Esercizi utili – ordinare le bamboline russe, ordinare le matite colorate, mettersi in riga, ordinare i libr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Sistema in ordine di altezz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4" name="Picture 4" descr="ippocampo"/>
          <p:cNvPicPr/>
          <p:nvPr/>
        </p:nvPicPr>
        <p:blipFill>
          <a:blip r:embed="rId1"/>
          <a:stretch/>
        </p:blipFill>
        <p:spPr>
          <a:xfrm>
            <a:off x="5148360" y="3213000"/>
            <a:ext cx="792000" cy="140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ppocampo"/>
          <p:cNvPicPr/>
          <p:nvPr/>
        </p:nvPicPr>
        <p:blipFill>
          <a:blip r:embed="rId2"/>
          <a:stretch/>
        </p:blipFill>
        <p:spPr>
          <a:xfrm>
            <a:off x="971640" y="2276640"/>
            <a:ext cx="1122120" cy="19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ppocampo"/>
          <p:cNvPicPr/>
          <p:nvPr/>
        </p:nvPicPr>
        <p:blipFill>
          <a:blip r:embed="rId3"/>
          <a:stretch/>
        </p:blipFill>
        <p:spPr>
          <a:xfrm>
            <a:off x="2627280" y="2781360"/>
            <a:ext cx="1666800" cy="295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ppocampo"/>
          <p:cNvPicPr/>
          <p:nvPr/>
        </p:nvPicPr>
        <p:blipFill>
          <a:blip r:embed="rId4"/>
          <a:stretch/>
        </p:blipFill>
        <p:spPr>
          <a:xfrm>
            <a:off x="6804000" y="2421000"/>
            <a:ext cx="20113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Concetti matematic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101680"/>
            <a:ext cx="80769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ncetti astratti: il numero = astrazione tratta da numerose altre astrazion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Struttura gerarchica: numero; operazioni di primo grado (addizione e sottrazione); operazioni di secondo grado (moltiplicazione e division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Linguaggio matematico - astratto, preciso e univoc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mprendere i concetti matematici senza perdere il contatto con la realt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Formazione dei concet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sperienza - il bambino osserva, percepisce ed esplora gli oggett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inguaggio – gradualmente impara a pronunciare le parole che indicano le cose che lo circonda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mmagini – in seguito riconosce le immagini (illustrazioni o fotografie) che rappresentano l’esperienz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imboli – generalizzano l’esperienza (lettere e numeri per scrivere parole e fras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Esempio – concetto di pall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Osserva, tiene, rotola la palla. Gioca e impara a riconoscere le sue caratteristich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Associa il suono della parola “palla” al suo giocattolo e poi ad altri simili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Riconosce l’immagine della palla anche se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è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bidimensionale e diversa dalla su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Impara ad usare i simboli (le lettere) con le quali indicher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Arial"/>
              </a:rPr>
              <a:t>à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il suono della parola “palla”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a3d7a"/>
                </a:solidFill>
                <a:latin typeface="Times New Roman"/>
              </a:rPr>
              <a:t>Formazione concetti protomatematici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ncetti importanti: molto, poco, alcuni, tanti quanti,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, meno, lungo, corto, della stessa lunghezza,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lungo,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corto, rotondo, piano o diritto, aperto, chiuso, ec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Esempi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lungo e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cor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della stess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lunghezz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105520" y="4495680"/>
            <a:ext cx="2666880" cy="486000"/>
          </a:xfrm>
          <a:prstGeom prst="rightArrow">
            <a:avLst>
              <a:gd name="adj1" fmla="val 50000"/>
              <a:gd name="adj2" fmla="val 13718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105520" y="533412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105520" y="601992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I concetti: rotondo e pian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101320"/>
            <a:ext cx="807696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Osservazione di vari oggetti di forma diversa (es. scatole rotonde, rettangolari, palle, coni, cilindri, ecc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Le cose rotonde rotolano, le cose piane o diritte non rotolan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990720" y="5181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514600" y="5105520"/>
            <a:ext cx="914400" cy="1218960"/>
          </a:xfrm>
          <a:prstGeom prst="flowChartMagneticDisk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3733920" y="5410080"/>
            <a:ext cx="1143000" cy="685800"/>
          </a:xfrm>
          <a:prstGeom prst="flowChartMagneticDrum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257800" y="5257800"/>
            <a:ext cx="1066680" cy="9907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modem"/>
          <p:cNvSpPr/>
          <p:nvPr/>
        </p:nvSpPr>
        <p:spPr>
          <a:xfrm>
            <a:off x="6705720" y="5181480"/>
            <a:ext cx="1809720" cy="914400"/>
          </a:xfrm>
          <a:prstGeom prst="pie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Le figure geometrich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erchi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Triangol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Rettangolo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Quadrato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ncetto di congru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Esercizi: Uso delle forme per creare nuove immagini, stampe con le forme, ricerca di oggetti nell’ambi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267080" y="2209680"/>
            <a:ext cx="838440" cy="7621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5943600" y="2209680"/>
            <a:ext cx="1143000" cy="9144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934320" y="3429000"/>
            <a:ext cx="914400" cy="609480"/>
          </a:xfrm>
          <a:prstGeom prst="flowChart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952880" y="3581280"/>
            <a:ext cx="838440" cy="762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Attivit</a:t>
            </a:r>
            <a:r>
              <a:rPr b="0" lang="hr-HR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à</a:t>
            </a: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 logiche nella </a:t>
            </a:r>
            <a:br>
              <a:rPr sz="4400"/>
            </a:b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formazione dei concet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Unione o associazion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Classificazion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Ordinamen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Seriazione / alternanze ritmich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Corrispondenza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Unione o associazi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Unire o associare oggetti con una qualit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in comune (oggetti rossi, oggetti di cartone, oggetti grandi, oggetti quadrati, ec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Il criterio 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è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uno (materiale, grandezza, colore, forma…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Osservando gli oggetti  si scelgono le esperienze con le stesse caratteristiche e si tralasciano quelle con caratteristiche divers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Esercizi: togliere le castagne da una scatola che contiene anche noci, conchiglie e pigne; scegliere i cucchiai tra le posate; trovare i giocattoli rotondi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7:37:59Z</dcterms:created>
  <dc:creator>miro</dc:creator>
  <dc:description/>
  <dc:language>en-US</dc:language>
  <cp:lastModifiedBy>Miro</cp:lastModifiedBy>
  <dcterms:modified xsi:type="dcterms:W3CDTF">2014-06-03T18:31:44Z</dcterms:modified>
  <cp:revision>7</cp:revision>
  <dc:subject/>
  <dc:title>La formazione dei concetti</dc:title>
</cp:coreProperties>
</file>