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50B-FD12-415E-9694-64424981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356-80CE-4541-A6FA-ECCD6F55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DAE-F7E0-4951-8518-BE4C6901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301-686D-4C60-A175-65EA5E97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5E45-E4AF-4A22-98EB-ACAC4410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95C5-C12C-4196-BDAF-2FB2BE72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157E-1BA0-459D-84CB-0EFDD2A6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837D-19A5-45C7-80D3-32EF701E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C9C6-A147-4F6E-AE91-0F4088BC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D591-F330-41D2-8EB1-1A58D2B5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907C-E435-4B8E-8756-2865B82B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1F9-06E1-42A1-9123-DE6EB752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04CA-F1F1-424E-BB72-9ABEF6E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3CBB-9D89-4FA3-A840-4D31B61E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304B-68DD-4EF6-936B-8DA515C2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BB57-5585-497C-A147-27871532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07BA-FB67-40F1-8026-C4852AF4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540-5DEB-4EEB-85B5-56C98857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863-58AF-4002-9950-EDD0E995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820-C501-4901-936F-5551D396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2F2-CB74-4C7E-A912-94B34F06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B08-342F-44C4-9915-15C3AA98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3B6-DC57-47F1-934C-C87163A7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7F1-1989-4E4B-9C53-3950929A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CA2D-7E10-428E-A0BA-B49CCF8B856C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67FC-7905-4D07-B929-A8A294658F46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Arial"/>
              </a:rPr>
              <a:t>La misura e le misura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Arial"/>
              </a:rPr>
              <a:t>Mr.sc. Nevia Močini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Problema della conserva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tudi sulla comprensione delle grandezze fisiche e geometriche nell’e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prescol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capac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i riconoscere la conservazione della quant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opo trasformazioni apparenti (tagliare a pezzetti, schiacciare, versare in contenitori di forma divers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tuizioni suggerite dalla variabile percettiva pi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evid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Concetto di conservazione = prerequisito per l’attiv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i misura               esclude le esperienze di mis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743200" y="5943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isura = area di sviluppo prossim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Esperienze non pienamente comprese dal bambi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Utili per una successiva integrazione nella rete delle concettualizza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onservazione = non condizione a priori dell’esperienza di misura, ma la misura facilita la conquista del concetto di conserv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C:\Program Files\Common Files\Microsoft Shared\Clipart\cagcat50\pe01931_.wmf"/>
          <p:cNvPicPr/>
          <p:nvPr/>
        </p:nvPicPr>
        <p:blipFill>
          <a:blip r:embed="rId1"/>
          <a:stretch/>
        </p:blipFill>
        <p:spPr>
          <a:xfrm>
            <a:off x="4114800" y="5715000"/>
            <a:ext cx="13032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isurare e ordin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rdinare – esperienza necessaria e indispensabile prima delle misura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Scale ordinali – presenti in numerosi settori della scienza e della tecnica: es. scala Richter, scala Mohs, indice forza del m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rdinare – sistemare in ordine secondo la lunghezza, secondo il peso, o la durata del tempo, ecc.- gradino intermedio verso la misura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onfrontare gli oggetti sistemati in un ordinament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Itinerari per l’approccio alla mis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Misura dirett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– senza strumenti = confronto diretto con un camp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Misura indirett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– con l’uso di strumenti standardizzati = confronto con uno strumento usato dagli adul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La misura diretta – risponde meglio all’esigenza del bambino di scoprire da s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strategie di soluzione dei problemi di misura e di individuare procedure adegu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isura diretta - proced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sservazione degli oggetti da misur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viduazione di proprie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a misur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viduazione di un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i mis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escrizione dei procedimenti d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congiunzione dei campioni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replicazione dei campio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Conteggio dei campioni (grandezze frazionabili) o dei gesti (grandezze non frazionabil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cazione della misura (numero e un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i misur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isura indiretta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sservazione degli strumenti standardizzati di misura: orologi, calendari, contenitori graduati, metri, righelli, ruote, bilance, termometri, ec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viduazione degli oggetti da misur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viduazione delle proprie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osservabili con tali strum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escrizione dei procedimenti di uso degli strumenti (a lettura diretta, con scala numeric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Lettura dei risulta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cazione della misura (numero e un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i misur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5:52:38Z</dcterms:created>
  <dc:creator>miro</dc:creator>
  <dc:description/>
  <dc:language>en-US</dc:language>
  <cp:lastModifiedBy>Miro</cp:lastModifiedBy>
  <dcterms:modified xsi:type="dcterms:W3CDTF">2014-06-03T19:00:51Z</dcterms:modified>
  <cp:revision>4</cp:revision>
  <dc:subject/>
  <dc:title>La misura e le misurazioni</dc:title>
</cp:coreProperties>
</file>