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2EF-3F9A-438C-940B-4FFC45BE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2BF-EBF0-4B10-8489-9875A197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A4C-493D-4174-AFA4-02E53130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F2F-27E4-4C9F-8386-F1B31C68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AF78-955A-453A-99F7-619C569A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9F87-7F12-4ADB-A1EE-49FCA797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5FA6-A77B-4D3D-9FD7-E76C9411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9F65-9EE9-4797-B47B-56206741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D57E-D458-4B7F-878D-4046310A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18B3-201C-483C-8510-8CC8F49C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6EF4-46D2-4081-AD4C-83C6DE0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D8B-08AF-429B-9B1A-93CC543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9369-6A73-4348-ACDA-87EBE8A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F88D-406F-4BD3-821C-8B438F4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BE46-C932-4C7C-B21D-82F3013A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CCA2-E872-4BAE-BCAE-0207C991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CF2B-F27E-45D1-9CC2-F5708D0B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01E-7DAA-42F7-B086-A0CD71DE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551-E01B-4121-83CA-87EBEDF7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934-3695-4E79-8867-AA8624D9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F22-C0B5-4FE6-B25D-A964E1AA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2E6-E55B-48FC-B583-1BB840D0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A5C-4136-4785-9662-129A06A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19D-3361-473C-9396-485DFEBB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EBC7-DD5F-4F35-A054-93A42AF5AE7E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044B-1B75-4752-8F3D-365694B6D342}" type="slidenum">
              <a:rPr b="0" lang="hr-HR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66cc"/>
                </a:solidFill>
                <a:latin typeface="Comic Sans MS"/>
              </a:rPr>
              <a:t>Alcuni teorici dell’apprendimento matematico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724280" y="272556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Mr.sc. Nevia Močinić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nno acc. 2013/14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Stadi dello sviluppo cognitivo secondo Dienes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adio del gioco liber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adio delle regol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nalogia strutturale tra gioch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appresentazione grafica della struttura del gioc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appresentazione verbale della realt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ensiero form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KENNETH LOVELL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sicologo inglese – si riallaccia a Piaget di cui continua le ricerch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rocesso di sviluppo concetti matematici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molto lento e complesso e tutt’oggi non del tutto compres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rimi concetti vaghi e confus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gradualmente pi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chiari e profond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Sviluppo concetti matematici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econdo Lovell dipende da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qualit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di meccanismi cerebral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motivazione ad apprend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imoli dell’ambiente cultural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ensiero logico = lo strumento pi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potente di cui l’uomo dispong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Gli uomini – gradi molto diversi di capacit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cognitiv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Operazioni mentali – risultato dell’azione e dell’esperienz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Conclusione</a:t>
            </a:r>
            <a:br>
              <a:rPr sz="4400"/>
            </a:b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Nella scuola dell’infanzia...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si gettano le basi cognitive e linguistich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non si richiede l’acquisizione di concetti formali n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  <a:ea typeface="Arial"/>
              </a:rPr>
              <a:t>è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 concreti n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  <a:ea typeface="Arial"/>
              </a:rPr>
              <a:t>è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 astrat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Si deve curare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l’organizzazione di numerose esperienze concre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la verbalizzazione delle esperienze compiu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lo sviluppo cognitivo in generale e il pensiero divergente in particol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3502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Percezione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– interpretazione di eventi sensorial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Memoria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– registrazione dei dati e loro riestrazione al momento opportun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Generazione di idee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– rielaborazione dei dati per creare nuove ide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Ragionamento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– manipolazione dei dati nella ricerca di rapporti, relazioni, strutture e sistem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Valutazione e creazion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80"/>
                </a:solidFill>
                <a:latin typeface="Arial"/>
              </a:rPr>
              <a:t>Attivit</a:t>
            </a:r>
            <a:r>
              <a:rPr b="0" lang="hr-HR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à</a:t>
            </a:r>
            <a:r>
              <a:rPr b="0" lang="hr-HR" sz="4400" spc="-1" strike="noStrike">
                <a:solidFill>
                  <a:srgbClr val="000080"/>
                </a:solidFill>
                <a:latin typeface="Arial"/>
              </a:rPr>
              <a:t> cognitiva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3" name="Picture 5" descr="j0089038[1]"/>
          <p:cNvPicPr/>
          <p:nvPr/>
        </p:nvPicPr>
        <p:blipFill>
          <a:blip r:embed="rId1"/>
          <a:stretch/>
        </p:blipFill>
        <p:spPr>
          <a:xfrm>
            <a:off x="7162920" y="0"/>
            <a:ext cx="14652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728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adi dello sviluppo mentale secondo Piaget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senso-motoria 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preoperatoria (intuitiva, preoperatoria vera e propria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del pensiero operatorio-concret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formale operativ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logico-astratta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295280" y="6094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80"/>
                </a:solidFill>
                <a:latin typeface="Arial"/>
              </a:rPr>
              <a:t>Stadi dello sviluppo mental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6" name="Picture 6" descr="Piaget"/>
          <p:cNvPicPr/>
          <p:nvPr/>
        </p:nvPicPr>
        <p:blipFill>
          <a:blip r:embed="rId1"/>
          <a:stretch/>
        </p:blipFill>
        <p:spPr>
          <a:xfrm>
            <a:off x="7467480" y="2286000"/>
            <a:ext cx="10875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66cc"/>
                </a:solidFill>
                <a:latin typeface="Arial Black"/>
              </a:rPr>
              <a:t>Processo di apprendimento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71360" y="1642680"/>
            <a:ext cx="7995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nterazione attiva con l’ambien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correlazione stretta tra sviluppo fisico e ment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viluppo = adattamento all’ambien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pprendimento – consiste nei processi di </a:t>
            </a:r>
            <a:r>
              <a:rPr b="1" lang="hr-HR" sz="3200" spc="-1" strike="noStrike">
                <a:solidFill>
                  <a:srgbClr val="000080"/>
                </a:solidFill>
                <a:latin typeface="Arial"/>
              </a:rPr>
              <a:t>assimilazione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(adattamento agli schemi mentali e di comportamento esistenti) e </a:t>
            </a:r>
            <a:r>
              <a:rPr b="1" lang="hr-HR" sz="3200" spc="-1" strike="noStrike">
                <a:solidFill>
                  <a:srgbClr val="000080"/>
                </a:solidFill>
                <a:latin typeface="Arial"/>
              </a:rPr>
              <a:t>accomodamento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(modifiche degli sch. mentali e di comportamento esistenti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Periodo pre-operatorio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28440" y="1642680"/>
            <a:ext cx="798660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Caratteristiche: egocentrismo, concentrazione su un aspetto alla volta, irreversibilità del pensiero, ragionamento primitivo, identità dell’oggetto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Operazioni mentali specifiche: realismo, pensiero intuitivo (incapace di ricostruire la sequenza del proprio ragionamento), pensiero magico, animismo, artificialismo (le cose esistono per servire l’uomo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Capace di formulare pre-concetti o protoconcetti, concetti intuitivi e non astrat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77240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- la conoscenza del mondo si sviluppa attraverso azioni mentali e non attraverso i sens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e conoscenze nuove sono costruite sulla base di quelle precedent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e le conoscenze nuove sono in conflitto con le vecchie, bisogna modificare il modo di pensa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600200" y="304920"/>
            <a:ext cx="64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80"/>
                </a:solidFill>
                <a:latin typeface="Arial"/>
              </a:rPr>
              <a:t>Teoria del costruttivism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3" name="Picture 5" descr="MCj00889420000[1]"/>
          <p:cNvPicPr/>
          <p:nvPr/>
        </p:nvPicPr>
        <p:blipFill>
          <a:blip r:embed="rId1"/>
          <a:stretch/>
        </p:blipFill>
        <p:spPr>
          <a:xfrm>
            <a:off x="7315200" y="4800600"/>
            <a:ext cx="15271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Lev Vygotskij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6426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rumenti di strutturazione del pensiero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ipetute esperienze attiv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gioco d’immaginazion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l linguaggio verb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l clima positiv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nterazione soci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o sviluppo della metacogni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a zona di sviluppo prossim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6" name="Picture 4" descr="Vygotskij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162920" y="2895480"/>
            <a:ext cx="167328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Zoltan P. Dienes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Matematico di origine ungheres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nventore dei blocchi logic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dee base di Dienes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fruttare la naturale curiosit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del bambin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organizzare la conoscenza matematica per scopert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uolo fondamentale del gioc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pprendere – passaggio a forme di comportamento che rispondono meglio ai bisogni del bambin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9" name="Picture 4" descr="Zoltan Dienes"/>
          <p:cNvPicPr/>
          <p:nvPr/>
        </p:nvPicPr>
        <p:blipFill>
          <a:blip r:embed="rId1"/>
          <a:srcRect l="15748" t="19685" r="15748" b="0"/>
          <a:stretch/>
        </p:blipFill>
        <p:spPr>
          <a:xfrm>
            <a:off x="7264440" y="457200"/>
            <a:ext cx="1879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80"/>
                </a:solidFill>
                <a:latin typeface="Arial"/>
              </a:rPr>
              <a:t>La proposta di Dienes</a:t>
            </a:r>
            <a:r>
              <a:rPr b="0" lang="hr-HR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000080"/>
                </a:solidFill>
                <a:latin typeface="Arial"/>
              </a:rPr>
              <a:t>(i quattro principi di riferimento)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56800" y="1500120"/>
            <a:ext cx="821052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incipio dinamico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a matematica non va insegnata ma “scoperta”, in una continua evoluzione di situazioni psicologiche ambientali (attività in gruppo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incipio della costruttività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un concetto si costruisce per tappe successive attraverso le fasi attiva-iconica-simbolica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incipio della variabilità percettiva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ogni struttura matematica deve essere incontrata in situazioni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concrete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svariate e divers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er essere astratta veram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incipio della variabilità matematica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: si devono adottare criteri di gradualità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8:16:54Z</dcterms:created>
  <dc:creator>korisnik</dc:creator>
  <dc:description/>
  <dc:language>en-US</dc:language>
  <cp:lastModifiedBy>Miro</cp:lastModifiedBy>
  <dcterms:modified xsi:type="dcterms:W3CDTF">2014-04-01T21:10:59Z</dcterms:modified>
  <cp:revision>30</cp:revision>
  <dc:subject/>
  <dc:title>IL METODO DEL LAVORO SUL TESTO</dc:title>
</cp:coreProperties>
</file>