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A41-CFC2-49FB-9CB3-200796F4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FCC-CD0B-44B9-8CB9-B2B5F089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133-204C-4ECA-B92A-F0B115FC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CB4-804E-4E10-A7F8-521A451D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FEE1-338F-4E4C-9ED2-78AD282B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B136-D2D9-425E-AEEB-D1F89A3B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DC09-DF94-4891-A558-5BF20BE8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50D2-36B1-40F7-AF34-69DBE3D9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2492-D64F-4217-B2BB-737ABF29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072C-71BF-4E62-A753-842B87AA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FAEA-BD69-490B-BB15-098B615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A2E-8588-41C9-8F29-19D1BDDF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0A55-C01C-40B6-85C5-B4BE43D8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995B-4C86-4260-8588-DAC04AD2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DD13-1383-4760-89C9-EBEC47A9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CABD-F532-4C1E-800A-4A4FEC03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6A90-23F9-4CD5-85AC-A0E6A94B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987-C3A4-4920-A054-4F77C026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2C7-D1E7-43E8-82BC-CF253751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DF2-8F14-4AC6-BDF6-15B44467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E91-09CA-462F-B0D4-78ED99D1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56E-193F-4CD9-ABD5-BFBC7EC3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A75-CDF9-46E9-B94B-64BF070B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365-C0D2-4610-8DCD-64459188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1027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1029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1032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1033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34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039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040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041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042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043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1044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1047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1048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1049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1050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1051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1052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1053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1054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1055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1056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1057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1058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1059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1060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1061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1062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1063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1064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1065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1066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1067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1068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9AFB-F1B2-4B6F-A2FB-1877310BE0E1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1BF5-9F8C-42DA-A35A-093813FB3685}" type="slidenum">
              <a:rPr b="0" lang="hr-HR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6497640" cy="286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200" spc="-1" strike="noStrike">
                <a:solidFill>
                  <a:srgbClr val="3333cc"/>
                </a:solidFill>
                <a:latin typeface="Verdana"/>
              </a:rPr>
              <a:t>Verso il concetto di tempo</a:t>
            </a:r>
            <a:endParaRPr b="0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Verdana"/>
              </a:rPr>
              <a:t>Mr.sc. Nevia Močinić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440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Il tempo come successione lineare richiede di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rdinare gli eventi secondo la </a:t>
            </a:r>
            <a:r>
              <a:rPr b="0" lang="hr-HR" sz="3200" spc="-1" strike="noStrike">
                <a:solidFill>
                  <a:srgbClr val="ff3300"/>
                </a:solidFill>
                <a:latin typeface="Verdana"/>
              </a:rPr>
              <a:t>durata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degli interval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rdinare gli eventi secondo il loro </a:t>
            </a:r>
            <a:r>
              <a:rPr b="0" lang="hr-HR" sz="3200" spc="-1" strike="noStrike">
                <a:solidFill>
                  <a:srgbClr val="ff3300"/>
                </a:solidFill>
                <a:latin typeface="Verdana"/>
              </a:rPr>
              <a:t>susseguirsi nel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a padronanza di queste capacità presuppone l’uso della proprietà transitiv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19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Nel definire la successione lineare è necessari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tabilire l’ordine di successione degli eventi: es. </a:t>
            </a:r>
            <a:r>
              <a:rPr b="0" i="1" lang="hr-HR" sz="3200" spc="-1" strike="noStrike">
                <a:solidFill>
                  <a:srgbClr val="000066"/>
                </a:solidFill>
                <a:latin typeface="Verdana"/>
              </a:rPr>
              <a:t>eventi della vita familiar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conoscere la contemporaneità nel presente, nel passato, nel futuro: es. </a:t>
            </a:r>
            <a:r>
              <a:rPr b="0" i="1" lang="hr-HR" sz="3200" spc="-1" strike="noStrike">
                <a:solidFill>
                  <a:srgbClr val="000066"/>
                </a:solidFill>
                <a:latin typeface="Verdana"/>
              </a:rPr>
              <a:t>Mentre i bambini giocano a palla, le bambine saltano la corda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conoscere eventi reversibili e irreversibili: es. </a:t>
            </a:r>
            <a:r>
              <a:rPr b="0" i="1" lang="hr-HR" sz="3200" spc="-1" strike="noStrike">
                <a:solidFill>
                  <a:srgbClr val="000066"/>
                </a:solidFill>
                <a:latin typeface="Verdana"/>
              </a:rPr>
              <a:t>mescolare bottoni, bruciare la legna, rompere la tazzina, spostare le lancette dell’orologi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142560"/>
            <a:ext cx="84582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Come superare le difficoltà nello stabilire il coordinamento di successioni</a:t>
            </a: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856880"/>
            <a:ext cx="88390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ttraverso il ricorso a illustrazioni, fotografie, disegn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ttraverso il ricorso a immagini mentali concretizzate con opportune rappresentazioni grafich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ttraverso il riordinamento di azioni o eventi compiuto dai bambini stessi: es. vestirsi, lavarsi, usare oggetti comuni, ecc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Tipi di esperienze util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sservazione e verbalizzazione di successioni di azioni compiute dal bambino o di eventi esterni;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Esecuzione di attività assegnate in successione (giochi con regole, costruzioni, percorsi, ricette, ….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difica di successioni d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Decodifica di successioni d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ordinamento di sequenze d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Esperienze util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conoscere la simultaneità e la contemporaneità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conoscere la reversibilità e l’irreversibilità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flettere sulle parole (prima, oggi, domani, mentre,…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rrelare successioni diverse di eventi eterogenei: es. parti di una storia e l’accompagnamento musica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Il tempo come durata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ffrontare il problema della durata del tempo significa dare significato a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ll’uguaglianza degli intervalli di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l confronto e all’ordinamento degli intervalli di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ll’addizione (o congiunzione) di intervalli di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Misura del temp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Esperienze precedenti: valutazioni soggettive sui tempi lunghi e tempi corti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Confronti motivati di durate relative a esperienze familiari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Codifica di durate grossolanamente diverse (es., ºººººº, ///////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Riproduzione di intervalli di tempo di durata assegnata (es, disegnare, stare in piedi, stare ad occhi chiusi, ecc.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L’orologio – strumento per la misura del tempo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struzione degli orologi- basata sull’osservazione di un fenomeno periodico natura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ssunzione come unità di misura dell’intervallo fra due successive fasi del fenomen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uddivisione dell’intervallo fra due successive fasi del fenomeno in sottomultipli opportun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Uso dell’orologi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ndiziona la vita di adulti e bambin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nosciuto dai bambini sia per le modalità d’uso che per il vocabolario ad esso relativo (numeri – nomi delle ore, parti dell’orologio, tipi di orologi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mportante per costruirsi sistemi di riferimento temporali propri degli adul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Esperienze temporal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Esperienze temporali molto più complesse delle altre grandezze (grandezza, peso, volume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flessione: Si può misurare il tempo? Con che cosa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rologi analogici soppiantati dagli orologi digita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Picture 4" descr="or-analogico"/>
          <p:cNvPicPr/>
          <p:nvPr/>
        </p:nvPicPr>
        <p:blipFill>
          <a:blip r:embed="rId1"/>
          <a:stretch/>
        </p:blipFill>
        <p:spPr>
          <a:xfrm>
            <a:off x="2133720" y="480060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or-digitale"/>
          <p:cNvPicPr/>
          <p:nvPr/>
        </p:nvPicPr>
        <p:blipFill>
          <a:blip r:embed="rId2"/>
          <a:stretch/>
        </p:blipFill>
        <p:spPr>
          <a:xfrm>
            <a:off x="4800600" y="4648320"/>
            <a:ext cx="2436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Concetti matematic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l concetto di tempo – oggetto di indagine di filosofi, biologi, fisici, antropologi, epistemologi, ecc.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i sono elementi matematici nel concetto di tempo?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spetti del tempo studiati dalla protomatematica: </a:t>
            </a:r>
            <a:r>
              <a:rPr b="0" lang="hr-HR" sz="3200" spc="-1" strike="noStrike">
                <a:solidFill>
                  <a:srgbClr val="ff3300"/>
                </a:solidFill>
                <a:latin typeface="Verdana"/>
              </a:rPr>
              <a:t>a)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ff3300"/>
                </a:solidFill>
                <a:latin typeface="Verdana"/>
              </a:rPr>
              <a:t>durate temporali; b) successioni tempora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Durate t. (misura), successioni t. (attività logica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Vantaggi orologio digital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Maggiore facilità di lettura delle or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n accordo con le locuzioni interessanti per i bambin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apido alternarsi dei numeri - rende percettivamente evidente lo scorrere del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7" name="Picture 4" descr="or-digitale"/>
          <p:cNvPicPr/>
          <p:nvPr/>
        </p:nvPicPr>
        <p:blipFill>
          <a:blip r:embed="rId1"/>
          <a:stretch/>
        </p:blipFill>
        <p:spPr>
          <a:xfrm>
            <a:off x="3352680" y="1219320"/>
            <a:ext cx="243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Vantaggi orologio analogic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bitua ad identificare il tempo di un evento in riferimento alle varie ore della giornat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ottolinea la periodicità di cert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tima dell’ora più significativa della lettura precisa sull’orologio digita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0" name="Picture 4" descr="or-analogico"/>
          <p:cNvPicPr/>
          <p:nvPr/>
        </p:nvPicPr>
        <p:blipFill>
          <a:blip r:embed="rId1"/>
          <a:stretch/>
        </p:blipFill>
        <p:spPr>
          <a:xfrm>
            <a:off x="3581280" y="1295280"/>
            <a:ext cx="18288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Esperienze util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Osservare e descrivere vari tipi di orologi analogici: sveglie, pendole, orologi da cucina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Fare ipotesi sul loro us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Fare ipotesi sul loro funzionament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Disegno della posizione delle lancette in vari momenti significativi della giornata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Associazione di alcune ore con attività significative della giornata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Avvio alla lettura e alla messa a punto dell’orologi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Uso e descrizione di altri strumenti: clessidre, cronometri, meridiane, ecc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Uso del calendari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Uso e riflessione sul calendario mensile delle presenze: appello, lettura della data. Che giorno era ieri? Che giorno sarà domani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Uso del calendario settimanale (le attività programmate) e giornaliero (le attività quotidiane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Uso del calendario “circolare” dell’anno: i mesi, le stagioni, i compleanni divisi per me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Uso del calendario nell’educazione ambiental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egistrazione del tempo meteorologico sul calendario settimana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sservazione e registrazione dei cambiamenti nella vita di un animaletto (es. chiocciola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sservazione e registrazione della metamorfosi da girino in ra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sservazione e registrazione dello sviluppo di una pianta – dal seme alla pianta con frut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Costruzione dell’orizzonte temporal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appresentazione del tempo in cui inserire gl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Dominio graduale del passato, del presente e del futur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a capacità di localizzare avvenimenti cresce con l’età e si sviluppa contemporaneamente nei due sens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niziare la riflessione sull’orizzonte temporale nella scuola mater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Passato, presente, futur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flessione sul trascorrere del tempo: come ci accorgiamo del tempo che passa? Siamo cambiati dall’anno scorso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Presente – come coscienza degli avvenimenti attua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Passato – come memoria (ricordi individuali, familiari, collettivi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Futuro – come anticipazione di eventi (a breve, a medio, a lungo termine)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Percezione del trascorrere del temp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La percezione del "tempo" è la presa di coscienza che la realtà di cui siamo parte si è materialmente modificata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Se osservo una formica che si muove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le diverse posizioni da lei occupate </a:t>
            </a: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certifica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no</a:t>
            </a: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 che è trascorso un intervallo di tempo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Il concetto di tempo nella nostra cultura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Definizione: a) successione illimitata di istanti in cui avvengono gli eventi; b) tempo atmosferic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ingua inglese – termini separati per i due significati (time, weather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Bambini – frequente confusione tra i due aspetti del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piegazione probabile – stretto legame tra aspetti della natura, tempo atmosferico e scorrere del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Rappresentazione del temp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) Attraverso il linguaggio: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 termini temporali: nomi dei giorni e dei mesi, termini legati alla misura del tempo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gli avverbi temporali: prima, ora, dopo, adesso, ieri, oggi, sempre, mai, subito, presto, spesso…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e congiunzioni temporali: quando, che allora, finché, mentre, allorché…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e costruzioni sintattiche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 tempi dei verb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Attraverso sistemi simbolici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appresentazioni grafiche circolari o a spirale: es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                   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nvern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utunno                       primaver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                  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estat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2057400" y="2971800"/>
            <a:ext cx="814320" cy="6094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AutoShape 13"/>
          <p:cNvSpPr/>
          <p:nvPr/>
        </p:nvSpPr>
        <p:spPr>
          <a:xfrm rot="5400000">
            <a:off x="5676840" y="2857320"/>
            <a:ext cx="60948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AutoShape 14"/>
          <p:cNvSpPr/>
          <p:nvPr/>
        </p:nvSpPr>
        <p:spPr>
          <a:xfrm rot="10800000">
            <a:off x="5562720" y="4114440"/>
            <a:ext cx="814320" cy="6094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AutoShape 15"/>
          <p:cNvSpPr/>
          <p:nvPr/>
        </p:nvSpPr>
        <p:spPr>
          <a:xfrm rot="16200000">
            <a:off x="2196000" y="3899520"/>
            <a:ext cx="533520" cy="9637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Rappresentazioni grafiche lineari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101320"/>
            <a:ext cx="853416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uccessioni tempora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9" descr="bulbi"/>
          <p:cNvPicPr/>
          <p:nvPr/>
        </p:nvPicPr>
        <p:blipFill>
          <a:blip r:embed="rId1"/>
          <a:srcRect l="66673" t="25006" r="0" b="13643"/>
          <a:stretch/>
        </p:blipFill>
        <p:spPr>
          <a:xfrm>
            <a:off x="533520" y="380988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germoglio"/>
          <p:cNvPicPr/>
          <p:nvPr/>
        </p:nvPicPr>
        <p:blipFill>
          <a:blip r:embed="rId2"/>
          <a:stretch/>
        </p:blipFill>
        <p:spPr>
          <a:xfrm>
            <a:off x="2514600" y="3429000"/>
            <a:ext cx="1730520" cy="24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tulipano"/>
          <p:cNvPicPr/>
          <p:nvPr/>
        </p:nvPicPr>
        <p:blipFill>
          <a:blip r:embed="rId3"/>
          <a:srcRect l="6605" t="0" r="14225" b="0"/>
          <a:stretch/>
        </p:blipFill>
        <p:spPr>
          <a:xfrm>
            <a:off x="6781680" y="3124080"/>
            <a:ext cx="1828800" cy="2729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bocciolo"/>
          <p:cNvPicPr/>
          <p:nvPr/>
        </p:nvPicPr>
        <p:blipFill>
          <a:blip r:embed="rId4"/>
          <a:stretch/>
        </p:blipFill>
        <p:spPr>
          <a:xfrm>
            <a:off x="4495680" y="3429000"/>
            <a:ext cx="20113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Costruzione del senso </a:t>
            </a:r>
            <a:br>
              <a:rPr sz="4400"/>
            </a:b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del temp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Il tempo come successione periodica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Il tempo come successione linear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Il tempo come durata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La misura del tempo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La costruzione dell’orizzonte temporal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Il tempo come successione periodica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Trae origine dalla presa di coscienza dei ritmi corporei, dall’adattamento ai ritmi dell’ambiente: es. giorno e not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Esperienze:osservazione e verbalizzazione di fenomeni naturali che si ripeton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Esecuzione di attività periodiche assegnate verbalmente, graficamente, per imitazion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Codifica di fenomeni periodici (convenzioni personali, di gruppo, comuni alla maggioranza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Decodifica di schemi grafici di fenomeni periodici (propri o altrui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7:37:59Z</dcterms:created>
  <dc:creator>miro</dc:creator>
  <dc:description/>
  <dc:language>en-US</dc:language>
  <cp:lastModifiedBy>Miro</cp:lastModifiedBy>
  <dcterms:modified xsi:type="dcterms:W3CDTF">2013-10-08T20:26:22Z</dcterms:modified>
  <cp:revision>48</cp:revision>
  <dc:subject/>
  <dc:title>La formazione dei concetti</dc:title>
</cp:coreProperties>
</file>