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55B-978E-4010-A801-4D60DD7C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A10-E04A-4290-9566-6EFC3615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68A-B5B1-4715-8CDC-738C0134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41F-31BB-4C58-94B9-D7135533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9A28-C401-4358-98F4-C95FB924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73B5-900B-4E8E-A83C-0A147659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A9C-9BC9-4C6A-9C74-DF14F182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0187-0E56-46C6-82BA-D222C3AE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34AC-224F-4B8E-B8E7-DDFB558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A8A7-8219-4B50-B8C9-A769D68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DBBF-A48D-44CD-BD8C-598E0898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980-520C-476D-ADEC-8FC075E9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1EEB-0B46-40DB-B24C-3FB8EB6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15C6-97D3-4608-BC84-B9B05CD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C4B9-A70E-44D1-B85D-F78FCC8E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E1A-F947-484A-A06F-051FAA2B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6F30-22BF-4E4B-B0C7-6E7B683F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2AE-DFFA-4B3E-802A-CB11B98B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8BB-5C8B-4243-B0E1-2398E585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703-3C83-4DC5-AD25-52D2D6BC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C2F-FD15-4366-B81B-8D075C00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4C9-5C82-4B39-BB06-4EC05312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49C-F350-4FF4-A2D4-9D725AED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DB6-6BA7-4FA8-990E-9FD77AF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9D8D-C3A7-40E1-9895-259364E6CEE4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6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97C-52F1-4496-89D4-A9320B6112A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772400" cy="183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Gli aspetti del numero naturale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0560" y="4800240"/>
            <a:ext cx="453708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perienze ed attivi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util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finire la posizione nello spazio di coppie di persone o ogg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ccessione nel tempo di azioni o fenom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fronto di oggetti in base al colore, all’altezza, alla lunghezza, al peso, alla grand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dinare oggetti utilizzando strategie lib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dinare insiemi secondo la quanti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conoscere l’ordinale che compete ad un oggetto (Mario è arrivato terz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conoscere l’oggetto a cui compete un ordinale (Chi è arrivato terz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aspetto ricorsivo del 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numero natur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4479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finizione: i numeri che servono per con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siamo distinguere due aspetti: quello puramente linguistico o sequenza delle parole numero e quello transitivo utilizzato per contare 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oscere le parole numero nell’ordine convenzional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ndispensabile per con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morizzazione iniziale della sequenza delle parole numero viene pronunciata con sforzo e senza costanza nel risul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35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e difficol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nell’apprendere a contare oggetti dipende d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’assimilazione e recita automatica delle parole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manipolabi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gli oggetti (es. gesti o eventi scanditi nel te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apac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stabilire due corrispondenze biunivo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 pronuncia del numero e gesto della 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il gesto abbinato all’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util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morizzazione di filastrocche, conte, ritmi musicali, filastrocche dei nu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eggio” di oggetti, persone, gesti con filastrocche e conte di vario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tinguere il nome dell’oggetto o il numero che gli compete in un conte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scolare gli oggetti e contarli nuo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eggi di insiemi a cui viene aggiunto o tolto un el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dividuazione del successivo o del precedente di un num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Filastrocche e con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38280" y="1213920"/>
            <a:ext cx="6400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, 2, 3 va a passeggio con il 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, 5, 6 guarda bene se ci 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7, 8, 9 sei arrivato fino a d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llo tu, io non lo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rà 10, sì o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L’uccellin che vien dal 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quante penne può por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può portare solo tre, 1, 2, 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a star sotto tocca a 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aspetto di mis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072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finizione: 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i campioni di un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isura in cu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uddivisa una data grand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n numero solo, ma un numero dimensionato, ci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ccompagnato dall’indicazione dell’ un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isura: es. 1 m, 3 kg, 2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ta all’estensione dell’insieme dei numeri naturali ai numer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04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fronto e ordinamento di oggetti rispetto a criteri diversi (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ungo,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corto,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iccolo,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ran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 misura con campioni diversi (es. gioco “Regina reginella, quanti passi mi dai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 misura con un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isura inventate e strumenti non standardizz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 misura con strumenti di misura standard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empi di sche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esante leggero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cheda peso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 numeri cod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2949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numeri usati come indicatori o etichette: es. il numero del telefono fisso o del cellulare, il numero anagrafico, il numero del conto in banca, il numero civico della cas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corrispondenza p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ssere defini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in modo sequenziale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arghe delle macchine, prefisso telefonico, codice di avviamento posta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in modo arbitrario o casual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il numero del pettorale nella gara di corsa, il numero dell’autobus cittad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Introduzione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quenza convenzionale delle parole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teggio di og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ca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cazione della misura di grand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 occupato in un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umeri co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umeri simb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400" y="1428840"/>
            <a:ext cx="6781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o esplicito di simboli, diversi dalle parole, per comunicare: es. ombrello – tempo piovoso, sereno – sole, bambino – contrasseg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onoscimento nell’ambiente di usi dei numeri come co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venziona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l codice (discussioni: Possiamo cambiare la targa? O il numero del telefono? Che cosa succedereb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 numeri simbolo (cifra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2952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imboli convenzionali usati dagli adulti per rappresentare 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screta – le cifre arabe, le cifre romane, le cifre cin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numeri cinesi card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590920" y="3733920"/>
            <a:ext cx="1073160" cy="277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numeri cinesi ord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3962520" y="3657600"/>
            <a:ext cx="10652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numeri egiziani"/>
          <p:cNvPicPr/>
          <p:nvPr/>
        </p:nvPicPr>
        <p:blipFill>
          <a:blip r:embed="rId3">
            <a:lum bright="6000"/>
          </a:blip>
          <a:srcRect l="0" t="0" r="17828" b="0"/>
          <a:stretch/>
        </p:blipFill>
        <p:spPr>
          <a:xfrm>
            <a:off x="5410080" y="4572000"/>
            <a:ext cx="33530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Fasi di apprendimento dei numeri simbol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se di ricerca – produzioni verbali o grafiche “spontanee” dei bamb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se di progettazione educativa – intervento intenzionale de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ttofasi della fase di ricer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scaraboc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rappresentazione pittogra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rappresentazione ico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rappresentazione simbo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l nostro sistema di notazione posizion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o di dieci segni (cifre) diversi (0, 1, 2, 3, 4, 5 ,6, 7, 8,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ribuzione di valori numerici diversi ad una stessa cifra a seconda della posizione nella scri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ggruppamento per dieci per definire il passaggio ad una un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ordine successivo e lo spostamento di un posto a sinistra nella scrittura: 10 un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= 1 decina, 10 decine = 1 centinaio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362320" y="152352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videnziare i numeri scritti nell’ambiente (orologi, calendari, numeri civici, numeri di autobu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tinguere i segni dei numeri dai segni delle le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conoscere e leggere le cifre a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conoscere e leggere alcuni numeri formati da due cif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are il numero scritto nella codifica e decodifica di semplici messaggi (la data, l’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il numero dei pres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80720" y="0"/>
            <a:ext cx="7162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o della linea numerica per collegare l’aspetto ricorsivo con l’aspetto card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ovina che cosa appari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 - Collegare le cifre in ordine per ottenere immagini di oggetti, animali o pi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are il dado con le cifre al posto dei punt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are giochi motori e sociali che comprendano l’uso delle cifre: es. gioco della “tria”, gioco del rubabandiera, la tombola semplificata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c0039"/>
                </a:solidFill>
                <a:latin typeface="Arial"/>
              </a:rPr>
              <a:t>Cerchia la cifra che indica la quantità di oggetti in ogni casella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1" name="Content Placeholder 3" descr="scheda-numeri.jpg"/>
          <p:cNvPicPr/>
          <p:nvPr/>
        </p:nvPicPr>
        <p:blipFill>
          <a:blip r:embed="rId1"/>
          <a:stretch/>
        </p:blipFill>
        <p:spPr>
          <a:xfrm>
            <a:off x="3633840" y="1600200"/>
            <a:ext cx="41101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erciz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38280" y="1356840"/>
            <a:ext cx="64008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rivi tutti gli aspetti del numero che possono essere inseriti nel gioco del mercat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rivi tutti gli aspetti del numero che possono essere inseriti nel gioco dell’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venta un gioco che eserciti almeno un aspetto del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Operazioni con i numer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fronto dei numeri: dapprima con oggetti concreti (scatole sovrapposte, sagome di bambini accostate, ec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grafica schematica (disegno oggetti accostati o  sovrapp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blemi a parole concreti e vicini all’esperienza del bamb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ggiungere uno e togliere uno con oggetti concr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Conservazione del numer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33720" y="1599840"/>
            <a:ext cx="6705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lineare 8 tazzine e mettere in ogni tazzina un cucchiaino. Chiedere se c’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tesso numero di tazzine e cucchiaini. Togliere i cucchiaini e raggrup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lineare 5 matite, farle contare, poi raggrupparle e chiedere nuovamente quante so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rire le monete nel salvadanaio e alla fine chiedere quante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Usi delle parole numer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14360" y="857160"/>
            <a:ext cx="66243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lvia (5 anni): I numeri sono delle cose che quando uno compie gli anni, se uno ne compie sei si mettono sei cand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drea (5 anni): Nelle marce delle macchine si mette la prima, la seconda, la terza o la qu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uca (5 anni): Mentre andavo nell’autobus vedevo delle case con delle porte e sopra ci vedevo dei quadretti con dei num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ra (5 anni): Ho visto sulla stufa che c’erano dei numeri che servivano per il fuoco. Quando volevano che faceva forte, mettevano a cinque. Anche dentro il f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na (4 anni): Posso fare su un foglio tutti i numeri in f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Materiale necessario per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gli eserciz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dadi e i giochi per usar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 scatole dei fiammiferi vu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alvadanai e le monete (vere o 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umerosi oggetti di piccole dimensioni e frequenti nell’uso quotid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linea numerica fino a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Aspetti principali del </a:t>
            </a:r>
            <a:br>
              <a:rPr sz="4000"/>
            </a:b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numero naturale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84360" y="1557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Nonostante si usino gli stessi termini linguistici, il numero presen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l’aspetto ricors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l’aspetto cardina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l’aspetto ordina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numeri misu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numeri cod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numeri cif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L’aspetto cardinale dei numeri natura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finizione: l’astratto comune ad una classe di insiemi equivalenti rispetto alla relazione di equipot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rmini della lingua italiana usati per indicare la cardina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olo, duo o duetto, terzetto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mbo, terna, quaterna, cin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ppia, paio, dozz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rzina, quartina,… settenario, otto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ppio, triplo, decuplo…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Numero ott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Content Placeholder 3" descr="numero-otto.jpg"/>
          <p:cNvPicPr/>
          <p:nvPr/>
        </p:nvPicPr>
        <p:blipFill>
          <a:blip r:embed="rId1"/>
          <a:stretch/>
        </p:blipFill>
        <p:spPr>
          <a:xfrm>
            <a:off x="3613320" y="1600200"/>
            <a:ext cx="42814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Conquista della cardinali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del numer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rce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egata ad aspetti concreti della real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sparate canalizzate verso l’astrazione del num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erazioni logiche con gli insi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cquisizione della conserva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con le cif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341360"/>
            <a:ext cx="7086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ormazione di insiemi con attributi assegnati (tre mattoncini ros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struzione di insiemi con quant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assegnata (insiemi di tre ogget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fronto di due insiemi relativamente alla loro cardina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struzione di corrispondenze biunivoche attraverso l’accostamento di elementi, schemi grafici, confronto a grupp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ssociazione di cifre a insiemi di 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Aspetto ordinale del 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numero natur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finizione: il numero ordinale indica il posto occupato in un ord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istono termini linguistici speciali: primo, secondo, terzo, quarto, sedicesimo, diciassettesimo, diciannove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umeri poco conosciuti dai bambini per frammentari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di esperi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ell’apprendimento legate all’uso della propri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tran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esti in cui vengono usati: gare di corsa, piani delle case, gradini di una scala, vignette di una storia, ec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8:30:04Z</dcterms:created>
  <dc:creator>User</dc:creator>
  <dc:description/>
  <dc:language>en-US</dc:language>
  <cp:lastModifiedBy>Miro</cp:lastModifiedBy>
  <dcterms:modified xsi:type="dcterms:W3CDTF">2014-04-22T19:52:51Z</dcterms:modified>
  <cp:revision>44</cp:revision>
  <dc:subject/>
  <dc:title>Il gioco</dc:title>
</cp:coreProperties>
</file>