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815-5B97-4F94-BA97-B040E97C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FBD-0C6D-4A9E-BDFE-55133A86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B24-1E4D-4F80-9A42-63AAC056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700-9BB4-41DD-B24B-D21F308B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58D6-B00E-4DE7-B58C-52302B11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85F7-638E-4A85-913C-059E1A54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9775-375C-445A-8B4B-8A779621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5A80-DA05-4F7F-A302-C90FF96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8ABE-C939-400F-8EAD-F7FBEC4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3C43-E50C-4EE7-8455-415D8C50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4C27-F12D-4767-A3DA-AB8AC6B1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7D4-DC6E-4AB5-BA9F-15883056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6A32-0FC8-4940-B185-2917100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9C06-7F36-4AFC-AC55-A4B3CE3C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7B1-8707-4F1C-9D6B-F72BE2B9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F02B-E6A0-44E9-ADEA-CB63E544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F2B1-31C5-49A2-98F0-937BE85B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BDB-958A-4FF3-805F-BBAC96A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C23-8B71-4279-ADEF-90313F03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1C7-1C56-40E2-92BD-7F331A36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8C5-A19A-419B-B0AE-5D27DC99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BAE-C7E7-4B79-820E-B60F1D5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036-7EA9-473F-975F-E871B8C7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0CA-5551-4EDD-91BB-A94CEC5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78C4-C6CE-4313-8412-F37C7D4553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5030-0FED-415D-A3CE-D7F168AA3E7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Introduzione alla protomatematic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ntroduzione alla didattica ambientale e protomatemat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Educazione Prescola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II ann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7d47d"/>
                </a:solidFill>
                <a:latin typeface="Arial"/>
              </a:rPr>
              <a:t>I contenuti</a:t>
            </a: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 del program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Formativi: sollecitare lo sviluppo delle capac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intellettual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Di conseguenza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necessario saper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 quali sono i processi cognitivi in formazione a quest’e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 quali apprendimenti sono in grado di acquisire i bambin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 tra quali conoscenze della matematica attinge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E’ necessario attivare la connessione tra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Mente in svilupp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Attiv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organizzate nella scuola mater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siderazioni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non trasmettere conoscenz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non insegnare formalismi vuo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formulare precisi obiettivi cognitiv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ndividuare congruenti attiv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educat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scegliere contenuti che diano forma a obiettivi e attiv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Il concetto di protomatematic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2f1311"/>
                </a:solidFill>
                <a:uFillTx/>
                <a:latin typeface="Arial"/>
              </a:rPr>
              <a:t>La protomatematica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=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un modo pratico di rapportarsi nei confronti dei dati della real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fisica, dei pensieri, delle attiv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complesse. Non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la matematica astratta delle formule, delle operazioni complica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Il</a:t>
            </a:r>
            <a:r>
              <a:rPr b="0" lang="hr-HR" sz="3200" spc="-1" strike="noStrike" u="sng">
                <a:solidFill>
                  <a:srgbClr val="2f1311"/>
                </a:solidFill>
                <a:uFillTx/>
                <a:latin typeface="Arial"/>
              </a:rPr>
              <a:t> protoconcetto –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forma intuitiva di concetto, idea intuitiva di qualcosa che si forma in vir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di precise capac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cognitiv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Il processo di matematizzazione del bambin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resa di coscienza di relazioni costanti col mutare delle situazion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rocesso di natura intuitiva in e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prescola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isvolto didattic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ilotare il bambino a intuire le relazion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Picture 3" descr="uovo-pulcino.jpg"/>
          <p:cNvPicPr/>
          <p:nvPr/>
        </p:nvPicPr>
        <p:blipFill>
          <a:blip r:embed="rId3"/>
          <a:stretch/>
        </p:blipFill>
        <p:spPr>
          <a:xfrm>
            <a:off x="857160" y="4643280"/>
            <a:ext cx="1006560" cy="754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uova-quaglia.jpg"/>
          <p:cNvPicPr/>
          <p:nvPr/>
        </p:nvPicPr>
        <p:blipFill>
          <a:blip r:embed="rId4"/>
          <a:stretch/>
        </p:blipFill>
        <p:spPr>
          <a:xfrm>
            <a:off x="2428920" y="4643280"/>
            <a:ext cx="990720" cy="66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quaglia1.jpg"/>
          <p:cNvPicPr/>
          <p:nvPr/>
        </p:nvPicPr>
        <p:blipFill>
          <a:blip r:embed="rId5"/>
          <a:stretch/>
        </p:blipFill>
        <p:spPr>
          <a:xfrm>
            <a:off x="3571920" y="4643280"/>
            <a:ext cx="1028520" cy="808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uovo-pernice.jpg"/>
          <p:cNvPicPr/>
          <p:nvPr/>
        </p:nvPicPr>
        <p:blipFill>
          <a:blip r:embed="rId6"/>
          <a:stretch/>
        </p:blipFill>
        <p:spPr>
          <a:xfrm>
            <a:off x="4929120" y="471492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pernice rossa.jpg"/>
          <p:cNvPicPr/>
          <p:nvPr/>
        </p:nvPicPr>
        <p:blipFill>
          <a:blip r:embed="rId7"/>
          <a:srcRect l="7045" t="0" r="32424" b="0"/>
          <a:stretch/>
        </p:blipFill>
        <p:spPr>
          <a:xfrm>
            <a:off x="6000840" y="4643280"/>
            <a:ext cx="863640" cy="951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8"/>
          <p:cNvSpPr/>
          <p:nvPr/>
        </p:nvSpPr>
        <p:spPr>
          <a:xfrm>
            <a:off x="582120" y="5643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Uovo - pulcin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2796840" y="55720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Uovo - quagl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5082480" y="5715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Uovo - perni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63520" y="428760"/>
            <a:ext cx="73864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                          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                          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impegnarlo in attiv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di riflessione analiti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guidarlo alla formulazione verbale del concet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Picture 5" descr="borsetta.jpg"/>
          <p:cNvPicPr/>
          <p:nvPr/>
        </p:nvPicPr>
        <p:blipFill>
          <a:blip r:embed="rId5"/>
          <a:stretch/>
        </p:blipFill>
        <p:spPr>
          <a:xfrm>
            <a:off x="1000080" y="571680"/>
            <a:ext cx="770040" cy="884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borsetta.jpg"/>
          <p:cNvPicPr/>
          <p:nvPr/>
        </p:nvPicPr>
        <p:blipFill>
          <a:blip r:embed="rId6"/>
          <a:stretch/>
        </p:blipFill>
        <p:spPr>
          <a:xfrm>
            <a:off x="1928880" y="571680"/>
            <a:ext cx="770040" cy="884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borsetta.jpg"/>
          <p:cNvPicPr/>
          <p:nvPr/>
        </p:nvPicPr>
        <p:blipFill>
          <a:blip r:embed="rId7"/>
          <a:stretch/>
        </p:blipFill>
        <p:spPr>
          <a:xfrm>
            <a:off x="2857680" y="571680"/>
            <a:ext cx="769680" cy="884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borsetta.jpg"/>
          <p:cNvPicPr/>
          <p:nvPr/>
        </p:nvPicPr>
        <p:blipFill>
          <a:blip r:embed="rId8"/>
          <a:stretch/>
        </p:blipFill>
        <p:spPr>
          <a:xfrm>
            <a:off x="4429080" y="571680"/>
            <a:ext cx="770040" cy="884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borsetta.jpg"/>
          <p:cNvPicPr/>
          <p:nvPr/>
        </p:nvPicPr>
        <p:blipFill>
          <a:blip r:embed="rId9"/>
          <a:stretch/>
        </p:blipFill>
        <p:spPr>
          <a:xfrm>
            <a:off x="5429160" y="571680"/>
            <a:ext cx="770040" cy="88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ela.jpg"/>
          <p:cNvPicPr/>
          <p:nvPr/>
        </p:nvPicPr>
        <p:blipFill>
          <a:blip r:embed="rId10"/>
          <a:stretch/>
        </p:blipFill>
        <p:spPr>
          <a:xfrm>
            <a:off x="1000080" y="1785960"/>
            <a:ext cx="684360" cy="728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ela.jpg"/>
          <p:cNvPicPr/>
          <p:nvPr/>
        </p:nvPicPr>
        <p:blipFill>
          <a:blip r:embed="rId11"/>
          <a:stretch/>
        </p:blipFill>
        <p:spPr>
          <a:xfrm>
            <a:off x="1857240" y="1785960"/>
            <a:ext cx="684360" cy="728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mela.jpg"/>
          <p:cNvPicPr/>
          <p:nvPr/>
        </p:nvPicPr>
        <p:blipFill>
          <a:blip r:embed="rId12"/>
          <a:stretch/>
        </p:blipFill>
        <p:spPr>
          <a:xfrm>
            <a:off x="2714760" y="1785960"/>
            <a:ext cx="684000" cy="728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3" descr="mela.jpg"/>
          <p:cNvPicPr/>
          <p:nvPr/>
        </p:nvPicPr>
        <p:blipFill>
          <a:blip r:embed="rId13"/>
          <a:stretch/>
        </p:blipFill>
        <p:spPr>
          <a:xfrm>
            <a:off x="4500720" y="1857240"/>
            <a:ext cx="684000" cy="72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mela.jpg"/>
          <p:cNvPicPr/>
          <p:nvPr/>
        </p:nvPicPr>
        <p:blipFill>
          <a:blip r:embed="rId14"/>
          <a:stretch/>
        </p:blipFill>
        <p:spPr>
          <a:xfrm>
            <a:off x="5429160" y="1857240"/>
            <a:ext cx="684360" cy="728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orso_1.jpg"/>
          <p:cNvPicPr/>
          <p:nvPr/>
        </p:nvPicPr>
        <p:blipFill>
          <a:blip r:embed="rId15"/>
          <a:stretch/>
        </p:blipFill>
        <p:spPr>
          <a:xfrm>
            <a:off x="714240" y="2571840"/>
            <a:ext cx="1727280" cy="1465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orso_1.jpg"/>
          <p:cNvPicPr/>
          <p:nvPr/>
        </p:nvPicPr>
        <p:blipFill>
          <a:blip r:embed="rId16"/>
          <a:stretch/>
        </p:blipFill>
        <p:spPr>
          <a:xfrm>
            <a:off x="2571840" y="3143160"/>
            <a:ext cx="1008000" cy="855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merlo.jpg"/>
          <p:cNvPicPr/>
          <p:nvPr/>
        </p:nvPicPr>
        <p:blipFill>
          <a:blip r:embed="rId17"/>
          <a:srcRect l="0" t="9081" r="40236" b="12801"/>
          <a:stretch/>
        </p:blipFill>
        <p:spPr>
          <a:xfrm>
            <a:off x="4071960" y="3000240"/>
            <a:ext cx="1044720" cy="895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0" descr="merlo.jpg"/>
          <p:cNvPicPr/>
          <p:nvPr/>
        </p:nvPicPr>
        <p:blipFill>
          <a:blip r:embed="rId18"/>
          <a:srcRect l="0" t="9091" r="40246" b="12781"/>
          <a:stretch/>
        </p:blipFill>
        <p:spPr>
          <a:xfrm>
            <a:off x="5357880" y="3286080"/>
            <a:ext cx="612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1311"/>
                </a:solidFill>
                <a:latin typeface="Arial"/>
              </a:rPr>
              <a:t>Processo di matematizzazione in relazione alla scuol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76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Fase intuitiva iniziale – scuola materna e primo ciclo scuola elementa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Fase pi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riflessiva e astratta – successivi gradi scolastic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Compito della scuola materna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 stabilire attiv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, obiettivi e contenuti da inserire nel curricolo scolastico secondo le tappe di sviluppo cognitivo del bambin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1311"/>
                </a:solidFill>
                <a:latin typeface="Arial"/>
              </a:rPr>
              <a:t>Matematica antica e moder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77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rima di Pitagora il matematico era il sapiente, un uomo di cultura che aveva dedicato la vita alla ricerca della conoscenz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itagora scopre che molte leggi della                     natura possono esprimersi attraverso rapporti numerici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es. le dimensioni delle colonne dei templi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e dimensioni delle porte e dei muri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 suoni nella musica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l sorgere e il tramontare del sol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l susseguirsi delle stagioni e degli anni; ec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4" descr="Pitagora"/>
          <p:cNvPicPr/>
          <p:nvPr/>
        </p:nvPicPr>
        <p:blipFill>
          <a:blip r:embed="rId8"/>
          <a:stretch/>
        </p:blipFill>
        <p:spPr>
          <a:xfrm>
            <a:off x="6572160" y="1071720"/>
            <a:ext cx="99072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Conclusione di Pitagor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Tutto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osservabile in rapporti di quant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, che egli raccolse nella frase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Tutto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quant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"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Gli allievi di Pitagora tramandano il detto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La matematica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la scienza della quant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Significato: In quanto ricerca della conoscenza in tutti i campi, la matematica studia le leggi del mondo espresse sempre da rapporti di numeri inter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Matematica come scienza </a:t>
            </a: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dei numer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Nel greco antico non c’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distinzione tra le parole numero e quant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Nasce il detto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La matematica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la scienza dei numeri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Anche la geometria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regolata da rapporti di numeri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es.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476360" y="5084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1692360" y="5084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908000" y="508464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124000" y="5084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476360" y="5300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692360" y="5300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1908000" y="530064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124000" y="5300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147636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169236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908000" y="551664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212400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2124000" y="5732640"/>
            <a:ext cx="144360" cy="14256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AutoShape 17"/>
          <p:cNvSpPr/>
          <p:nvPr/>
        </p:nvSpPr>
        <p:spPr>
          <a:xfrm>
            <a:off x="1908000" y="573408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1692360" y="573408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1476360" y="573408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3635280" y="551664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AutoShape 21"/>
          <p:cNvSpPr/>
          <p:nvPr/>
        </p:nvSpPr>
        <p:spPr>
          <a:xfrm>
            <a:off x="3276720" y="566100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AutoShape 22"/>
          <p:cNvSpPr/>
          <p:nvPr/>
        </p:nvSpPr>
        <p:spPr>
          <a:xfrm>
            <a:off x="3492360" y="566100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>
            <a:off x="3708360" y="566100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3203640" y="5805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AutoShape 25"/>
          <p:cNvSpPr/>
          <p:nvPr/>
        </p:nvSpPr>
        <p:spPr>
          <a:xfrm>
            <a:off x="3419640" y="5805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3635280" y="580536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3851280" y="5805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067280" y="5805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334800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AutoShape 30"/>
          <p:cNvSpPr/>
          <p:nvPr/>
        </p:nvSpPr>
        <p:spPr>
          <a:xfrm>
            <a:off x="3924360" y="566100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31"/>
          <p:cNvSpPr/>
          <p:nvPr/>
        </p:nvSpPr>
        <p:spPr>
          <a:xfrm>
            <a:off x="385128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32"/>
          <p:cNvSpPr/>
          <p:nvPr/>
        </p:nvSpPr>
        <p:spPr>
          <a:xfrm>
            <a:off x="3492360" y="537372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AutoShape 33"/>
          <p:cNvSpPr/>
          <p:nvPr/>
        </p:nvSpPr>
        <p:spPr>
          <a:xfrm>
            <a:off x="3708360" y="537372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AutoShape 34"/>
          <p:cNvSpPr/>
          <p:nvPr/>
        </p:nvSpPr>
        <p:spPr>
          <a:xfrm>
            <a:off x="3564000" y="5229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Campi di studio della</a:t>
            </a: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 matematica antic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agionare in modo sistemati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ocalizzare – stabilire posizion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rogettare forme – costruzione di edifici, strade, ponti, macchine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tare e calcola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Stabilire relazioni tra oggetti, persone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Organizzare attiv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in modo struttura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frontare e ordina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f1311"/>
                </a:solidFill>
                <a:latin typeface="Arial"/>
              </a:rPr>
              <a:t>La matematica nella </a:t>
            </a:r>
            <a:br>
              <a:rPr sz="3600"/>
            </a:br>
            <a:r>
              <a:rPr b="1" lang="hr-HR" sz="3600" spc="-1" strike="noStrike">
                <a:solidFill>
                  <a:srgbClr val="2f1311"/>
                </a:solidFill>
                <a:latin typeface="Arial"/>
              </a:rPr>
              <a:t>scuola matern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Si recupera il significato originale della matematic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Matematica pi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povera di significati propr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Matematica pi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ricca di disponibil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verso le altre discipl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Matematica come metodo, come linguaggio, adatta ad essere integrata con altri campi d’esperienz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1311"/>
                </a:solidFill>
                <a:latin typeface="Arial"/>
              </a:rPr>
              <a:t>Che cosa non si deve insegnar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teoria degli insiem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logica astratta                    discipli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geometria astratta             codific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’aritmetica astratt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E’ sconsigliabile qualsiasi formalismo vuoto (es. simboli: + - =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&lt;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lettere, cifre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716360" y="1700280"/>
            <a:ext cx="287280" cy="1873080"/>
          </a:xfrm>
          <a:custGeom>
            <a:avLst/>
            <a:gdLst>
              <a:gd name="textAreaLeft" fmla="*/ 0 w 287280"/>
              <a:gd name="textAreaRight" fmla="*/ 10368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7d47d"/>
                </a:solidFill>
                <a:latin typeface="Arial"/>
              </a:rPr>
              <a:t>E’ consigliabile</a:t>
            </a: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Eseguire giochi didattici con regole matematich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agionare su problemi concreti della vita quotidia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agionare sulla posizione di oggetti a portata di man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frontare la quant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di persone, animali, co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tare e ordinare oggetti concre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Misurare oggetti o ambien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1311"/>
                </a:solidFill>
                <a:latin typeface="Arial"/>
              </a:rPr>
              <a:t>Il programma di matematica nella </a:t>
            </a:r>
            <a:br>
              <a:rPr sz="3600"/>
            </a:br>
            <a:r>
              <a:rPr b="0" lang="hr-HR" sz="3600" spc="-1" strike="noStrike">
                <a:solidFill>
                  <a:srgbClr val="2f1311"/>
                </a:solidFill>
                <a:latin typeface="Arial"/>
              </a:rPr>
              <a:t>scuola materna deve esser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773000"/>
            <a:ext cx="73864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Elastico, flessibile, a maglie larghe per quanto riguarda i contenut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eciso per quanto riguarda gli obiettivi e le tipologie di attiv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omuovere lo sviluppo intellettuale, emotivo-affettivo, sociale, psicomotorio del bambin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22:48Z</dcterms:created>
  <dc:creator>Miro</dc:creator>
  <dc:description/>
  <dc:language>en-US</dc:language>
  <cp:lastModifiedBy>Miro</cp:lastModifiedBy>
  <dcterms:modified xsi:type="dcterms:W3CDTF">2014-03-03T19:28:04Z</dcterms:modified>
  <cp:revision>45</cp:revision>
  <dc:subject/>
  <dc:title>Introduzione alla protomatematica</dc:title>
</cp:coreProperties>
</file>