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BFC3-C979-4CC3-8483-B617DBEC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8AB5-6251-4CAF-AABA-FB8DD03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AB40-A153-4108-B276-00FCF8FC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20FB-4D2D-4B81-8A06-E7A4CC6F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71F-4AB4-43EB-866F-22CA9120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4A86-38A4-4D7F-83AB-1E3C525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6F60-09CD-46C1-9563-38B4CFC5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E90F-32C0-4E80-8099-01A957F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D23-8885-49B6-B39D-C47623E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E77-C26F-4A9D-855D-2BF28B2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2AA1-1911-4C2A-BA03-09D1DAC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4BAE-B699-4910-8D06-5E4AD02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88DA-2A2D-46B6-9C7E-2E98017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560D-BB92-4369-BAC7-EB2314F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0BCB-82C9-45F3-9DD1-33179083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1E66-5F91-44C0-919C-6F10C4D7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080C-7E87-461E-8EB4-ADC94A2A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7006-7275-4491-A2F4-578E5E6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56BB-0A7D-4B5B-AA6D-6A3B99DC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7A6A-8DEE-4A6B-BE86-B3A40D6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47E8-C3FD-4F38-B06F-19E3F14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030D-B6C5-49EA-A985-4102711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AF85-E4E7-438E-997F-F6B702E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6C77-D293-498C-8EC1-1C44771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B755-725E-4905-8913-D4FEB2030E34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929D-1F94-4D4B-AC71-89E5B1D96B49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17521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Scelta dei contenuti matematici nella scuola materna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67080" y="5486400"/>
            <a:ext cx="41911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3333cc"/>
                </a:solidFill>
                <a:latin typeface="Arial"/>
              </a:rPr>
              <a:t>Mr.sc. Nevia Močini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cc"/>
                </a:solidFill>
                <a:latin typeface="Arial"/>
              </a:rPr>
              <a:t>Progettare e inv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reare progetti e forme derivati dalla real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o inventati (es. costruzioni con materiale di recupero, mattoncini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deare storie (struttura logica, ordine di successione, rappresentazione con vignet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ealizzare giochi con reg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struire un sistema di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I contenuti matematici secondo Bruno D’Amore</a:t>
            </a:r>
            <a:r>
              <a:rPr b="1" lang="hr-HR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ree matemati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Geometria (topologia, misura, forme, enunci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ritmetica (insiemi, relazio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robabil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eventi e loro probabil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Statistica (raccolta di dati e grafi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6765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grandezza degli og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percezione e la rappresentazione d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percezione del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e quantit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 (i nume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I corpi e le figure geometr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e misure e la misu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43000" y="380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Secondo i programmi croati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del 197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apitolo: Lo spazio, l’ordine e la mis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tenu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aggrup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Ordin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Misur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Localizz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apac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da svilup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orre in rel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rogettare e inv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52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I Nuovi Orientamenti Italiani - 199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Raggruppare e ordin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oggetti o persone secondo la posizione n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azioni o fenomeni secondo la successione nel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oggetti o persone secondo altezza, peso, colore numero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Quantificare, numerare e confro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egistrare gli oggetti o le persone contate usando altri oggetti o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90560" y="1752120"/>
            <a:ext cx="797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mpiego di strumenti di misura </a:t>
            </a:r>
            <a:r>
              <a:rPr b="0" lang="hr-HR" sz="3200" spc="-1" strike="noStrike" u="sng">
                <a:solidFill>
                  <a:srgbClr val="3333cc"/>
                </a:solidFill>
                <a:uFillTx/>
                <a:latin typeface="Arial"/>
              </a:rPr>
              <a:t>standardizzati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metri, bilance, orologi, calendari, brocche e biberon graduati, termometri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mpiego di strumenti di misura </a:t>
            </a:r>
            <a:r>
              <a:rPr b="0" lang="hr-HR" sz="3200" spc="-1" strike="noStrike" u="sng">
                <a:solidFill>
                  <a:srgbClr val="3333cc"/>
                </a:solidFill>
                <a:uFillTx/>
                <a:latin typeface="Arial"/>
              </a:rPr>
              <a:t>non standardizzati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clessidra, pendolo, orologio ad acqua, bastone, piede, palmo della mano, graffetta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762120" y="72216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Misurar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1294920"/>
            <a:ext cx="81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odi di esplorare, vivere, percorrere, occupare, osservare e rappresentare lo spaz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icrospazio (es. tavolo, schermo computer, foglio di ca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acrospazio (es. il giardino della scuola, la strada da casa a scu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spazio immaginario (evocato nella narrazione – bosco, castello della fia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spazio da esplorare con il corpo (es. percorso di una gimk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838080" y="3808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Localizzar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1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icorso a parole, costruzioni, modelli, schemi, disegni per rappresentare lo spazio (es. racconti, modellini, piant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struzione di sistemi di riferimento per facilitare l’orientamento nello spaz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egocentrici – centrati su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llocentrici – centrati sull’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geocentrici – basati su convenzioni astra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762120" y="685800"/>
            <a:ext cx="44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Localizz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Capacit</a:t>
            </a:r>
            <a:r>
              <a:rPr b="0" lang="hr-HR" sz="40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 da sviluppare: </a:t>
            </a:r>
            <a:br>
              <a:rPr sz="4000"/>
            </a:b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Porre in rel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Formulare previsioni e prime ipo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Individuare, costruire e utilizzare relazioni e classif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Costruire corrispondenze e rapporti di complementazione, unione, intersezione e inclusione tra insi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Riconoscere invarianti (elementi costa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Utilizzare strumenti di rappresen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Operare riflessioni e spieg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8:29:57Z</dcterms:created>
  <dc:creator>korisnik</dc:creator>
  <dc:description/>
  <dc:language>en-US</dc:language>
  <cp:lastModifiedBy>Miro</cp:lastModifiedBy>
  <dcterms:modified xsi:type="dcterms:W3CDTF">2014-03-18T19:32:27Z</dcterms:modified>
  <cp:revision>6</cp:revision>
  <dc:subject/>
  <dc:title>LO STUDIO, IL GIOCO E L’ATTIVITA’ PRATICA NELLO SVOLGIMENTO DEI CONTENUTI DI NATURA E SOCIETA’</dc:title>
</cp:coreProperties>
</file>