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6B9-7FCD-47AA-A00C-C07A4E16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569-54C1-46BE-965D-35BF5155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D9C-E660-49AA-B0B9-6A76DB49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C8B-9EBE-4C90-B4C1-B83F98E4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D9C6-8874-4896-93BC-F3EFFE2A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169B-6EBC-403E-9EF5-404A4E64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E79E-0E42-4110-9804-24A6B581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2A03-606B-4C7A-B959-54F38270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5A12-C4DD-4DBE-810E-8C84A7DC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E49A-AE1F-4DB6-9621-038E717D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7201-E38F-4973-9C3A-E75BAE42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C50-C312-4DEF-B1AC-0CE1F076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381A-1862-4FAA-8E82-45EBCB4B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281E-10DB-43C0-8D4C-E5B76576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0E59-0D40-4A81-84DA-68A98CCF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62AD-8913-4472-980D-8ABC4571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A60F-732A-4FB9-ADA4-47A592CB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A50-7181-415B-BC16-9D88B7B6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709-15D0-4729-82EE-B0D430BC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F35-4AB2-4A53-AC1B-1C0A3E32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1F8-28E2-4315-9507-18282E93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3A7-A455-4CE7-972D-8392791F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E5E-EABC-4AF3-A837-A29950E8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6438-5518-4BE5-9781-1D472D9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8760" y="-4680"/>
                <a:ext cx="973080" cy="6832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4440" y="1697040"/>
                <a:ext cx="97344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72360" y="1278720"/>
                <a:ext cx="97344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72360" y="142920"/>
                <a:ext cx="973440" cy="302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4440" y="989640"/>
                <a:ext cx="97344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6240" y="676800"/>
                <a:ext cx="97344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7320" y="369360"/>
                <a:ext cx="98604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8960" y="3926880"/>
                <a:ext cx="97344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6880" y="3536640"/>
                <a:ext cx="97344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6880" y="2397600"/>
                <a:ext cx="973440" cy="304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6880" y="3227400"/>
                <a:ext cx="973440" cy="3470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6880" y="2931480"/>
                <a:ext cx="973440" cy="4276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6520" y="2614320"/>
                <a:ext cx="98604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0080"/>
                <a:ext cx="973440" cy="4993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6880" y="4542480"/>
                <a:ext cx="97344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8960" y="5649840"/>
                <a:ext cx="97344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2720"/>
                <a:ext cx="34596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2000"/>
                <a:ext cx="97344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9160"/>
                <a:ext cx="98604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9F6F-33F6-453B-928C-2128642DB8B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8800"/>
              <a:chOff x="-3240" y="2479680"/>
              <a:chExt cx="9146880" cy="10188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856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680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748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80640"/>
                <a:ext cx="99072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2280" y="2650320"/>
                <a:ext cx="990720" cy="66780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9840" y="2778840"/>
                <a:ext cx="99036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56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4F11-11A7-4F57-AF63-2194E1F9F7E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85880" y="85716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3366"/>
                </a:solidFill>
                <a:latin typeface="Times New Roman"/>
              </a:rPr>
              <a:t>L’educazione stradale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idattica della natura e societ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Questioni essenzial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pprendere le regole e saperle applicare nelle situazion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cultura del comportamento sulla strada fa parte del comportamento educato in gen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ono necessarie particolari misure pedagogiche e in tempi lung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consiglia di integrare l’educazione stradale con altri insegna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Realizzazione dell’educazione strada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consigliabile creare una materia a s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llegare con l’insegnamento della lingua materna, della matematica, dell’educazione fisica e arti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l’ambito della natura e socie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 parti concentrate del programma o parallelamente ad altri obiettivi didat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Le fasi dell’educazione strada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Fase: Si svolge nell’a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spensabile l’uso di cartelloni, filmine, lucidi per lavagna luminosa, videocassette, trasmissioni televisive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servazioni di casi di comportamento concreto del bamb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ssimilazioni delle informazioni essenziali e discussioni sui comportamenti osser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2. Fase – nell’aul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ssimilazione delle regole di comportamento per i ped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rrelazioni con le altre materie (lettura di brani, descrizioni; illustrazione di situazioni; discussioni, ricerche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ilizzare nuovamente molto materiale didattico, giochi di ruolo e giochi mo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3. Fase – nel poligono di esercitazio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imulazioni reali in situazioni prot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Verifica dei reali apprendimenti di regole teor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Interpretare il ruolo dei pedoni e dei conducenti di veico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Applicare le indicazioni della segnaletica stra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4. Fase – in situazioni real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bilitazione al comportamento nel traffico stradale del luogo di resid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chiesta di risolvere situazioni problematiche reali applicando nozioni teoriche imparate in preced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rifica del successo o insuccesso dell’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Ruolo dell’insegnan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ilizzare ogni momento favorevole per la propria azione educ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formare sulle regole del codice strad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pprovare o disapprovare il comportamento in strada o in situazioni sim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rreggere gli errori comme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pplicare eventuali misure repr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cludere esperti della polizia strad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l vigile urban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:\Documents and Settings\miro\My Documents\My Pictures\school stuff\vigle_urbano.bmp"/>
          <p:cNvPicPr/>
          <p:nvPr/>
        </p:nvPicPr>
        <p:blipFill>
          <a:blip r:embed="rId1"/>
          <a:stretch/>
        </p:blipFill>
        <p:spPr>
          <a:xfrm>
            <a:off x="703440" y="990720"/>
            <a:ext cx="8440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 segnali stradal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Content Placeholder 3" descr="strisce-pedonali.gif"/>
          <p:cNvPicPr/>
          <p:nvPr/>
        </p:nvPicPr>
        <p:blipFill>
          <a:blip r:embed="rId1"/>
          <a:stretch/>
        </p:blipFill>
        <p:spPr>
          <a:xfrm>
            <a:off x="1214280" y="1571760"/>
            <a:ext cx="1438560" cy="1276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bambini.gif"/>
          <p:cNvPicPr/>
          <p:nvPr/>
        </p:nvPicPr>
        <p:blipFill>
          <a:blip r:embed="rId2"/>
          <a:stretch/>
        </p:blipFill>
        <p:spPr>
          <a:xfrm>
            <a:off x="2857680" y="1500120"/>
            <a:ext cx="1400040" cy="122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urva.jpg"/>
          <p:cNvPicPr/>
          <p:nvPr/>
        </p:nvPicPr>
        <p:blipFill>
          <a:blip r:embed="rId3"/>
          <a:stretch/>
        </p:blipFill>
        <p:spPr>
          <a:xfrm>
            <a:off x="4643280" y="1643040"/>
            <a:ext cx="1159200" cy="107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osso.gif"/>
          <p:cNvPicPr/>
          <p:nvPr/>
        </p:nvPicPr>
        <p:blipFill>
          <a:blip r:embed="rId4"/>
          <a:stretch/>
        </p:blipFill>
        <p:spPr>
          <a:xfrm>
            <a:off x="6072120" y="1500120"/>
            <a:ext cx="1257480" cy="111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bici.bmp"/>
          <p:cNvPicPr/>
          <p:nvPr/>
        </p:nvPicPr>
        <p:blipFill>
          <a:blip r:embed="rId5"/>
          <a:stretch/>
        </p:blipFill>
        <p:spPr>
          <a:xfrm>
            <a:off x="1143000" y="3214800"/>
            <a:ext cx="1139760" cy="1152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parcheggio.gif"/>
          <p:cNvPicPr/>
          <p:nvPr/>
        </p:nvPicPr>
        <p:blipFill>
          <a:blip r:embed="rId6"/>
          <a:stretch/>
        </p:blipFill>
        <p:spPr>
          <a:xfrm>
            <a:off x="1357200" y="4929120"/>
            <a:ext cx="878040" cy="1295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divieto-transito.gif"/>
          <p:cNvPicPr/>
          <p:nvPr/>
        </p:nvPicPr>
        <p:blipFill>
          <a:blip r:embed="rId7"/>
          <a:stretch/>
        </p:blipFill>
        <p:spPr>
          <a:xfrm>
            <a:off x="2428920" y="3214800"/>
            <a:ext cx="1187280" cy="117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divieto-sosta.gif"/>
          <p:cNvPicPr/>
          <p:nvPr/>
        </p:nvPicPr>
        <p:blipFill>
          <a:blip r:embed="rId8"/>
          <a:stretch/>
        </p:blipFill>
        <p:spPr>
          <a:xfrm>
            <a:off x="3786120" y="31431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farmacia.gif"/>
          <p:cNvPicPr/>
          <p:nvPr/>
        </p:nvPicPr>
        <p:blipFill>
          <a:blip r:embed="rId9"/>
          <a:stretch/>
        </p:blipFill>
        <p:spPr>
          <a:xfrm>
            <a:off x="2571840" y="5000760"/>
            <a:ext cx="1138320" cy="115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limite-velocita.gif"/>
          <p:cNvPicPr/>
          <p:nvPr/>
        </p:nvPicPr>
        <p:blipFill>
          <a:blip r:embed="rId10"/>
          <a:stretch/>
        </p:blipFill>
        <p:spPr>
          <a:xfrm>
            <a:off x="5072040" y="3143160"/>
            <a:ext cx="1187640" cy="118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ospedale.gif"/>
          <p:cNvPicPr/>
          <p:nvPr/>
        </p:nvPicPr>
        <p:blipFill>
          <a:blip r:embed="rId11"/>
          <a:stretch/>
        </p:blipFill>
        <p:spPr>
          <a:xfrm>
            <a:off x="4143240" y="50007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passo-carrabile.gif"/>
          <p:cNvPicPr/>
          <p:nvPr/>
        </p:nvPicPr>
        <p:blipFill>
          <a:blip r:embed="rId12"/>
          <a:stretch/>
        </p:blipFill>
        <p:spPr>
          <a:xfrm>
            <a:off x="5500800" y="4929120"/>
            <a:ext cx="830160" cy="122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pedoni.bmp"/>
          <p:cNvPicPr/>
          <p:nvPr/>
        </p:nvPicPr>
        <p:blipFill>
          <a:blip r:embed="rId13"/>
          <a:stretch/>
        </p:blipFill>
        <p:spPr>
          <a:xfrm>
            <a:off x="7715160" y="31431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pass-livello1.gif"/>
          <p:cNvPicPr/>
          <p:nvPr/>
        </p:nvPicPr>
        <p:blipFill>
          <a:blip r:embed="rId14"/>
          <a:stretch/>
        </p:blipFill>
        <p:spPr>
          <a:xfrm>
            <a:off x="7786800" y="1571760"/>
            <a:ext cx="1106280" cy="104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pedoni.gif"/>
          <p:cNvPicPr/>
          <p:nvPr/>
        </p:nvPicPr>
        <p:blipFill>
          <a:blip r:embed="rId15"/>
          <a:stretch/>
        </p:blipFill>
        <p:spPr>
          <a:xfrm>
            <a:off x="6572160" y="49291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sensovietato.gif"/>
          <p:cNvPicPr/>
          <p:nvPr/>
        </p:nvPicPr>
        <p:blipFill>
          <a:blip r:embed="rId16"/>
          <a:stretch/>
        </p:blipFill>
        <p:spPr>
          <a:xfrm>
            <a:off x="6429240" y="3214800"/>
            <a:ext cx="1068480" cy="1079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" descr="psoccorso.gif"/>
          <p:cNvPicPr/>
          <p:nvPr/>
        </p:nvPicPr>
        <p:blipFill>
          <a:blip r:embed="rId17"/>
          <a:stretch/>
        </p:blipFill>
        <p:spPr>
          <a:xfrm>
            <a:off x="8072280" y="4857840"/>
            <a:ext cx="839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Attivit</a:t>
            </a:r>
            <a:r>
              <a:rPr b="0" lang="hr-HR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à</a:t>
            </a: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 di consolidam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2" name="Picture 5" descr="C:\Documents and Settings\miro\My Documents\My Pictures\Skenirano\ed_strad.jpg"/>
          <p:cNvPicPr/>
          <p:nvPr/>
        </p:nvPicPr>
        <p:blipFill>
          <a:blip r:embed="rId1"/>
          <a:srcRect l="12231" t="23880" r="12231" b="30081"/>
          <a:stretch/>
        </p:blipFill>
        <p:spPr>
          <a:xfrm>
            <a:off x="5059440" y="2514600"/>
            <a:ext cx="4084560" cy="3243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:\Documents and Settings\miro\My Documents\My Pictures\Skenirano\tab_2_entrata.jpg"/>
          <p:cNvPicPr/>
          <p:nvPr/>
        </p:nvPicPr>
        <p:blipFill>
          <a:blip r:embed="rId2"/>
          <a:srcRect l="20914" t="0" r="17603" b="50543"/>
          <a:stretch/>
        </p:blipFill>
        <p:spPr>
          <a:xfrm>
            <a:off x="1368360" y="1981080"/>
            <a:ext cx="35704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mportanza dell’educazione strada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mperativo dettato dal traffico sempre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nten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ar partecipare l’alunno con sicurezza e adeguatezza al traf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ar considerare il rapporto con la strada con responsabil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e consapevol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iungere al rispetto delle regole per evitare i pericoli del traff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Gli odori della stra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17324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etti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di scar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seante, soffocante, asfissiante, …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zin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gente, opprimente, sferzante,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e appena sforn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rante, dolce, appetitoso,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 rumori della stra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7324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mo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ettiv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cs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, roboante, assordante,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bilante, battente, fischiante, lieve,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gra, argentina, convulsa, serena,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 rischi della strada (percorso noto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7324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755880"/>
                <a:gridCol w="40165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 contenuti dell’educazione strada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portamento da pe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portamento da cic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ente dei mezzi di trasporto pubbl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:\Documents and Settings\miro\My Documents\My Pictures\school stuff\vigile.bmp"/>
          <p:cNvPicPr/>
          <p:nvPr/>
        </p:nvPicPr>
        <p:blipFill>
          <a:blip r:embed="rId1"/>
          <a:stretch/>
        </p:blipFill>
        <p:spPr>
          <a:xfrm>
            <a:off x="6858000" y="990720"/>
            <a:ext cx="2008080" cy="2158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C:\Documents and Settings\miro\My Documents\My Pictures\school stuff\ciclisti_bambini.bmp"/>
          <p:cNvPicPr/>
          <p:nvPr/>
        </p:nvPicPr>
        <p:blipFill>
          <a:blip r:embed="rId2"/>
          <a:stretch/>
        </p:blipFill>
        <p:spPr>
          <a:xfrm>
            <a:off x="6629400" y="3429000"/>
            <a:ext cx="1784520" cy="1290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Documents and Settings\miro\My Documents\My Pictures\school stuff\autobus.bmp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486400" y="5181480"/>
            <a:ext cx="226044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Comportamento da pedo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amminare sul lato destro del marciapiede senza correre 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al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mminare sul lato sinistro della strada se non c'è il marciapiede per vedere le macchine che ci vengono inco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oscer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 regole per attraversare la strada con il semaforo, con il vigile e senza l'aiuto di nessuno dei 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oscere i segnali stradali importanti per i ped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Utente dei mezzi pubblic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lire sull'autobus senza spinge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portarsi educatamente nell'autobus: non gridare, non spostarsi di continuo disturbando gli altri viaggiatori, cedere il posto alle persone anziane o ammalate, alle donne in stato interessante o con bambini piccol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per dove acquistare e timbrare il biglietto oppure saper usare l'abbonamento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si per scendere alla fermata giusta previa segnalazione con il tasto apposit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Comportamento da ciclis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n marciare affiancato ad un altro cic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n salire sul marciapi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nere la destra e segnalare per tempo i cambiamenti di dire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are ogni tanto le gomme della bicicletta (se sono lisce e se sono gonfiate alla pressione giu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are che i freni funzionino alla perfe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n farsi trainare da altri veicoli e non portare passeggeri sulla bicicle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Continuazione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685800"/>
            <a:ext cx="8031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ggere il manubrio con almeno una 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sicurarsi che il fanalino e i catarinfrangenti funzionino a do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are la precedenza ai veicoli che provengono da destra, ai pedoni sulle strisce pedonali, ai tram e alle autoambula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are il campanello solo quando è veramente necess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n avventurarsi in luoghi pericolosi o che non si conos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n frenare bruscamente se non è veramente necess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oscere i segnali stradali e tutte le regole del codice stradale che riguardano i cicli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Il patentino di gui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C:\Documents and Settings\miro\My Documents\My Pictures\school stuff\parco_ed_strad.bmp"/>
          <p:cNvPicPr/>
          <p:nvPr/>
        </p:nvPicPr>
        <p:blipFill>
          <a:blip r:embed="rId1"/>
          <a:stretch/>
        </p:blipFill>
        <p:spPr>
          <a:xfrm>
            <a:off x="1060560" y="1752480"/>
            <a:ext cx="808344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Aspetti dell’infanzia importanti per l’educazione stradale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vimento – impulso vitale per lo sviluppo del bamb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curezza nel traffico – presupposto per la seren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el bamb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ducia totale del bambino nelle regole imparate dall’ad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pac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attenzione del bambino instabile e di breve du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Capacit</a:t>
            </a:r>
            <a:r>
              <a:rPr b="0" lang="hr-HR" sz="4400" spc="-1" strike="noStrike">
                <a:solidFill>
                  <a:srgbClr val="003366"/>
                </a:solidFill>
                <a:latin typeface="Times New Roman"/>
                <a:ea typeface="Arial"/>
              </a:rPr>
              <a:t>à</a:t>
            </a: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 di attenzione del bambino - comportament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rre verso un compagno che vede dall’altra parte della s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urbato per qualche mo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rre in mezzo alla strada per recuperare la p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hiacchiera con degli amici e attraversano senza guard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rre dietro ad un adulto senza valutare il peric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Ampiezza dell’attenzio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mpiezza ristretta e poco selet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n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capace di abbracciare molti dettagli in un’immag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n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n grado di distinguere l’essenziale dal marg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.: tanti veicoli che arrivano tra cui non riesce a valutare quali sono troppo vicini o troppo velo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La statura del bambin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atura in media 40 cm inferiore dell’ad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n permette al bambino di avere una visuale completa della s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n permette di vedere a causa di cespugli, alberi, o macchine parcheggiate sul marciapi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L’udito del bambin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a il 3% e il 30% dei bambini di sei anni identificano in modo scorretto la provenienza di un suono, a seconda della direzione da cui si orig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 il bambino un errore p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ortare conseguenze pericolose: uno sbaglio p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pingerlo facilmente a correre verso un’ auto che arriva da una direzione inaspett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pacità di distinguere la destra dalla sinistra</a:t>
            </a:r>
            <a:r>
              <a:rPr b="0" lang="hr-H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apac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i pensare in termini astratti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ecessaria per distinguere tra destra e sinistr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ambini piccoli rimangono spesso confusi per il fatto che un lato della strada a volt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"la destra" e a volte "la sinistra" e vice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ricerca ha trovato che solo il 58% dei bambini di sei anni sa distinguere tra destra e sinistra, a sette anni la percentuale sale al 72%, a nove anni al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mprensione del significato di importanti segnali stradal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 parol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 simboli spesso non sono compres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 bambini trovano difficile capire il significato dei segnali strada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i bambini studiati, di sei anni, capiva il senso di 3 cartelli fra gli 11 importanti per la loro sicurez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rca il 50 % dei bambini di otto anni capiva 7 cartelli su 11 e il 50% di quelli di 10 anni ne capiva 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condo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iaget i bambini sviluppano il pensiero astratto quando entrano nell’adolescenza, per cui i risultati descritti non dovrebbero sorprender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7:38:41Z</dcterms:created>
  <dc:creator>miro</dc:creator>
  <dc:description/>
  <dc:language>en-US</dc:language>
  <cp:lastModifiedBy>Miro</cp:lastModifiedBy>
  <dcterms:modified xsi:type="dcterms:W3CDTF">2013-12-09T22:07:36Z</dcterms:modified>
  <cp:revision>50</cp:revision>
  <dc:subject/>
  <dc:title>L’educazione stradale</dc:title>
</cp:coreProperties>
</file>