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619-4EEA-4CA0-B554-95A96FBA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04A9-5374-48B6-8584-2A818634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104-0055-4950-AC6D-8D231FFF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27F-94FA-4959-8311-9D022708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1351-9E7B-4436-A5B5-06047F66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F311-FDD9-4979-9CA7-6298696E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AFAC-2A2E-46F5-BF43-E1D20DF4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8BDA-9F40-4946-935F-0E04F620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9908-EC99-45BB-92DE-02DA95B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C014-77DA-4E3D-BCBA-A5AE48E1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A3F8-8B2A-46F6-A030-DFE83ADC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6A7-DBEE-4328-8D75-AE27C5F8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438C-EEB2-4DB6-9EF4-F034F582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E7DF-347C-4F46-937E-8439119F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3D19-1EC7-4C52-9672-CF6CE2D6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2861-5C30-408C-A390-34CFA22D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00F1-6344-4111-8630-9010C28F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D48-FF04-4263-A9A7-BF1D03D7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BA6-12CE-43D7-BEC1-D6A3DEE6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D38-4AA0-45DF-A752-160DA06F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738-2803-4634-A8EA-2A304A0E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461-DBD3-44E8-9E96-74A6F2B0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356-4C15-4B7B-BB57-EBAA692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327-EFD5-4093-A391-BF2670C1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9A02-0263-4CC7-A43E-F37D57301515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94AF-BC29-4B56-A4C1-78D82AEA28E9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67057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cc"/>
                </a:solidFill>
                <a:latin typeface="Arial"/>
              </a:rPr>
              <a:t>La natura organica: le piant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Didattica della natura e soci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Continuazion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43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Classe II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pporti di causa-effetto (es. l’effetto del freddo sulle piant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Uso delle piante: alimentazione, costruzioni, riscaldamento, produzione di stoffe, di carta, di medicine, ec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Classe I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arti della pianta con fiore e loro funzion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Utili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à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della pianta: ossigeno, fotosintesi clorofillia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Esperimenti con le pian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Tipi di radic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tipi_radici"/>
          <p:cNvPicPr/>
          <p:nvPr/>
        </p:nvPicPr>
        <p:blipFill>
          <a:blip r:embed="rId1"/>
          <a:stretch/>
        </p:blipFill>
        <p:spPr>
          <a:xfrm>
            <a:off x="1403280" y="1700280"/>
            <a:ext cx="70279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66"/>
                </a:solidFill>
                <a:latin typeface="Arial"/>
              </a:rPr>
              <a:t>Funzioni e usi della radic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827000"/>
            <a:ext cx="84596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i ramifica dalla radice primaria in quella secondaria fino a diventare sottile sottile e assorbire l’acqua dal terren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cioglie i sali minerali e li assorbe (linfa grezz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erve come sostegno alla pianta e la fissa al terren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Vengono usate come cibo per uomini e animal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Vengono usate per produrre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l fus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99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Ha la funzione di sostenere  le foglie e i fiori, di trasportare la linf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È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formato da diversi tipi di tessuto: corteccia, fasci fibro-vascolari e midoll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u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ò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essere erbaceo, legnoso, aereo (eretto, sarmentoso, volubile, rampicante) o sotterraneo (bulbo, tubero, rizom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Contiene i nodi (vi si inseriscono le foglie) e gli internodi o zone intercalar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i sviluppa dalla gemma apicale o apice caulinare del germogl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Lenticella sulla corteccia; avviene scambio di g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La fogl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arti di una fogl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Foglia_parti"/>
          <p:cNvPicPr/>
          <p:nvPr/>
        </p:nvPicPr>
        <p:blipFill>
          <a:blip r:embed="rId1"/>
          <a:srcRect l="2869" t="0" r="0" b="0"/>
          <a:stretch/>
        </p:blipFill>
        <p:spPr>
          <a:xfrm>
            <a:off x="6084720" y="1413000"/>
            <a:ext cx="2541600" cy="469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foglia"/>
          <p:cNvPicPr/>
          <p:nvPr/>
        </p:nvPicPr>
        <p:blipFill>
          <a:blip r:embed="rId2"/>
          <a:stretch/>
        </p:blipFill>
        <p:spPr>
          <a:xfrm>
            <a:off x="2340000" y="2349360"/>
            <a:ext cx="20620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Funzioni della fogl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Fotosintesi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clorofillia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5" descr="fotosintesi_cl"/>
          <p:cNvPicPr/>
          <p:nvPr/>
        </p:nvPicPr>
        <p:blipFill>
          <a:blip r:embed="rId1"/>
          <a:stretch/>
        </p:blipFill>
        <p:spPr>
          <a:xfrm>
            <a:off x="3514680" y="1574640"/>
            <a:ext cx="562932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Classificazione delle fogl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1827000"/>
            <a:ext cx="79279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econdo la forma: aghiformi, lanceolate, ellittiche, ovali, spatolate, palm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econdo il margine: liscio, dentato, intero, ondulato, seghettato, lobato, crena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econdo le nervature: penninervie, palminervie, parallelinerv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econdo le trasformazioni funzionali: succulente, aghi, vitic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66"/>
                </a:solidFill>
                <a:latin typeface="Arial"/>
              </a:rPr>
              <a:t>Le forma delle fogli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foglie_forma"/>
          <p:cNvPicPr/>
          <p:nvPr/>
        </p:nvPicPr>
        <p:blipFill>
          <a:blip r:embed="rId1"/>
          <a:stretch/>
        </p:blipFill>
        <p:spPr>
          <a:xfrm>
            <a:off x="1251000" y="1916280"/>
            <a:ext cx="7893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l margine delle fogl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foglie_margine"/>
          <p:cNvPicPr/>
          <p:nvPr/>
        </p:nvPicPr>
        <p:blipFill>
          <a:blip r:embed="rId1"/>
          <a:stretch/>
        </p:blipFill>
        <p:spPr>
          <a:xfrm>
            <a:off x="468360" y="1916280"/>
            <a:ext cx="845640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Le nervature della fogl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foglie_nervature"/>
          <p:cNvPicPr/>
          <p:nvPr/>
        </p:nvPicPr>
        <p:blipFill>
          <a:blip r:embed="rId1"/>
          <a:stretch/>
        </p:blipFill>
        <p:spPr>
          <a:xfrm>
            <a:off x="1476360" y="1916280"/>
            <a:ext cx="657540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71640" y="533160"/>
            <a:ext cx="7711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Differenze tra piante e animal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Parte adibita al nutrimento rivolta verso l’estern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Le cellule hanno la parete cellulare di cellulo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Le piante sono autotrof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Le piante crescono per tutta la vita ma solo in determinate part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66"/>
                </a:solidFill>
                <a:latin typeface="Arial"/>
              </a:rPr>
              <a:t>Il fio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704360" cy="46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erve per la riproduzi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Il fiore delle angiosperme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è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il p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ù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sviluppa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La part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iù estern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è i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alic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formato da un insieme di foglioline verdi chiamate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epal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namente c'è la corolla, formata da foglie di diverso colore chiamate petal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 parte maschile del fiore (androceo) è costituita da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tam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nt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 parte femminile del fiore (gineceo) è fatta di pistilli (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ovari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til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timma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arti del fi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parti_fiore"/>
          <p:cNvPicPr/>
          <p:nvPr/>
        </p:nvPicPr>
        <p:blipFill>
          <a:blip r:embed="rId1"/>
          <a:stretch/>
        </p:blipFill>
        <p:spPr>
          <a:xfrm>
            <a:off x="1187280" y="1916280"/>
            <a:ext cx="74930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mpollinazion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impollinazione"/>
          <p:cNvPicPr/>
          <p:nvPr/>
        </p:nvPicPr>
        <p:blipFill>
          <a:blip r:embed="rId1"/>
          <a:stretch/>
        </p:blipFill>
        <p:spPr>
          <a:xfrm>
            <a:off x="787320" y="1844640"/>
            <a:ext cx="83566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66"/>
                </a:solidFill>
                <a:latin typeface="Arial"/>
              </a:rPr>
              <a:t>Impollinazione</a:t>
            </a: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92792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Trasporto di granuli di polline dalle antere agli stimm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I granuli di polline sono microspore e non cellule gamiche o game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I granuli di polline germinano e si formano gli organismi aploidi o tubetti pollinic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Fecondazione – fusione a due a due delle cellule sessuali (gameti) dalle quali nasce lo zigo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ngiosperme: doppia fecondazione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ovario – frutto; ovuli - sem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2" name="AutoShape 8"/>
          <p:cNvCxnSpPr>
            <a:stCxn id="151" idx="2"/>
            <a:endCxn id="151" idx="2"/>
          </p:cNvCxnSpPr>
          <p:nvPr/>
        </p:nvCxnSpPr>
        <p:spPr>
          <a:xfrm>
            <a:off x="4431960" y="6541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AutoShape 10"/>
          <p:cNvSpPr/>
          <p:nvPr/>
        </p:nvSpPr>
        <p:spPr>
          <a:xfrm>
            <a:off x="665964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66"/>
                </a:solidFill>
                <a:latin typeface="Arial"/>
              </a:rPr>
              <a:t>Il frut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566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rgano caratteristico per la riproduzione delle Angiosper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i sviluppa dall’ovario che contiene gli ovuli da cui nascono i sem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 frutti nati dall’ovario sono quelli veri (es. pesc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Frutti non veri: si sviluppano dal ricettacolo o talamo: es. la mela, la pera, la fragol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Le parti del frut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fruttoSezione"/>
          <p:cNvPicPr/>
          <p:nvPr/>
        </p:nvPicPr>
        <p:blipFill>
          <a:blip r:embed="rId1"/>
          <a:stretch/>
        </p:blipFill>
        <p:spPr>
          <a:xfrm>
            <a:off x="1403280" y="1773360"/>
            <a:ext cx="3483000" cy="281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frutto_parti"/>
          <p:cNvPicPr/>
          <p:nvPr/>
        </p:nvPicPr>
        <p:blipFill>
          <a:blip r:embed="rId2"/>
          <a:stretch/>
        </p:blipFill>
        <p:spPr>
          <a:xfrm>
            <a:off x="4932360" y="3357720"/>
            <a:ext cx="37209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Classificazione dei frut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827000"/>
            <a:ext cx="799920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Frutti secchi o membranosi (pericarpo coriaceo, non molto sviluppato e asciutto): noci, mandorle, nocciole, baccelli di pisello, baccelli di fagiolo, capsule di papaver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Frutti carnosi - pericarpo acquoso, di consistenza carnosa, con tessuti molli e succulent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Frutti carnosi veri: pesca, albicocca, more di rovo, drupe di ciliegio, susin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Frutti carnosi falsi: pera, mela fragola, fic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Frutta secc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frutta_secca"/>
          <p:cNvPicPr/>
          <p:nvPr/>
        </p:nvPicPr>
        <p:blipFill>
          <a:blip r:embed="rId1"/>
          <a:stretch/>
        </p:blipFill>
        <p:spPr>
          <a:xfrm>
            <a:off x="1187280" y="1844640"/>
            <a:ext cx="6593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Frutta carnos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4" descr="Frutta_carnosa"/>
          <p:cNvPicPr/>
          <p:nvPr/>
        </p:nvPicPr>
        <p:blipFill>
          <a:blip r:embed="rId1"/>
          <a:stretch/>
        </p:blipFill>
        <p:spPr>
          <a:xfrm>
            <a:off x="1643040" y="1500120"/>
            <a:ext cx="61070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6666"/>
                </a:solidFill>
                <a:latin typeface="Arial"/>
              </a:rPr>
              <a:t>La piante pi</a:t>
            </a:r>
            <a:r>
              <a:rPr b="0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ù</a:t>
            </a:r>
            <a:r>
              <a:rPr b="0" lang="hr-HR" sz="4800" spc="-1" strike="noStrike">
                <a:solidFill>
                  <a:srgbClr val="006666"/>
                </a:solidFill>
                <a:latin typeface="Arial"/>
                <a:ea typeface="Arial"/>
              </a:rPr>
              <a:t> semplici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iante unicellulari – alg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Diatomee: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cole ma indispensabili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on superano i due millimetri di lunghezz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 non esistessero loro, non ci sarebbe vita negli oceani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 molecole organiche da essi prodotte finiscono nel “menù” dei pesc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L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biente marino come quello d’acqua dolce sono ricchi di questi piccoli micro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ganis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alghe_microsc_diatomeee"/>
          <p:cNvPicPr/>
          <p:nvPr/>
        </p:nvPicPr>
        <p:blipFill>
          <a:blip r:embed="rId1"/>
          <a:stretch/>
        </p:blipFill>
        <p:spPr>
          <a:xfrm>
            <a:off x="611280" y="4653000"/>
            <a:ext cx="2560680" cy="1809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alghe_unicell_cryptophytae"/>
          <p:cNvPicPr/>
          <p:nvPr/>
        </p:nvPicPr>
        <p:blipFill>
          <a:blip r:embed="rId2"/>
          <a:stretch/>
        </p:blipFill>
        <p:spPr>
          <a:xfrm>
            <a:off x="3851280" y="4653000"/>
            <a:ext cx="2058840" cy="1776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alghe_unicell_euglenophytae1"/>
          <p:cNvPicPr/>
          <p:nvPr/>
        </p:nvPicPr>
        <p:blipFill>
          <a:blip r:embed="rId3"/>
          <a:stretch/>
        </p:blipFill>
        <p:spPr>
          <a:xfrm>
            <a:off x="6588000" y="4653000"/>
            <a:ext cx="1500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66"/>
                </a:solidFill>
                <a:latin typeface="Arial"/>
              </a:rPr>
              <a:t>Alghe unicellulari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827000"/>
            <a:ext cx="80722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me ogni alga che si rispetti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diatomee compiono la fotosintesi clorofillian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’interno dei loro particolari e sempre diversi gusci silicei sono racchiusi vari tipi di clorofilla, capaci di catturare raggi luminosi di differenti lunghezze d’onda: così riescono a produrre ossigeno sia a ridosso della superficie, dove la luce è diffusa, che a decine di metri di profondità, dove è quasi buio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alghe_unicell_diatomee"/>
          <p:cNvPicPr/>
          <p:nvPr/>
        </p:nvPicPr>
        <p:blipFill>
          <a:blip r:embed="rId1"/>
          <a:stretch/>
        </p:blipFill>
        <p:spPr>
          <a:xfrm>
            <a:off x="6659640" y="189000"/>
            <a:ext cx="22114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Batteri – organismi unicellular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827000"/>
            <a:ext cx="80722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tteri (greco baktérion, "bastoncino"),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rganismi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 la maggior parte microscopici, privi di un nucleo distinto e caratterizzati da un modo di riprodursi per divisione cellula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trovano in quasi tutti gli ambienti: nell'aria, nel suolo, nell'acqua, nel ghiaccio, nelle sorgenti calde e perfino negli sbocchi idrotermali delle profondità oceaniche. Alcuni proliferano sugli alimenti, mentre altri stabiliscono varie forme di simbiosi con piante, animali e altri organismi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batteri"/>
          <p:cNvPicPr/>
          <p:nvPr/>
        </p:nvPicPr>
        <p:blipFill>
          <a:blip r:embed="rId1"/>
          <a:stretch/>
        </p:blipFill>
        <p:spPr>
          <a:xfrm>
            <a:off x="1212840" y="5211720"/>
            <a:ext cx="1765440" cy="152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batterio_flagellato"/>
          <p:cNvPicPr/>
          <p:nvPr/>
        </p:nvPicPr>
        <p:blipFill>
          <a:blip r:embed="rId2"/>
          <a:srcRect l="0" t="0" r="0" b="5249"/>
          <a:stretch/>
        </p:blipFill>
        <p:spPr>
          <a:xfrm>
            <a:off x="3348000" y="5302080"/>
            <a:ext cx="2073240" cy="147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batteri_patogeni"/>
          <p:cNvPicPr/>
          <p:nvPr/>
        </p:nvPicPr>
        <p:blipFill>
          <a:blip r:embed="rId3"/>
          <a:srcRect l="0" t="0" r="0" b="4446"/>
          <a:stretch/>
        </p:blipFill>
        <p:spPr>
          <a:xfrm>
            <a:off x="5940360" y="5327640"/>
            <a:ext cx="222084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icazione</a:t>
            </a: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 dei batteri</a:t>
            </a: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072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llo schema di classificazione i batteri costituiscono il regno dei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cario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ifferenziano dalle cellule di tutti gli altri organismi viventi, chiamati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ucariot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er l'assenza di un nucleo delimitato da membran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conoscono circa 1600 specie di batteri, classificati secondo caratteristiche diver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base alla forma si distinguono i cocchi (sferici), i bacilli (bastoncellari) e gli spirilli (spiraliformi). Altre classificazioni seguono criteri quali la reazione alla colorazione di Gram, la modalità di respirazione (batteri aerobi e anaerobi) e di nutrizione (batteri autotrofi ed eterotrofi) e le caratteristiche biochimich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iante immen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827360"/>
            <a:ext cx="8072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Eucalipto australiano e sequoia california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eucalipti"/>
          <p:cNvPicPr/>
          <p:nvPr/>
        </p:nvPicPr>
        <p:blipFill>
          <a:blip r:embed="rId1"/>
          <a:stretch/>
        </p:blipFill>
        <p:spPr>
          <a:xfrm>
            <a:off x="684360" y="270828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equoia"/>
          <p:cNvPicPr/>
          <p:nvPr/>
        </p:nvPicPr>
        <p:blipFill>
          <a:blip r:embed="rId2"/>
          <a:stretch/>
        </p:blipFill>
        <p:spPr>
          <a:xfrm>
            <a:off x="5651640" y="2349360"/>
            <a:ext cx="25113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Criteri di scelta delle piante da </a:t>
            </a:r>
            <a:br>
              <a:rPr sz="3200"/>
            </a:b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trattare in class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tudio scientifico – secondo il grado di svilupp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econdo la vicinanza spazia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econdo l’appartenenza ad un ecosistem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econdo l’utili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à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per l’uom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ell’ambito della natura e soci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à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: piante con fiori e piante nell’ambito di ecosistemi dell’ambiente locale e naziona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Gli aspetti delle piante dalla I alla IV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711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Classe I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mparare a riconoscere e denominare le piante degli ecosistem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mparare a descrivere l’aspetto esteriore delle piante con fio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Classe I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Classificare le piant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sservare i cambiamenti secondo la stagio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Cure necessarie alle pian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7:37:59Z</dcterms:created>
  <dc:creator>miro</dc:creator>
  <dc:description/>
  <dc:language>en-US</dc:language>
  <cp:lastModifiedBy>Miro</cp:lastModifiedBy>
  <dcterms:modified xsi:type="dcterms:W3CDTF">2013-11-18T21:15:21Z</dcterms:modified>
  <cp:revision>45</cp:revision>
  <dc:subject/>
  <dc:title>La formazione dei concetti</dc:title>
</cp:coreProperties>
</file>