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78D-B0E4-473F-9D1C-F6891234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F99-AF1F-441A-A36C-E30C8692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098-EB1E-4496-BD1B-34A0D22E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B1F-C43D-4681-B358-6D71BBC7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B481-129E-41B1-8174-718D7AF4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7671-143C-4FFE-BFD5-589CB722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923E-970F-4F5B-8FDE-B1BCF22A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C224-4C9B-44A4-9E62-77DB0827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73AA-1DA9-4C6D-BB4B-C9EF6043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EC6B-B764-4E20-9D4B-944B4161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CB1A-9505-48D7-98F1-EFE6CF83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79C-3420-4AD8-8738-4615E1F9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A2F-9AA3-4235-A1DF-D92C7443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6C21-9E7B-4843-A224-A7C8DDAB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C298-02DD-416C-AB44-7A6E105E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7A33-6F68-4DFA-A09C-7C72A16C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5C0B-DDDD-49FD-ABEC-4678D42D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C5F05-810E-40BF-AC53-88B7D2D0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AE72D-E14B-40D3-9B55-952D4AEC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382E8-129B-4AA0-91C9-5C46681A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5B174-2D98-49BE-8D39-9955FF4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50D53-F303-47C9-8C1A-26FE3B84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E77-56C6-41FB-9DE3-C26BDFA7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51463-3CCB-45CC-B052-BCBADC98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01F03-5825-4E04-A7C9-C844B35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E286E-7459-41B8-A227-053762D2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FC8B0-7372-4520-A365-70E6CBB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B727F-56E1-4BD0-83E6-8FD10E46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05128-2918-4D4E-B5FE-6BFE18E5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5C24E-89FC-4847-AC2E-EF7E7C42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362C4-B18F-47F0-BBE6-FC3AF120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DF48-B4B3-488E-8C77-802B1E67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C3DB-2D3C-49D0-99E6-DF5ECA12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43D-5E6C-41E4-8F01-1DBFBF37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EC699-B3D1-4667-A81F-B15A4B0D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769A-C0E9-438B-AE82-211E0E21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0E9A-5325-427C-B0E1-93C82947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50950-B81E-457E-A84C-F33099D4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86AC8-E6D5-4172-B756-A180F45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227A-9315-4166-B34C-76091263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F22F-9E2B-414C-A6DD-ED6CBDEE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C946-F684-4294-AC32-D60F3B74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AA037-6DD8-4517-A9D7-F73D4487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634E7-5A8F-4036-8EFB-54F0CAF6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A6B-8265-4EDE-9CB3-E2FD4940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9DFF0-ED49-4B0D-A24E-2095EBE1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95FEF-003D-4E2D-9AC7-AF88FEA2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6C362-B339-4440-8A04-0ABD68A8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87C1E-1D76-43A3-A219-3DD87D04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93EF3-801D-4098-B717-701BDDDA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D080B-84BC-46A8-BF61-1D102BB7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C8792-EEC2-40F0-9575-A3488CF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9C44D-DD95-4FFC-8ADB-75CD59E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3D48E-5274-4397-953A-B2A09EFD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162E9-7652-4529-B702-4A674F8E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649-56AE-4A92-B78E-04A0B62D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AB328-3C35-428B-887C-796F5E8B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60C9D-8912-44A0-A56D-627CEB96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DB3C0-7A39-4B83-AEB5-2E4FB5BF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4EF32-EA45-4BF4-A7E9-5536A0B2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3ED92-5AA1-4C12-9B89-3351F2BD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0ED57-8CC6-44B6-BE22-697AC786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CB1C4-3C64-4102-9967-4C2BB8EA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B8887-9474-4388-AC0B-E4E50FE9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8E8C7-8C2C-4A40-B0A0-3A5CDBAB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01B2D-EFBE-4885-B0AF-E9B7B162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8B9-DA89-4F5C-B2EE-F476A183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317DD-04E3-4D10-90DF-AEE59144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F743D-993D-4549-956A-66F2B62D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14B07-758F-4630-9F7C-6C6BDC94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0CB9C-882C-4ED9-81E8-FF162CDE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A9EB0-6331-4A8F-B95A-7146D21F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8F028-F693-4771-A437-1B522AFF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8FFD4-AA79-4AE8-BCBA-B857203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541FD-8DD5-418E-B965-BE8CBDCE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4FD30-08BE-4C60-8089-50702782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A6323-4016-4AE7-883A-968350E6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0EB-5940-416C-B355-02A3E00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AAECC-57BD-4A63-B3E8-0DCE2B7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7BB99-63A0-42C4-AC78-9BA81029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8758D-6663-4681-A8FE-9C4C1DD8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C31F1-B8E1-4BC7-9C00-F5EBDC78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A54C1-8BBD-4F6A-B479-3D7334E3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38D-489F-4342-9A4C-5D793F7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DB2B-C9E1-471F-8FF8-D48D97C3AD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E4FF-F39A-4ACE-82D1-BBE5848A1F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6D8F-FC55-4481-8EF1-83741B7489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CEC1-A14A-4334-9985-143BEC0CA4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67C4-C7D2-40DD-BABD-446D59D7DE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EB18-32C3-4C54-B27F-7FCBAB9A91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5F94-67A1-49E4-9C94-CA5061B0A3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575f6d"/>
                </a:solidFill>
                <a:latin typeface="Century Schoolbook"/>
              </a:rPr>
              <a:t>I CONTENUTI SULLA NATU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Didattica della natura e societ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75f6d"/>
                </a:solidFill>
                <a:latin typeface="Century Schoolbook"/>
              </a:rPr>
              <a:t>Mr.sc. Nevia Močinić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ERCEZIONE DELL’AR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o spostamento dell’aria calda e fredda – v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a mancanza d’aria per respirare se si tappano il naso e la boc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’aria calda sale in alto, quella fredda cade in bas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’ari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una delle condizioni fondamentali di vita sulla Ter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’ossigeno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indispensabile per la respirazione e la combusti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l vento sfruttato come forza naturale per muovere le navi e i mulini a vento, produrre energia elettr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sperimenti: l’aria pesa, l’aria contiene ossigeno, l’aria cald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leggera, l’aria esercita la pressi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SCIENZE CHE STUDIANO L’ACQU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Geografia – studia la diffusione delle acque sulla Terra e la loro influenza sugli esseri vivent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Chimica – studia le quali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dell’acqua, la sua composizione chimica e le reazioni chimich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Biologia – studia la funzione dell’acqua nella vita degli esseri vivent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Ecologia – studia l’inquinamento delle acque e i danni che esso provoca agli esseri vivent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USI DELL’ACQU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er usi domestici: bere, lavarci, cucinare i cibi, lavare i piatti e i panni, bagnare le pia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er nuotare e gioc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er la navigazione di vari tipi di imbarcazion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er muovere le turbine delle idrocentral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er allevare e pescare i pesc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er irrigare i camp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ROPRIET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Arial"/>
              </a:rPr>
              <a:t>À</a:t>
            </a:r>
            <a:r>
              <a:rPr b="0" lang="hr-HR" sz="3000" spc="-1" strike="noStrike">
                <a:solidFill>
                  <a:srgbClr val="575f6d"/>
                </a:solidFill>
                <a:latin typeface="Century Schoolbook"/>
                <a:ea typeface="Arial"/>
              </a:rPr>
              <a:t> DELL’ACQU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otto forma di gas non ha forma 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volume prop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otto forma di liquido ha volume proprio e la superfici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sempre orizzont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cioglie alcune sostanze e altre no (soluzione e sospension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sercita la pressione su oggetti ed esseri viven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ompie un giro specifico in natura sotto forma di precipitazioni atmosferiche (vapore acqueo, pioggia, neve, grandine, nebbia, rugiada, bri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ndispensabile per la vita delle piante, degli animali e degli uomin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LA NATURA ORGAN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tudiata dalla biologia: botanica – piante, zoologia – animali, antropologia – uomin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Natura e socie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– caratteristiche essenziali degli esseri viventi per distinguerli dalla natura inorganica, rendersi conto della dipendenza reciproca fra esseri vivent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Contenuti trattati – in accordo con le capaci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degli alunni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COMPARSA DELLA VITA SULLA TER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Risale a 4,7 miliardi di anni f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La terra si raffredda, diventa solida e si avvolge di un’atmosfera gassos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otto l’influsso delle scariche elettriche e delle radiazioni ultraviolette del sole si formano molecole di gas costituite da carbonio, ossigeno, idrogeno e azo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i formano composti complessi del carbon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iove incessantemente e si formano i mar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L’evoluzione chimica prosegue nell’acqua marina e si formano composti organici sempre p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compless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RIMI COMPOSTI ORGANIC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entury Schoolbook"/>
              </a:rPr>
              <a:t>Acidi nucleici</a:t>
            </a: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– importanti per la loro capaci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di autoreplicazione, di presiedere all’attivi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delle cellule, di trasmettere caratteri ereditar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ono uguali per forma e struttura in tutti gli esseri viventi, ma si differenziano per numero e dislocazione delle uni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costituent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Dalla dislocazione dipendono le proprie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chimiche e biologiche di queste macromoleco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RIMI COMPOSTI ORGANIC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Proteine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– rappresentano la struttura principale di ciascuna cellula viv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ono costituite da alcune centinaia o migliaia di molecole di amminoacid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i differenziano per numero e disposizione degli amminoacidi nella molecol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nota circa una ventina di amminoacidi, ma nell’ambito di una molecola proteica ce ne possono essere fino a tremil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RIMI ESSERI VIVENT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3,4 miliardi di anni fa – prime tracce di batteri e altri microorganis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Schoolbook"/>
              </a:rPr>
              <a:t>Un organismo unicellulare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– struttura g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molto comples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entury Schoolbook"/>
              </a:rPr>
              <a:t>Organismi pluricellulari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– grado evolutivo ancor p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al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e specie di esseri viventi affini dal punto di vista evolutivo hanno proteine simi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aratteristiche simili degli esseri viventi: nascono, si nutrono, respirano, crescono, si riproducono e dopo un certo periodo muoio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ondizioni necessarie per assicurare la vita: acqua, aria (ossigeno), calore, luce, terren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DEFINIZIONE DELLA “NATURA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Tutto c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ò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che ci circonda,  si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formato e cambia secondo leggi naturali, non ha limiti spaziali 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temporal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Nel suo eterno cambiare si creano un’infini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di forme di vit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Distinguiamo tra natura inorganica e organica (un grado p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alto nello sviluppo della materi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Natura inorganica: tempo, spazio, calore, luce, aria, acqua, terreno (studiati nelle classi inferiori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Natura organica: piante, animali, uom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L TERRE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lo strato superficiale e soffice della superficie terrest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Nel lontano passato la Terra era una massa incandesc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affreddandosi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diventata materia solida, ma senza lo strato del terre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Esso si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formato nel corso dei millenni sotto l’azione di molte forze natura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FORMAZIONE DEL TERRENO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Azione di forze naturali: calore del Sole, freddo, acqua, piante, animal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Calore: la roccia si riscalda e si dilata sotto il calore del Sole; di notte si raffredda velocemente (in part. sulla superficie) e si restringe per cui si spacca formando delle fess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Esperimento: scaldare una pietra calcarea su un fornello elettrico e immergerlo rapidamente nell’acqua fredd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FORMAZIONE DEL TERRENO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Azione del ghiaccio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: quando piove l’acqua riempie le fessure nella roccia; col freddo gela e si dilata facendo spaccare la rocci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Azione dell’acqua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: i pezzi di roccia si staccano, cadono lungo il versante della montagna e l’acqua dei torrenti e dei fiumi li raccoglie e li porta in fondo val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Azione delle piante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: penetrano nel terreno con le radici che sciolgono i sassi che incontran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Animali e piante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: la talpa, il lombrico, il topo campagnolo trascinano foglie morte nella gallerie scavate nel terren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 TIPI DI TERRE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La terra sabbiosa 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– assorbe ma non trattiene l’acqua; inadatta alla crescita delle pia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La creta 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– assorbe bene l’acqua e la trattiene, ferti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La terra argillosa 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– assorbe e trattiene troppo l’acqua, difficile da coltivare perch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formata da particelle molto fin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entury Schoolbook"/>
              </a:rPr>
              <a:t>La terra nera 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– assorbe e trattiene bene l’acqua ed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molto fertile, ricca di sali minerali e humu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Esperimento: quanta acqua assorbono i diversi tipi di terren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L CALO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l’energia del moto disordinato delle particelle che costituiscono la materia, avvertita come sensazione di cal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Grado di calore di un corpo –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la temperatura di tale cor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Quanti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di calore - dipende dalla massa, dal calore specifico e dalla temperatura; si misura con la calor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FENOMENI DA TRATTA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classe – la temperatura differente dell’aria nelle varie stagion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classe – fenomeni naturali in relazione al calore del Sole nelle varie stagion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classe – uso del termometro con la scala Celsius; dilatazione dei corpi come fenomeno alla base del funzionamento del termometr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 classe – fenomeno della combustione che libera calo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L’AR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2400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Miscuglio di gas inodore e insapore che forma l’atmosfera della Terr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Componenti dell’aria: azoto (78,08%); ossigeno (20,95%); gas nobili neon e argo (0,94%); anidride carbonica o biossido di carbonio (0,03% del volum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Alla temperatura di -194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º</a:t>
            </a: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C si trasforma in liqui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L’aria che avvolge la Terra ha uno spessore di 1000 km e si chiama atmosfer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42:54Z</dcterms:created>
  <dc:creator>miro</dc:creator>
  <dc:description/>
  <dc:language>en-US</dc:language>
  <cp:lastModifiedBy>Miro</cp:lastModifiedBy>
  <dcterms:modified xsi:type="dcterms:W3CDTF">2013-11-18T20:42:15Z</dcterms:modified>
  <cp:revision>10</cp:revision>
  <dc:subject/>
  <dc:title>I contenuti sulla natura</dc:title>
</cp:coreProperties>
</file>