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83D-71C9-47CE-B57B-352B6F0B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424-7417-4A68-85AC-69EDB46D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FAB-9389-4B4D-AF71-35E7D84F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7D5-80E4-4E06-A90C-DF37621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672-253D-4582-97FB-70073387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A85-EF4B-43D8-A99B-1F660B7A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2D1-F234-4066-A449-61FAED2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53B8-508D-4F31-99FA-743F2A8F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040A-3672-48CE-A327-6D24A60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1CE2-1075-4851-9B55-745AD48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B45-AA89-43D3-A894-9127AC3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051-7AE1-44CF-AC14-D6E21E97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8F6-1BCC-4E6C-8EEA-B508942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845-AFEB-4561-9F7D-DA54A49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B69C-6D05-486C-94E1-13D17A7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782-C003-40CF-8622-7E543C63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8E9-0C68-4666-B096-0A2D3EE3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62B-61DB-4EBC-8BDD-B896AC6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6A9-D8F5-4924-B73D-407472D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E02-A099-44DA-BA58-1511199E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2F8-91EC-4CEB-9DF1-D7914AFE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D18-6D3B-4F1D-B93F-0948C48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55B-DAF6-4756-BB35-1CFE36F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B6E-9751-4D55-8BDE-905BD11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86C-63B3-46D8-BE34-D96F0250109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4D11-6EA9-4713-99D7-B353635C768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819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e finalità delle sperimentazioni e delle osservazion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i esperimenti nell’insegnamento della natura e socie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Obiettiv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ercitare la percezione sensibile tramite l’esplorazione, la manipolazione, l’osservazione, la costr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per mettere in ordine, in relazione, in corrispondenza, classif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postare relazioni spazio-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ire e usare simboli e strumenti di registrazione elemen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are misure convenzionali e non sui dati dell’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laborare e verificare previsioni, anticipazioni ed ipo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Obiettiv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73240" y="928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rmulare piani di azione tenendo conto dei 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are un lessico specifico come strumento per la descrizione e la rifl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rgomentare e spiegare gli ev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parare a pensare con la propria t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frontare e analizzare fatti ed ev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durre le conoscenze in rappresentazioni consapevolmente costr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durre spiegazioni di causa-eff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egare i dati dell'esperienza in sequenze log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66"/>
                </a:solidFill>
                <a:latin typeface="Times New Roman"/>
              </a:rPr>
              <a:t>Per ogni esperimento è necessario</a:t>
            </a:r>
            <a:r>
              <a:rPr b="0" lang="hr-HR" sz="40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are e progettare l'esperimen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finendo i materiali necessari, il procedimento da segui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hia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cosa ci si propone di mettere alla p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istrare i dati ot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rre le conclusioni 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dividu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do 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variabili 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lazioni di causa ed eff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mportanza dell’educazione scientif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vorisce l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quista dell’aut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imol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esplora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stru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r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rmet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pprendimento spontane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mmersione in un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rmette il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sso attivo di costruzione delle conoscen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duce gli alunni alla riflessione critica circa le proprie convin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Elenco esperimen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3240" y="164268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ateriali organi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piante (i fenomeni dell'osmosi, la capillarità, la traspirazione, i sali minerali, la fotosintesi clorofilli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emi, la germogliazione e la crescita delle p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etamorfosi degli animali (bruco-farfalla, girino-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hiocciole vedo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ntinuazion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3240" y="14997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nservazione del cibo (togliere una delle condizioni di vi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lassificazione delle foglie, della frutta, delle radici, dei fusti, de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erb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microorganismi osservati al microsc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err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alberi della cit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Materiali anorganic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perimenti con l'acqua (i tre stati di aggregazione, scioglie / non scioglie le sostanze, scomposizione dell’acqua, i vasi comunicanti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perimenti col calore e i liquidi; il principio di funzionamento del termometro; come si trasmette il c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 chimici: la combu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ntinuazion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2142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aratteristiche dell'aria (peso, pressione, le componenti dell’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aratteristiche del terreno (composizione, assorbimento e trattenimento dell'acqu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fattori di inquinamento della 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calamite e il loro uso nella vita quoti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luce e i col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ircuito elet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Percorso didat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071720"/>
            <a:ext cx="77724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Realizzar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esperienza concreta e quanto più possibile completa con la cosa che andiamo ad esplorar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h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f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gli alun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possibilità di agire sulle cose, di provare e verificare ipo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str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c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n forte legame emotivo con l’oggetto dell’ind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plic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 maggio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ivello di aut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vorisce lo sviluppo del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nso critico,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ea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Percorso didat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71720" y="1214280"/>
            <a:ext cx="787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proccio razionale, oggettivo,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 cui l’alun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rdi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misu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fron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lassific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in cu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vono ess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ienamente vissute, rielaborate, fatte prop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de ad un lavoro più sistematico guidato dall’inseg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avvia l’alunn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erso l’astrazione e la simbo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e finalit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2139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enziamento degli atteggiamenti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uriosità, gusto della scoperta, bisogno di mettere alla prova il pensiero, di esplorare e ca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imento dell’esistenza di problemi e della possibilità di risolverl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ncerità nell’ammettere di non sapere, nel riconoscere di non aver cap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ponibilità al confronto con gli altri e alla modifica delle proprie opin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38:41Z</dcterms:created>
  <dc:creator>miro</dc:creator>
  <dc:description/>
  <dc:language>en-US</dc:language>
  <cp:lastModifiedBy>Miro</cp:lastModifiedBy>
  <dcterms:modified xsi:type="dcterms:W3CDTF">2011-10-21T16:40:28Z</dcterms:modified>
  <cp:revision>33</cp:revision>
  <dc:subject/>
  <dc:title>L’educazione stradale</dc:title>
</cp:coreProperties>
</file>