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46C-B03B-4ED2-855E-E786A32C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9CC-36CA-4F05-AB69-5F05750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48F-EBE0-47BE-8994-60BE594A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C1A-6700-42B3-8887-4DCF9195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D915-C871-4EEC-AA41-65DA00B7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7A6-1303-480A-BCFE-49BBF4B7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7ED-E4F8-4525-91A9-7356A494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442A-5639-4F0E-B0BF-01B41DF7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0E21-A299-4711-8BA2-F719EF9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55E-7729-4876-BD2C-CFB8F2A5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B33F-252D-45D2-B078-6C2398F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590-865D-4B76-96D4-5273FB1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7978-0A63-49B0-98BF-9F3F3C67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C73-6012-4613-9463-9FFD871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E231-57F2-4B52-8BE2-2922DBF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4DEC-9C2F-4904-AA6C-2AC13C3E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6403-E0C3-40E5-8DA6-09FD6EA4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6D97-2BD1-4717-ADB7-CB9B7468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8151-F1D6-4D6F-9DB0-4A1C8C27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27A3-E426-4CD1-95BC-808BAF45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B523-E353-4243-886F-9975CC78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7455-6C40-401D-8BB7-ACD65BC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F13-1510-4B63-86BB-D5DE6A6C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7851-2C7D-4996-8231-3AA0A50D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D944-F64C-48EA-BE75-2392739E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7CA0-ED8D-43E3-9F14-7E78C67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C994-839E-4567-8228-668C939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A903-DA75-4C6F-8E1F-308D4A5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D9D6-2601-4544-AE89-E97D5CD9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1C7C-64F2-4CD3-953E-0D856FC5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4B40-7850-4E77-B982-4188D78C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2420-CAA2-4D9C-8FCB-1A305B8E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A64F-E58B-422A-8333-0A5C08BA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25C-A3E2-4053-9B28-98EA0296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0C50-79FB-441A-B0A1-45547DB5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8488-7009-463F-A5D9-F9A428E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8AA5-FB7C-4584-BE76-E9C65D38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2E9D-AFF6-4433-8D03-B5C5A73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C5D9-F1EC-432D-979F-2F146FAE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187F-2C5A-470A-8E21-52358F9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93D2-BCF7-4282-8523-C99CDFD5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244D-61D9-42AA-AB87-43E046AD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4097-DBA0-420E-BFC2-DEF45C9F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EBC-949E-4F3A-81E8-A30572F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0CA-FD15-424B-A587-D992F41C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4DF-F88A-4959-A8DC-8C26A52C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513-B4BD-4D09-B1BB-398A34D0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48B-4ACA-4C30-8D5C-A9DDA1B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7B0-891D-44E4-9795-427861F1CD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8EAB-71A7-4D5B-B816-25F5538B7B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7D49-7445-4360-86B8-2D893CA0EF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C03-7926-4E4E-9484-9C57DA6763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ĽUOMO COME PARTE DELLA N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2" name="Picture 4" descr="Human_evolution_scheme"/>
          <p:cNvPicPr/>
          <p:nvPr/>
        </p:nvPicPr>
        <p:blipFill>
          <a:blip r:embed="rId1"/>
          <a:stretch/>
        </p:blipFill>
        <p:spPr>
          <a:xfrm>
            <a:off x="2286000" y="2857680"/>
            <a:ext cx="633744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ontinuazion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7720" y="2362320"/>
            <a:ext cx="8091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viveva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2,5 milioni di anni f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l primo ominide che imparò a costruire utensili, cioè strumenti utili nella vita quotidiana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vorava le ossa, le corna, i denti di animali, utilizzava i ciottoli anziché la pietra scheggi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i oggetti lavorati indicano evoluzione somatica e cultur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tre ai frutti, ai semi e alle radici, cominciò a mangiare la carne, prima quella di animali morti, poi quella dei piccoli animali che riusciva a catt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  <a:ea typeface="Arial"/>
              </a:rPr>
              <a:t>Homo erectus</a:t>
            </a:r>
            <a:r>
              <a:rPr b="1" lang="hr-HR" sz="3400" spc="-1" strike="noStrike">
                <a:solidFill>
                  <a:srgbClr val="006666"/>
                </a:solidFill>
                <a:latin typeface="Arial"/>
                <a:ea typeface="Arial"/>
              </a:rPr>
              <a:t> e homo habili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6" descr="Homo_erectus"/>
          <p:cNvPicPr/>
          <p:nvPr/>
        </p:nvPicPr>
        <p:blipFill>
          <a:blip r:embed="rId1"/>
          <a:stretch/>
        </p:blipFill>
        <p:spPr>
          <a:xfrm>
            <a:off x="1071720" y="2571840"/>
            <a:ext cx="2793960" cy="372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homoErectus.gif"/>
          <p:cNvPicPr/>
          <p:nvPr/>
        </p:nvPicPr>
        <p:blipFill>
          <a:blip r:embed="rId2"/>
          <a:stretch/>
        </p:blipFill>
        <p:spPr>
          <a:xfrm>
            <a:off x="6215040" y="2357280"/>
            <a:ext cx="1908360" cy="4034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omoHabilis.gif"/>
          <p:cNvPicPr/>
          <p:nvPr/>
        </p:nvPicPr>
        <p:blipFill>
          <a:blip r:embed="rId3"/>
          <a:stretch/>
        </p:blipFill>
        <p:spPr>
          <a:xfrm>
            <a:off x="4357800" y="2500200"/>
            <a:ext cx="1403280" cy="390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IOSI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 il termine Pitecantropoide vengono raggruppati gli ominidi della specie Homo erectus vissuto nel Pleistocene 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e che fa riferimento al ritrovamento di reperti fossili su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ľisola di Giava da un antropologo oland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DIO NEANDERTALO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14240" y="2361960"/>
            <a:ext cx="8143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vivevano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ra i 130-120.000 e i 35.000 anni f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fronte è più elevata, è presente il mento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, la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edia del volume endocranico è circa 1450 cm</a:t>
            </a:r>
            <a:r>
              <a:rPr b="0" lang="it-IT" sz="24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denti formano una serie continua, di forma umanoide con alcuni caratteri secondari ancora primiti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siede un`andatura eret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pacità di produrre arnesi e a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ez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savano u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guaggio rudiment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vevano nelle caverne ed erano cacci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ontinuazion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 segmenti sia dell'arto superiore sia dell'arto inferiore non sono fra loro proporzion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 statura si presenta piuttosto bassa con una media maschile di ca. 165 cm e una femminile di ca. 155 cm, con una differenza intersessuale di 10 c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'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Homo neandertalensi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discende direttamente dalle forme di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Homo erectu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'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Homo neandertalensis</a:t>
            </a:r>
            <a:r>
              <a:rPr b="0" i="1" lang="hr-H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l'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Homo sapiens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 sono sviluppa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in maniera separata e autono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ecnologia dell‘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mo 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di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anderth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7720" y="2361960"/>
            <a:ext cx="7877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Usava p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nte di selc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u pesanti bastoni usati come lance nella caccia a grossi animal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imitive seghe a mano, usate per lavorare legno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ossa e tendin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Usava i r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schiato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ch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sono dei coltelli di selce da usare senza manico per tagliare la carne e per la concia delle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ell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sa lunghe forate, che sarebbero degli accendini: nei fori venivano sfregati bastoncini di legno per accendere della pag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’uomo di Neanderthal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fezion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indumenti, prevalentemente di pell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Le zone climatiche frequentate imponevano sicuramente l'uso di coperture, e possiamo rappresentare il neandert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 tipico prevalentemente vestit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 segnala la capacità simbolica ed artistica, che ha portato all'uso, almeno episodico, di monili e pendagl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ontinuazion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2214720"/>
            <a:ext cx="8305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a caverna è il centro del mondo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egli uomini di Neanderthal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. Entro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ue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areti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essi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ormono, mangiano, macellano la car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Gli scarti e i rifiuti sparsi sul pavimento delle caverne sono poi stati sepolti e, col passare del tempo, si sono fossilizzati, diventando reperti preziosissimi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er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e conoscenze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attuali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u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questa spec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Quasi la metà dei reperti fossili neanderthaliani è costituita da bambini al di sotto degli 11 anni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; l’uomo vive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l massimo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er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0 anni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 specie di Neanderthal era composta da individui forti, intelligenti e altamente specializzat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  <a:ea typeface="Arial"/>
              </a:rPr>
              <a:t>L’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uomo di Neanderth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8" name="Picture 6" descr="Neanderthal_2D"/>
          <p:cNvPicPr/>
          <p:nvPr/>
        </p:nvPicPr>
        <p:blipFill>
          <a:blip r:embed="rId1"/>
          <a:stretch/>
        </p:blipFill>
        <p:spPr>
          <a:xfrm>
            <a:off x="1214280" y="2357280"/>
            <a:ext cx="2762280" cy="3724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uomini-krapina.bmp"/>
          <p:cNvPicPr/>
          <p:nvPr/>
        </p:nvPicPr>
        <p:blipFill>
          <a:blip r:embed="rId2"/>
          <a:stretch/>
        </p:blipFill>
        <p:spPr>
          <a:xfrm>
            <a:off x="4214880" y="307188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’uomo di Krapi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Content Placeholder 3" descr="donna-krapina.bmp"/>
          <p:cNvPicPr/>
          <p:nvPr/>
        </p:nvPicPr>
        <p:blipFill>
          <a:blip r:embed="rId1"/>
          <a:stretch/>
        </p:blipFill>
        <p:spPr>
          <a:xfrm>
            <a:off x="1000080" y="2571840"/>
            <a:ext cx="2792520" cy="3724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uomini-krapina.1bmp.bmp"/>
          <p:cNvPicPr/>
          <p:nvPr/>
        </p:nvPicPr>
        <p:blipFill>
          <a:blip r:embed="rId2"/>
          <a:stretch/>
        </p:blipFill>
        <p:spPr>
          <a:xfrm>
            <a:off x="4000680" y="264312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IOSI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2362320"/>
            <a:ext cx="769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lla valle della Germania occidentale nel 1856 furono rinvenuti i resti fossili 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ľuomo quaternario vissuto nel Neoli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Italia sono rappresentati dai resti fossili rinvenuti, a partire dal 1939, nella Grotta Guattari (Monte Circeo, Lati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Croazi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, a Krapina,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el 1899 vennero fatti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invenimenti importanti da Dragutin Gorjanovic-Kramber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aratteristiche dell’essere um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ľuomo è ľunico essere vivente che vive in societ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ve essere studiato come essere naturale e soci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è condizionato sia dalle leggi naturali che da quelle soci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razie alle capacità intellettuali è riuscito a sottomettere le forze della natura ed a portare lo sviluppo tecnologico-scientifico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 ad alti livel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 SAPIENS FOSSIL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2362320"/>
            <a:ext cx="769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ppresentante caratteristico è ľuomo di Cro-Magnon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, sviluppatos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rca 30.000 anni f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 del cranio a fronte alta, la fronte è ampia, diritta, tipicamente mode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faccia è lunga e senza sporgenze delle ossa mascella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ura alta delľuomo, media o piccola nella 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zia ad occuparsi di allevamento e agricol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2952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ultura dell’uomo di Cro-Magn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i strumenti tipici sono: le punte di zagaglia in corno di renna, zagaglia a losanga, raschiatoi, lunghe lame, bulini arcuati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, f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ocine per uccidere il pesce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ghi d'osso per cucire gli abit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ggetti di ornamento: pendagli d`osso, denti e conchiglie for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i elementi di arte figura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sa del linguaggio articolato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È la molla per lo sviluppo dell'arte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ella cultura; permette agli individui di formare gruppi sociali molto più larghi, di scambiare le merci e di formare alleanze nei momenti di bisogno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Attrezzi e utens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Content Placeholder 3" descr="aghi di sso preistorici.jpg"/>
          <p:cNvPicPr/>
          <p:nvPr/>
        </p:nvPicPr>
        <p:blipFill>
          <a:blip r:embed="rId1"/>
          <a:stretch/>
        </p:blipFill>
        <p:spPr>
          <a:xfrm>
            <a:off x="928800" y="2357280"/>
            <a:ext cx="3035160" cy="201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fiocine.jpg"/>
          <p:cNvPicPr/>
          <p:nvPr/>
        </p:nvPicPr>
        <p:blipFill>
          <a:blip r:embed="rId2"/>
          <a:stretch/>
        </p:blipFill>
        <p:spPr>
          <a:xfrm>
            <a:off x="6000840" y="357120"/>
            <a:ext cx="2774880" cy="3564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bulini.jpg"/>
          <p:cNvPicPr/>
          <p:nvPr/>
        </p:nvPicPr>
        <p:blipFill>
          <a:blip r:embed="rId3"/>
          <a:stretch/>
        </p:blipFill>
        <p:spPr>
          <a:xfrm>
            <a:off x="4071960" y="2500200"/>
            <a:ext cx="1711440" cy="251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zagaglie.jpg"/>
          <p:cNvPicPr/>
          <p:nvPr/>
        </p:nvPicPr>
        <p:blipFill>
          <a:blip r:embed="rId4"/>
          <a:stretch/>
        </p:blipFill>
        <p:spPr>
          <a:xfrm>
            <a:off x="6000840" y="4143240"/>
            <a:ext cx="297972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raschiatoio.jpg"/>
          <p:cNvPicPr/>
          <p:nvPr/>
        </p:nvPicPr>
        <p:blipFill>
          <a:blip r:embed="rId5"/>
          <a:stretch/>
        </p:blipFill>
        <p:spPr>
          <a:xfrm>
            <a:off x="928800" y="4429080"/>
            <a:ext cx="2973240" cy="2268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8"/>
          <p:cNvSpPr/>
          <p:nvPr/>
        </p:nvSpPr>
        <p:spPr>
          <a:xfrm>
            <a:off x="2594160" y="40006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Arial"/>
              </a:rPr>
              <a:t>aghi d’os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649760" y="52149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bulin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77960" y="35719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Arial"/>
              </a:rPr>
              <a:t>fioc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2722320" y="62866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Arial"/>
              </a:rPr>
              <a:t>raschiato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7937640" y="60008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Arial"/>
              </a:rPr>
              <a:t>zagagl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Rappresentazione delľuomo di Cro-Magnon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Picture 3" descr="homo-sapiens.bmp"/>
          <p:cNvPicPr/>
          <p:nvPr/>
        </p:nvPicPr>
        <p:blipFill>
          <a:blip r:embed="rId1"/>
          <a:stretch/>
        </p:blipFill>
        <p:spPr>
          <a:xfrm>
            <a:off x="5072040" y="2500200"/>
            <a:ext cx="2987640" cy="3986280"/>
          </a:xfrm>
          <a:prstGeom prst="rect">
            <a:avLst/>
          </a:prstGeom>
          <a:ln w="0">
            <a:noFill/>
          </a:ln>
        </p:spPr>
      </p:pic>
      <p:pic>
        <p:nvPicPr>
          <p:cNvPr id="242" name="Content Placeholder 5" descr="homo-sapiens.-sapiens.bmp"/>
          <p:cNvPicPr/>
          <p:nvPr/>
        </p:nvPicPr>
        <p:blipFill>
          <a:blip r:embed="rId2"/>
          <a:stretch/>
        </p:blipFill>
        <p:spPr>
          <a:xfrm>
            <a:off x="1357200" y="2500200"/>
            <a:ext cx="3240360" cy="403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ppresentazione degli utensili usati dalľuomo di Cro-Magn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6" descr="cro-magnon-tools"/>
          <p:cNvPicPr/>
          <p:nvPr/>
        </p:nvPicPr>
        <p:blipFill>
          <a:blip r:embed="rId1"/>
          <a:stretch/>
        </p:blipFill>
        <p:spPr>
          <a:xfrm>
            <a:off x="2195640" y="1628640"/>
            <a:ext cx="489744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imboli dello sviluppo del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ľevoluzione delľuom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a stazione eret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 sviluppo della man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 sviluppo del cervell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 sviluppo del linguaggio articola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ti con funzione masticatoria e in serie continua</a:t>
            </a:r>
            <a:r>
              <a:rPr b="0" lang="hr-HR" sz="3200" spc="-1" strike="noStrike">
                <a:solidFill>
                  <a:srgbClr val="003366"/>
                </a:solidFill>
                <a:latin typeface="Arial"/>
              </a:rPr>
              <a:t>, senza diastem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CONTENUTI SULĽUOMO NELLE CLASSI 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IO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ima class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li alunni imparano a descrivere e a distinguere le parti del corpo (la testa, il tronco, gli arti superiori e inferiori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stinzione secondo il sesso,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ľetà, il colore della pell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Seconda class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si approfondisce e si amplia la conoscenza delle parti del corpo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riconoscere i cambiamenti che avvengono nelle fasi della crescita delľuomo: il neonato, ľuomo adulto, ľanziano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rza clas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i alunni imparano il legame causa-effetto che condiziona la vita 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ľuo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engono spiegati alcuni avvenimenti facili da comprendere come: la nascita, le attività necessarie per vivere, i cambiamenti d`umore, le cause di alcune malattie, le cause della m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rta clas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ripetono le parti esterne del cor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passa allo studio degli organi interni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riuniti in apparati o sistemi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 delle loro fun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ľinsegnante può usare materiale didattico come diapositive, filmine, modellini per rendere ľargomento più comprensib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Continuazion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i argomenti relativi allo scambio 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ľossigeno e delľanidride carbonica nel sangue oppure le funzioni del cervello saranno difficili da comprendere anche con il materiale didattico, si dovranno sfruttare al massimo le capacità di comprensione logica degli alun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Teorie sull’origine dell’uo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contrappongono due teorie sulľorigine delľuo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teoria evoluzionistica di Charles Darw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teoria spiritualistica (il racconto biblico sulla creazione delľuom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 sviluppo scientifico conferma la teoria evoluzionist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IFFERENZE FRA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ĽUOMO E GLI ALTRI ESSERI VIVENTI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i uomini vivono in comuni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à organizzate basate sui rapporti interpersonali tra i memb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ducano i propri figli e li preparano alla vita soci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ruisce abitazioni solide per proteggersi dalle calamità natura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repara e lavora il cib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non adatta il proprio organismo e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i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rtamento a seconda delle stag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Stadi di sviluppo dell’uo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zie al ritrovamento di reperti fossili gli antropologi distinguono quattro st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dio australopiteco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dio pitecantropo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dio neandertalo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dio de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ľHomo sapiens fossil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DIO AUSTRALOPITECO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2361960"/>
            <a:ext cx="8020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viveva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,5 milioni di anni f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 suo cervello era piccolo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(550 – 600 cm³)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 il viso conservava un aspetto da scimm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one meno specializzata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in senso difensivo e più in senso masticato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ndenza alla stazione eretta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– c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mmina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sando solo le gambe, anche se mani e piedi erano ancora adatti ad arrampicarsi sugli alb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 nutriva di quello che raccoglieva nella savana: erbe, bacche e rad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icostruzione in legno del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ľAustralopitec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7" descr="615px-Australopithecusafarensis_reconstruction"/>
          <p:cNvPicPr/>
          <p:nvPr/>
        </p:nvPicPr>
        <p:blipFill>
          <a:blip r:embed="rId1"/>
          <a:stretch/>
        </p:blipFill>
        <p:spPr>
          <a:xfrm>
            <a:off x="838080" y="2384280"/>
            <a:ext cx="3770280" cy="3679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Austrolopithecus_africanus"/>
          <p:cNvPicPr/>
          <p:nvPr/>
        </p:nvPicPr>
        <p:blipFill>
          <a:blip r:embed="rId2"/>
          <a:stretch/>
        </p:blipFill>
        <p:spPr>
          <a:xfrm>
            <a:off x="5361120" y="3019320"/>
            <a:ext cx="2571480" cy="24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Immagini di australopiteco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5" name="Content Placeholder 3" descr="australopiteco.gif"/>
          <p:cNvPicPr/>
          <p:nvPr/>
        </p:nvPicPr>
        <p:blipFill>
          <a:blip r:embed="rId1"/>
          <a:stretch/>
        </p:blipFill>
        <p:spPr>
          <a:xfrm>
            <a:off x="1857240" y="2500200"/>
            <a:ext cx="2500560" cy="3724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australopiteco.bmp"/>
          <p:cNvPicPr/>
          <p:nvPr/>
        </p:nvPicPr>
        <p:blipFill>
          <a:blip r:embed="rId2"/>
          <a:stretch/>
        </p:blipFill>
        <p:spPr>
          <a:xfrm>
            <a:off x="5072040" y="2500200"/>
            <a:ext cx="1933560" cy="381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IOSI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no stati rinvenuti dei resti 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ľAfrica centr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ono affini al gorilla e allo scimpanz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ono considerati come progenitori delľuo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sistono tre specie: a.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ferensis, a.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fricanus, a.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obus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DIO PITECANTROPO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8080" y="2362320"/>
            <a:ext cx="794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pacità cranica è intermedi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(750 – 900 cm³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ra le capacità endocraniche degli australopitechi e delľuomo attu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apacità del linguaggio comples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denti denotano caratteri scimmieschi (canini sporgenti, molari voluminos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zione decisamente eret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ani bassi, fronte di tipo scimmies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4:02:11Z</dcterms:created>
  <dc:creator>sanja</dc:creator>
  <dc:description/>
  <dc:language>en-US</dc:language>
  <cp:lastModifiedBy>Miro</cp:lastModifiedBy>
  <dcterms:modified xsi:type="dcterms:W3CDTF">2013-12-02T21:51:28Z</dcterms:modified>
  <cp:revision>37</cp:revision>
  <dc:subject/>
  <dc:title>ĽUOMO COME PARTE DELLA NATURA</dc:title>
</cp:coreProperties>
</file>