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C35E-A276-40F5-AE3C-5A2C3308E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EE8E-FF74-497B-98A4-A315DB44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1FA8-F611-4AE1-9FF7-30C76AA21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91B1-CB32-4AA5-98A6-96F4C5108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6B68-F32C-453C-9E88-7FBF15162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65904-879A-494A-B35E-D8CA663A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01A7-9C61-42B8-9F3C-87520559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237F2-FDBF-4E3C-801D-E9B02280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178AB-A761-419C-A5BE-4C9F702D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B946-5C1F-41C8-8B1C-07125CAA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9445-06BB-432C-A0AF-BD93A750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0512-C26C-4769-964E-BF5DF0C4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2913A-51DB-439E-9AB3-9650404A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32BF-90C6-455F-9F18-84C56560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9A8C-AB5C-4506-B24D-DD7962DD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A062D-D8B1-4975-8093-E8EF035E3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8018-287C-463B-A4C9-8080A20D7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2C7AB6-CD2B-4154-A12E-1BAAC6057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8F16A8-957F-47D5-AFED-5FC8F9AC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2AA0DD-626B-4E43-8CD2-B9B3BACC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4B3DF1-7745-4B36-A449-A5BCE0F1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4CB72C-A165-426B-B816-9BCA5A82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AD26-1231-439A-8322-96D7230D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F9CC67-123C-4C60-B98B-A5E2048B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F60723-5529-4256-B131-9422A932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235FAB-0C0A-40AA-A358-20B0827C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138450-1F17-4E24-B4E1-8C21AFDA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40EA23-6222-4FBA-BBB3-972D89D8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2C7B4C-85D4-4016-A554-EB4D3D34B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CA1234-7ADF-4109-BFC4-27162F703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9C82E-58EC-4287-86A7-A9093629C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E649B-4A05-428E-B94E-0FBED844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FF34E-D59F-4012-9192-2A275DE9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9B59-0442-45FE-9451-3D50A71A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013BB-C212-4C35-81E0-AA2D47B8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4453A-01E9-4FFE-AC97-C7D863EB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FD7F6-A59E-43F1-BD82-62A6A944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EE465-90B4-42FE-8EED-C1865FA0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F32D5-1D2A-45C7-9483-939BE213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02BE9-3DF2-4E50-9D65-2E8F2877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492CB-BB75-40B9-9D15-723A0F24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D4246-172F-4166-B75F-9B9F46610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3B524-D795-4B23-A86E-38569BDD1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6C5F1C-5698-46E1-A6D3-0C93ED217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7BFD-44D3-4196-B7CB-1AFC30F8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79561D-CE8B-4ECE-81BC-9C9951A7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958084-F5A0-470F-8044-082AFCCD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364334-DB84-4B04-B985-23AD5415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1D8CF0-5223-44F5-BDCC-F38D432F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44EB64-E008-4E02-9005-F27CC486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7B6E26-9E33-4242-B06D-CCA85C99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FDD82C-056B-43D4-9620-71F5F4BF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26221E-837C-45B0-9B01-16DAF040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53F7A3-D76D-46BE-815D-149E87F4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DB933E-72F2-4F67-890A-FECE9D6DE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2DCD-DFD9-4C37-8388-8E04049F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D0F8C0-760D-4320-9A2F-37C88429C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28012F-5378-426D-80E4-11C40C640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933D2C-CEA4-4C9D-ACA3-04FD2695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E0F1CE-A2C7-4FCE-AD87-6B33D58E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1D4E41-D0CD-4FA7-BAEC-67941702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E23CD0-2EF4-46D2-BA57-62DF32C0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95E6A0-0424-422A-8031-0694F07F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9C7CFC-3367-45B3-8965-D9FBB8FB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8571BD-C22F-46F3-8005-5BFEECC3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6D2E36-F393-4203-9CE4-CFE65860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BDF7-F72A-4AD9-A1A2-307AAB9A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CF7F1B-D19F-4618-A183-63423A51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BEAF6A-DF16-484B-94A1-0F4094948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FF4CCD-42CF-490F-967A-49ACA2284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1C38EC-FC8C-47C0-9CBA-574180235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D2C2E8-FA30-45E4-865A-335988BF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817E9F-E237-44CB-AFDC-FBB59620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4392A4-DA38-403C-A41D-E5E32C82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022324-B942-478B-9B1D-B128F272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AE5000-FD7A-4313-8650-68CC9ECE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137181-BAB0-451B-9992-F227A48C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20D1-2E73-4FB2-AF2F-330E247D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91B828-1821-49FD-9E7D-3CE094CD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CE69B4-F849-4FEB-BA0B-99AF136D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DA79D7-CE98-4801-B584-E897C2D0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585C5D-FF6C-4C35-8968-BDFCE5487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D004F2-35C5-4C6C-8965-15322299D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D33F-8FEA-4492-B10A-31B6F6FA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389"/>
            </a:gs>
            <a:gs pos="100000">
              <a:srgbClr val="e7fa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omic Sans MS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4e5b6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4e5b6f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C324-E032-4270-9C60-98445AA77FE1}" type="slidenum">
              <a:rPr b="1" lang="hr-HR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389"/>
            </a:gs>
            <a:gs pos="100000">
              <a:srgbClr val="e7fa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omic Sans MS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4e5b6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4e5b6f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1A37-69D5-49D3-B4DA-4E87A6FD950D}" type="slidenum">
              <a:rPr b="1" lang="hr-HR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389"/>
            </a:gs>
            <a:gs pos="100000">
              <a:srgbClr val="e7fa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omic Sans MS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4e5b6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4e5b6f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78D0-E472-478B-B712-ACE3F860AFFD}" type="slidenum">
              <a:rPr b="1" lang="hr-HR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389"/>
            </a:gs>
            <a:gs pos="100000">
              <a:srgbClr val="e7fa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mic Sans MS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d6ec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d6ecff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9200-8A81-499A-A5FD-E0900E7775EC}" type="slidenum">
              <a:rPr b="1" lang="hr-HR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389"/>
            </a:gs>
            <a:gs pos="100000">
              <a:srgbClr val="e7fa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omic Sans MS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4e5b6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4e5b6f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B74B-5B92-4B09-8E26-C217EB800EFE}" type="slidenum">
              <a:rPr b="1" lang="hr-HR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389"/>
            </a:gs>
            <a:gs pos="100000">
              <a:srgbClr val="e7fa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omic Sans MS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4e5b6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4e5b6f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CDD8-3203-47DC-8929-03AB8576BAFB}" type="slidenum">
              <a:rPr b="1" lang="hr-HR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389"/>
            </a:gs>
            <a:gs pos="100000">
              <a:srgbClr val="e7fa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omic Sans MS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4e5b6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4e5b6f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6753-FF0E-4FBA-AF45-4E5200D9F1EF}" type="slidenum">
              <a:rPr b="1" lang="hr-HR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928600" y="1285560"/>
            <a:ext cx="55292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e5b6f"/>
                </a:solidFill>
                <a:latin typeface="Comic Sans MS"/>
              </a:rPr>
              <a:t>I METODI VISIVI</a:t>
            </a:r>
            <a:endParaRPr b="0" lang="en-US" sz="44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2642760" y="49291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0102"/>
                </a:solidFill>
                <a:latin typeface="Comic Sans MS"/>
              </a:rPr>
              <a:t>Docente</a:t>
            </a:r>
            <a:r>
              <a:rPr b="1" lang="en-US" sz="1800" spc="-1" strike="noStrike">
                <a:solidFill>
                  <a:srgbClr val="0f0102"/>
                </a:solidFill>
                <a:latin typeface="Comic Sans MS"/>
              </a:rPr>
              <a:t>: Mr.sc. Nevia Močinić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0102"/>
                </a:solidFill>
                <a:latin typeface="Comic Sans MS"/>
              </a:rPr>
              <a:t>Corso di studio: Insegnamento di classe </a:t>
            </a:r>
            <a:r>
              <a:rPr b="1" lang="hr-HR" sz="1800" spc="-1" strike="noStrike">
                <a:solidFill>
                  <a:srgbClr val="0f0102"/>
                </a:solidFill>
                <a:latin typeface="Comic Sans MS"/>
              </a:rPr>
              <a:t>V</a:t>
            </a:r>
            <a:r>
              <a:rPr b="1" lang="en-US" sz="1800" spc="-1" strike="noStrike">
                <a:solidFill>
                  <a:srgbClr val="0f0102"/>
                </a:solidFill>
                <a:latin typeface="Comic Sans MS"/>
              </a:rPr>
              <a:t> ann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214200"/>
            <a:ext cx="8329680" cy="625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Caratteristiche del disegno 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l’insegnamento della natura e società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 si pone in primo piano il valore estetico del disegno ma il suo valore didatti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disegno dell’ins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egnante non dev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sere scadente, ma l’ins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ercherà di preparare un bel disegno, ordinato e chiaro anche se la sua vera funzione è fomati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 giorno d’oggi vengono usati efficacemente i disegni per mezzo di tecnologie avanzate (es. il computer, i lucidi, le diapositive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4e5b6f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4e5b6f"/>
                </a:solidFill>
                <a:latin typeface="Comic Sans MS"/>
              </a:rPr>
              <a:t>IL METODO DEI LAVORI PRATICI</a:t>
            </a:r>
            <a:endParaRPr b="0" lang="en-US" sz="4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571400"/>
            <a:ext cx="775800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tilità dei lavori pratici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luisc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o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ia sul processo di apprendimento che sullo sviluppo delle capacità intellettuali, percettive, espressive e creative dell’alun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è un mezzo efficace per evitare il verbalismo e il nozionismo nel sape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permettono d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leg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a teoria alla realt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tribuisc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ono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 abilitare gli alunni ad un lavoro autonomo e creativ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permottono di affinare determinate abilità manipolati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6840" y="356760"/>
            <a:ext cx="8258040" cy="61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uesto metodo  si può usare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utte le fasi del processo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formativ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particolare durante la ripetizione, l’esercitazione e la verifica del sapere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e compito per cas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Esempi di lavori pratici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raccogliere cartoline o articoli sul proprio luogo natio, sulla regione, su un particolare paesaggio, ec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costruire animali usando bacche, ghiande, castagne selvatiche, ec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ritagliare e incollare illustrazion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costruire modellini (corpo umano, mulino a vento, mobili, circuito elettrico, aeroporto, segnali stradali, orologio, ecc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4e5b6f"/>
                </a:solidFill>
                <a:latin typeface="Comic Sans MS"/>
              </a:rPr>
              <a:t>FASI DI APPLICAZIONE DEL METODO</a:t>
            </a: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 realizzar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e un lavoro pratic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isogna far vedere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chiaramen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vimenti e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l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zioni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da fa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ocediment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iegare l’obiettivo e il senso del procedimento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igliare la posizione giusta del corpo, delle mani e dei mezzi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d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are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far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dere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tutt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’operazione da eseguire spiegando contemporaneamente le singole azioni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r eseguire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le azion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gli alunni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seguire le attività e aiutare chi ha bisogn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omic Sans MS"/>
              </a:rPr>
              <a:t>1. IL METODO DELLA DIMOSTRAZIONE</a:t>
            </a: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143000"/>
            <a:ext cx="83296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È un metodo che si usava nell’insegnamento ancor prima di Comenio che ne ha accentuato l’importanza perché secondo lui, il vero apprendimento inizia dalle cose e non dalle parole.Tutto ciò che l’alunno deve imparare, deve prima conoscerlo con i sens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 é giusto però, esagerare l’importanza dell’esperienza sensibile perché essa non è l’unica fonte del sapere. Se si usa troppo il metodo della dimostrazione, l’esperienza sensibile potrebbe diventare fine a sè stess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Content Placeholder 2" descr=""/>
          <p:cNvPicPr/>
          <p:nvPr/>
        </p:nvPicPr>
        <p:blipFill>
          <a:blip r:embed="rId1"/>
          <a:stretch/>
        </p:blipFill>
        <p:spPr>
          <a:xfrm>
            <a:off x="133200" y="1695600"/>
            <a:ext cx="9017280" cy="4906800"/>
          </a:xfrm>
          <a:prstGeom prst="rect">
            <a:avLst/>
          </a:prstGeom>
          <a:ln w="0">
            <a:noFill/>
          </a:ln>
        </p:spPr>
      </p:pic>
      <p:sp>
        <p:nvSpPr>
          <p:cNvPr id="380" name="Content Placeholder 2"/>
          <p:cNvSpPr/>
          <p:nvPr/>
        </p:nvSpPr>
        <p:spPr>
          <a:xfrm>
            <a:off x="142920" y="357120"/>
            <a:ext cx="90010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Nella 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ura e società la dimostrazione è un metodo che si userà frequentem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285840"/>
            <a:ext cx="83296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ll’insegnamento della natura e società particolarmente importante è la dimostrazione dell’esperimento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’insegnante deve prepararsi molto bene; se necessario dovrà ripetere più volte l’esperimento per essere sicur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he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iuscirà bene durante l’ora di lezio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Compiti dell’insegnant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000" indent="-2700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rificare gli strumenti e gli attrezzi di cui farà u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000" indent="-2700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parare il materiale e il luogo dove si farà l’esperi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000" indent="-2700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nsare alla sicurezza degli alunn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000" indent="-2700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iegare in anticipo che cosa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si vuo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mostrare o verificare con l’esperi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000" indent="-2700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far riflettere gli alunni sulle conclusioni che si possono trar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79725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4e5b6f"/>
                </a:solidFill>
                <a:latin typeface="Comic Sans MS"/>
              </a:rPr>
              <a:t>   </a:t>
            </a:r>
            <a:r>
              <a:rPr b="0" lang="en-US" sz="3600" spc="-1" strike="noStrike">
                <a:solidFill>
                  <a:srgbClr val="4e5b6f"/>
                </a:solidFill>
                <a:latin typeface="Comic Sans MS"/>
              </a:rPr>
              <a:t>IL METODO DEI LAVORI GRAFICI</a:t>
            </a:r>
            <a:endParaRPr b="0" lang="en-US" sz="36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28760" y="1214280"/>
            <a:ext cx="82864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rende l’uso nell’insegnamento dei disegni, degli schemi, delle tabelle grafiche e degli schizzi sia da parte dell’insegnante che da parte dell’alunn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disegno si usa quando non è possibile far vedere e osservare gli oggetti, gli animali e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nomeni perché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’insegnante non dispone di nessun altro mezzo didattico allo scop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  disegno su può trasmettere un’informazione, visualizzare un contenuto difficile da spiegare a parole, si possono osservare i dettagli che stimolano a riflettere e pensa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2600" spc="-1" strike="noStrike">
                <a:solidFill>
                  <a:srgbClr val="4e5b6f"/>
                </a:solidFill>
                <a:latin typeface="Comic Sans MS"/>
              </a:rPr>
              <a:t>SI PUÒ RAPPRESENTARE</a:t>
            </a:r>
            <a:r>
              <a:rPr b="0" lang="hr-HR" sz="2600" spc="-1" strike="noStrike">
                <a:solidFill>
                  <a:srgbClr val="4e5b6f"/>
                </a:solidFill>
                <a:latin typeface="Comic Sans MS"/>
              </a:rPr>
              <a:t> DEI DATI USANDO</a:t>
            </a:r>
            <a:r>
              <a:rPr b="0" lang="en-US" sz="2600" spc="-1" strike="noStrike">
                <a:solidFill>
                  <a:srgbClr val="4e5b6f"/>
                </a:solidFill>
                <a:latin typeface="Comic Sans MS"/>
              </a:rPr>
              <a:t>: </a:t>
            </a:r>
            <a:endParaRPr b="0" lang="en-US" sz="26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85840" y="1571400"/>
            <a:ext cx="857232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belle, schemi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boli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fici, diagrammi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te topografich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 geografiche, ec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6" name="Picture 4" descr="cartina-Croazia.jpg"/>
          <p:cNvPicPr/>
          <p:nvPr/>
        </p:nvPicPr>
        <p:blipFill>
          <a:blip r:embed="rId1"/>
          <a:stretch/>
        </p:blipFill>
        <p:spPr>
          <a:xfrm>
            <a:off x="3571920" y="1428840"/>
            <a:ext cx="534024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4e5b6f"/>
                </a:solidFill>
                <a:latin typeface="Comic Sans MS"/>
              </a:rPr>
              <a:t>ESEMPI DI DISEGNI</a:t>
            </a: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pic>
        <p:nvPicPr>
          <p:cNvPr id="388" name="Content Placeholder 3" descr="fagiolo.bmp"/>
          <p:cNvPicPr/>
          <p:nvPr/>
        </p:nvPicPr>
        <p:blipFill>
          <a:blip r:embed="rId1"/>
          <a:stretch/>
        </p:blipFill>
        <p:spPr>
          <a:xfrm>
            <a:off x="1000080" y="1928880"/>
            <a:ext cx="2857680" cy="33051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disegniCassonetti.jpg"/>
          <p:cNvPicPr/>
          <p:nvPr/>
        </p:nvPicPr>
        <p:blipFill>
          <a:blip r:embed="rId2"/>
          <a:stretch/>
        </p:blipFill>
        <p:spPr>
          <a:xfrm>
            <a:off x="4286160" y="1928880"/>
            <a:ext cx="359748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4e5b6f"/>
                </a:solidFill>
                <a:latin typeface="Comic Sans MS"/>
              </a:rPr>
              <a:t>ESEMPIO DI GRAFICO – LA PIRAMIDE ALIMENTARE</a:t>
            </a: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pic>
        <p:nvPicPr>
          <p:cNvPr id="391" name="Content Placeholder 3" descr="piramide_alimentare.jpg"/>
          <p:cNvPicPr/>
          <p:nvPr/>
        </p:nvPicPr>
        <p:blipFill>
          <a:blip r:embed="rId1"/>
          <a:stretch/>
        </p:blipFill>
        <p:spPr>
          <a:xfrm>
            <a:off x="1500120" y="1428840"/>
            <a:ext cx="6335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6840" y="571320"/>
            <a:ext cx="825804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l disegno è importante</a:t>
            </a:r>
            <a:r>
              <a:rPr b="0" lang="hr-HR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er</a:t>
            </a:r>
            <a:r>
              <a:rPr b="0" lang="hr-HR" sz="3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ndersi conto delle caratteristiche di un ogget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iassumere le proprie conoscenze su un oggetto o un fenomeno senza dover usare il linguaggio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verba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mettere in evidenza dettagli particolar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chiarire concetti compless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spiegare le fasi di un processo lungo e comples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 p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osson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isegnare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ggetti, esseri viventi, processi e fenomen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22:41:28Z</dcterms:created>
  <dc:creator>pc</dc:creator>
  <dc:description/>
  <dc:language>en-US</dc:language>
  <cp:lastModifiedBy>Miro</cp:lastModifiedBy>
  <dcterms:modified xsi:type="dcterms:W3CDTF">2014-01-06T21:15:47Z</dcterms:modified>
  <cp:revision>27</cp:revision>
  <dc:subject/>
  <dc:title>I METODI VISIVI</dc:title>
</cp:coreProperties>
</file>