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C8C-EEF0-4F4C-8D53-6E8D05C9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4EE-0A6D-437D-9DD9-8D46D3B7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DFC53-F483-4B92-B117-DEBCD2C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10F5A-A4DC-4354-B1FF-87859B7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2A70C-D34F-4788-8654-8EFF192E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33BA-2236-4084-A127-5969781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B6EF3-F13C-4360-841C-7F017897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3CE54-9D80-4CD7-B3BD-6EAD401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EBB10-6278-47ED-866C-ABBB96C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BE8A2-0F7A-423E-BF65-F7DBC916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113A8-CBFC-468D-925E-E1B66874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76B6-A7F6-491E-B69E-8CB8CED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672-6210-4E3D-8707-5C59194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F6C4-2843-485B-8C73-FDD612CA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91171-459F-4679-B5C5-478AEFE6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68CF2-395C-40A8-908B-2CC30F4B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C6041-19BC-4E18-B962-FC88981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B42CE-7D76-470B-99A4-B5F479FF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88E6-DA5A-4409-AEE9-88F1C09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079CE-4831-4965-A567-5A78AC0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7BD12-F73A-4E7D-820B-5DBEBBB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15020-A883-49FD-B750-A1AEDCA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A9B79-5F62-499D-9E6A-D2282D8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01A-DCB8-4B68-9981-34C4088E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D894D-6B31-4BDE-BB1D-FCD5D818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4334-666B-4929-9A6E-6B84EB9C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861C-74A4-440A-81D7-B3D3DF0B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3F44A-3C1E-4F61-978F-8B567163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C0D83-40A2-424D-A2B8-060CF22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4D79-7632-466C-8897-A769FA4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4D33-5E7B-4ECC-8A71-82246DA5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AC935-37E4-4635-A19A-C379507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96D4A-5647-438D-BD15-125ADC7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E03C8-A90F-435A-99D7-9C442C5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96D4-0617-4CF4-86A8-8111787D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AD000-A7B2-4F65-A9F4-982393AA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6FF04-FEB5-4E14-89E2-16466511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4D18-D206-4BB5-B142-88198748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4F7D6-F347-4152-9F57-94A4F5FD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E649D-74EC-4076-9A89-DC45FCC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0242A-EC48-4AA1-A773-BBC4149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1EE17-1CC0-4DCE-BB17-5D9F0F7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BBC28-568F-4598-BAE4-004B97D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7AFB2-978E-41BB-909B-C790DE48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6DD12-6879-430D-BCC3-15FAA31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251-9BEF-458B-80F6-973E932A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2334B-3206-4893-9A5D-5D6B2A14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68D67-A39D-4857-B661-1D5EB71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08051-1FED-48A8-BF0E-050C6D18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DE6AB-FB69-4E15-A7BA-DABD0AB8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452C7-1CAF-4505-BA27-CC7322FC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D0437-0E57-42F7-89A1-D0571C9D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CD778-18DE-407F-9426-78AB105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13E06-302C-4109-9F34-7ED1BA93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6F210-8DBA-492A-87CF-37C5B2D9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6C276-F7BF-4D9C-A860-F84A7A1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6D6-6145-4973-B822-037DA06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6C60C-E595-451B-A35A-3EB85DC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E142A-9352-4E46-9549-0CA939A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4E56D-0230-490E-A167-C8D4BB9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65DC6-0E5C-4A1A-93E6-E845A12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95267-ACE7-4335-80D3-F444A6A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D78A1-429B-426A-9E30-E0D184E2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EB31C-4BAB-42AD-862A-B126D7B8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B2C6-BF68-47E7-9B5C-68EEF83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3EF0-AF00-4068-A685-FB5C345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E8DB-B614-4887-A807-6519218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6D40-CAA2-4BBF-8C0D-617E1E4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394-215F-4BAA-9D72-E32C5FC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630-C035-4552-A198-C4E1E70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A10B-E4B1-4D06-B894-5D17775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C19-08D9-4774-8DC0-4CCF205E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B433-9787-4D77-A401-E02644A9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1412-79F2-43AD-A887-F7E09C03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7DAF-AF52-4054-9CB6-3FF4843D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E803-7B1A-4483-AFBE-802CB671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B2AC-923D-440F-A23F-1B4DFC4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0C18-D748-401E-9B07-735425FE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69A0-F740-423F-979D-1B747F42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E02-3881-440B-8113-2B58502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882D-FF64-4A81-9E67-169750D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1F57-5CE7-4E9C-8492-00F39AC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47B4-26DC-4F6F-BD6D-D31E06F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F8A4-00E5-4179-B802-B76D9C0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3039-AF07-44A4-B7D2-B12F41F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557D-09E2-4D2B-8DA4-088EF5D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0354-6CD9-4686-B81B-E902349B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4091-F09A-4F9C-85A7-94A0D864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6F31-8973-4757-9FC0-7489E26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C147-5279-4A6D-8AF0-56DA4E7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90A-EED6-4666-9FFA-8C54BF3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579B-0B13-43DD-B564-8034D08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8883-DD95-4D89-9A4B-C11F1A3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768A-DD66-40E2-813D-5CA187EB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1242-28FB-4495-A822-EDACCCE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EFCE-17F9-4265-8650-DFCFF09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07CA-0423-48EE-880D-DB188CF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7CD2-C28F-42B7-8990-1901098B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D361-2B24-4831-9C23-188DBF9E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520D-99A6-46BC-967F-F4BB47ED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ED3C-189D-4405-A076-FC5724E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83A-6778-420F-B1B1-36CF529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E20F-89B0-469B-96B1-026AECD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80D6-15C8-450E-A766-E07306D2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5D7A-FDAB-4E11-89C6-C83BE8B0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5A1A-E2D1-4D8A-BFC4-57EF68D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09FA-4F07-4A17-9A3A-24BE223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5D27-DB8C-43C3-8E38-565355D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484A-7113-4B57-A649-CF9BDB8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DDD90-7559-4F67-9922-55D4641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F8B22-DADB-41A6-8D1E-2EEFE38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A939-AFBD-4698-A5E7-D1D62B20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830-C435-4011-8A58-489830A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4A3E-9533-4CB8-8AD4-E25350B2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B0F4-66F7-4FFB-9614-798A6D43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6808-E907-4912-A4FE-7D1915CB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A1BD7-32EB-46A7-A236-F1E2AF3B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A622-1DCE-4FE3-A992-33CA08B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9952-BB11-4DCE-98C8-F8F0F500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6DD5-D48F-4F64-9B7C-55E32822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8EF9-2F6E-4339-BBB3-FE94B0D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176B-938B-41EF-B23B-66D5380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1AC2-85F0-411F-81B2-3ED0C2CA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93B-4B4E-4D88-BB63-820BE2A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7B93-81A5-4316-8687-B3C6ACD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7671-72E7-470C-B606-6788E56B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6FD58-8EA4-4C8B-8BFC-ACA7DBD0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DC66-FAD7-44B0-BBA3-8DA53E33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28254-40A2-410C-9FAA-02C940A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E5AE-4948-41D2-AFAA-4D602B37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9B05-44A2-4867-B320-7D99AF8A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8563-4242-4EA5-A36F-C068380D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005FF-F47E-403D-99C6-5D6C165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1617-362F-4033-A2E9-5AD52E5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C37-5980-4850-987B-BFEAB85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1D7B-3AEC-4493-ABF9-5D9A6D7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F32D-4897-4159-90D7-937F54E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12137-4C63-4B64-94A1-4A4166A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C789D-85AA-4E4E-BEB2-748A4699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9E0CD-A780-48C3-8E0A-3DCBEC83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B255-A652-437D-917A-AFB48772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4C48-114A-4C4E-B476-2DF0158A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317B-5594-43A6-8E90-738764FA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2312-F468-469D-881F-E09E52C7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8F37-4E47-48E7-ADA2-2BF0B751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B5D-1AC6-4560-94C7-6529A62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9C893-2A9A-4B7E-9583-4C57569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873C-E6DF-4E15-B2D4-0EEE29B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054C-4A1C-40D3-8B37-A26182C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DE2C-BED0-430A-A684-B661CC7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667E0-4AB3-4350-8314-93CF16B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33EA-4817-4092-B103-D7F50498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B682D-D420-418F-8489-2E84ECB7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5D7F2-1D30-412D-BE7D-5410799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37F4B-163D-44FE-BFD7-72C429BC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C6ED-0DFE-47B2-8AEF-6798FAD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4E0-A6C8-44A5-BCFE-0D2252465D37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E97-CD46-4C3F-A1EC-49A7558DB990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318-2744-41E1-AB64-C65AFA47D9C8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9BCF-106D-47CF-AF1B-D0CD852FC74A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72F-DA58-44A9-971C-7F288EEE5212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prstGeom prst="pi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6560"/>
              <a:chOff x="685800" y="0"/>
              <a:chExt cx="8001000" cy="685656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5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5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6320"/>
              </a:xfrm>
              <a:prstGeom prst="pi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6032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804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9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524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804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88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524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7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862-5A8C-4CF5-A044-37115CCF1D00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DCE-B528-4076-9D37-279A788CD846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50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976-85CC-4DEA-8B38-95C8052D88FD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7FC-67B4-4621-AA6A-2B162491C68A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559-427B-4973-B0FF-FEC6BC7053F9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EA0-B8A3-4E4F-AD90-509A325564F2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2FE-1828-4873-A231-6C61DDD99D7A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60000"/>
          </a:bodyPr>
          <a:p>
            <a:pPr marL="1371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0852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48384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653400" indent="-13716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822960" indent="-13716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151B-F580-43C9-8895-EE15AAEE83FE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WordArt 4"/>
          <p:cNvSpPr txBox="1"/>
          <p:nvPr/>
        </p:nvSpPr>
        <p:spPr>
          <a:xfrm>
            <a:off x="1585800" y="2637000"/>
            <a:ext cx="637092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de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d7c8f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nformal Roman"/>
              </a:rPr>
              <a:t>L'insegnamento della natura </a:t>
            </a:r>
            <a:endParaRPr b="1" lang="en-US" sz="4000" spc="1" strike="noStrike">
              <a:ln w="12600">
                <a:solidFill>
                  <a:srgbClr val="ffde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d7c8fe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de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d7c8f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nformal Roman"/>
              </a:rPr>
              <a:t>e societa' nelle classi abbinate</a:t>
            </a:r>
            <a:endParaRPr b="1" lang="en-US" sz="4000" spc="1" strike="noStrike">
              <a:ln w="12600">
                <a:solidFill>
                  <a:srgbClr val="ffde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d7c8fe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5580000" y="5589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Informal Roman"/>
              </a:rPr>
              <a:t>Nevia Močin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2"/>
          <p:cNvSpPr/>
          <p:nvPr/>
        </p:nvSpPr>
        <p:spPr>
          <a:xfrm>
            <a:off x="1071720" y="85716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e classi abbinate sono un male inevitabile nelle localit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à con pochi abitanti e lontane dalla scuola centr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Text Box 3"/>
          <p:cNvSpPr/>
          <p:nvPr/>
        </p:nvSpPr>
        <p:spPr>
          <a:xfrm>
            <a:off x="928800" y="18572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nelle classi abbinate un’ insegnante lavora contemporaneamente con 2-3 e p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ù clas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928800" y="25718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gli alunni p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ù grandi viaggiano e frequentano la scuola centra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857160" y="3500280"/>
            <a:ext cx="757260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nel caso si abbiano due a due classi abbinate le possibilit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à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son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&gt;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bbinare le classi pi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ù vic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abbinare le classi altern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abbinare le classi più lontane e quelle più vici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2"/>
          <p:cNvSpPr/>
          <p:nvPr/>
        </p:nvSpPr>
        <p:spPr>
          <a:xfrm>
            <a:off x="684360" y="549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Il problema principale nelle classi abbinat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è il rapporto fra insegnamento diretto e lavoro autono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684360" y="1341360"/>
            <a:ext cx="6696000" cy="3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i errori che vengono commessi nelle classi abbina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con una classe si lavora in modo diretto e all’ altra s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ssegna un compito qualsia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si cerca di collegare ad ogni costo i contenuti da svolg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si insiste a mantenere l’organizzazione del lavoro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della    classe singo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si insiste sul lavoro frontale con tutti gli alunn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755640" y="41432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il lavoro frontale non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è sempre il migliore e il più effic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755640" y="45086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le classi abbinate bisogna intendere come due o tre gruppi che hanno ciascuno un obiettivo specifico da raggiungere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826920" y="515772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l’insegnante è la persona che dirige l’intera lezione; assegna compiti, decide con quali materiali lavorare e gli obiettivi da raggiunge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4"/>
          <p:cNvSpPr/>
          <p:nvPr/>
        </p:nvSpPr>
        <p:spPr>
          <a:xfrm>
            <a:off x="611280" y="1341360"/>
            <a:ext cx="72468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’aula per le classi abbinate deve essere attrezzata in modo specific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i banchi devono essere disposti in modo che ogni classe abbia di fronte la propria lavagna e sul muro il flanellograf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l’aula deve essere fornita di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anti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strumen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sono indispensabili numerose illustrazioni, carte geografiche, registrator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audi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lettore CD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iettore LCD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videoregistratore, televisore 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deve esserci una piccola biblioteca ben fornit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2"/>
          <p:cNvSpPr/>
          <p:nvPr/>
        </p:nvSpPr>
        <p:spPr>
          <a:xfrm>
            <a:off x="755640" y="404640"/>
            <a:ext cx="748980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È necessario stare attenti nella programmazione degli obiettivi e dei contenuti nelle classi abbinat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</a:t>
            </a:r>
            <a:r>
              <a:rPr b="0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se abbiniamo le classi vicine ( 1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e 2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 ,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e 4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) dobbiamo programmare i contenuti in modo da coordinare lo svolgimento dei nuclei tematici simil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it-IT" sz="2000" spc="-1" strike="noStrike">
                <a:solidFill>
                  <a:srgbClr val="ffff00"/>
                </a:solidFill>
                <a:latin typeface="Tahoma"/>
                <a:ea typeface="Tahoma"/>
              </a:rPr>
              <a:t>&gt;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dobbiamo far attenzione a individuare anche le differenze fondamentali negli obiettivi da raggiungere con ciascuna classe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755640" y="2708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 per esempio: il nucleo tematico “la famiglia e la casa” si svolge sia in prima che in seconda classe ma non con gli stessi contenuti e obiettiv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539640" y="3716280"/>
          <a:ext cx="7620120" cy="198108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e 1</a:t>
                      </a:r>
                      <a:r>
                        <a:rPr b="0" lang="it-IT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e 2</a:t>
                      </a:r>
                      <a:r>
                        <a:rPr b="0" lang="it-IT" sz="2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i membri della famiglia nucle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i membri della famiglia allarga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gli ambienti della c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gli elettrodomestici usati in c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 regole della vita famigli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 regole di vita nel condomin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a mia casa – aspetto esterno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i tipi di ca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Text Box 64"/>
          <p:cNvSpPr/>
          <p:nvPr/>
        </p:nvSpPr>
        <p:spPr>
          <a:xfrm>
            <a:off x="900000" y="59500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-il lavoro in comune verr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à organizzato con i contenuti da svolgere come lezione nuova in 1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Tahoma"/>
              </a:rPr>
              <a:t> e come ripetizione in 2</a:t>
            </a:r>
            <a:r>
              <a:rPr b="0" lang="it-IT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WordArt 2"/>
          <p:cNvSpPr txBox="1"/>
          <p:nvPr/>
        </p:nvSpPr>
        <p:spPr>
          <a:xfrm>
            <a:off x="755640" y="404640"/>
            <a:ext cx="799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de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empio di una lezione in una </a:t>
            </a:r>
            <a:endParaRPr b="0" lang="en-US" sz="1800" spc="1" strike="noStrike">
              <a:ln w="12600">
                <a:solidFill>
                  <a:srgbClr val="ffde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de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asse abbinata</a:t>
            </a:r>
            <a:endParaRPr b="0" lang="en-US" sz="1800" spc="1" strike="noStrike">
              <a:ln w="12600">
                <a:solidFill>
                  <a:srgbClr val="ffde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1280" y="2060640"/>
            <a:ext cx="71755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lassi I e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Tahoma"/>
              </a:rPr>
              <a:t>Classe I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: Le norme di comportamento a scuola (inizio e fine delle lezioni, il riposo, il saluto, i doveri degli alunni di servizio, la merenda, ec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Tahoma"/>
              </a:rPr>
              <a:t>Classe II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: Conoscere le scuole dei dintorn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on la 1</a:t>
            </a:r>
            <a:r>
              <a:rPr b="0" lang="it-IT" sz="2000" spc="-1" strike="noStrike" baseline="30000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 classe l’unit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à metodica non permette un lavoro di gruppo, per questo l’insegnante deve lavorare con loro in modo diret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- per la 2</a:t>
            </a:r>
            <a:r>
              <a:rPr b="0" lang="it-IT" sz="20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a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  <a:ea typeface="Tahoma"/>
              </a:rPr>
              <a:t> classe l’insegnante prepara una serie di fotografie con un testo semplice e comprensibile per la loro età; alla fine rispondono ad una serie di domande sul materiale didattico consegn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1"/>
          <p:cNvSpPr/>
          <p:nvPr/>
        </p:nvSpPr>
        <p:spPr>
          <a:xfrm>
            <a:off x="1428840" y="4287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e78f"/>
                </a:solidFill>
                <a:latin typeface="Tahoma"/>
              </a:rPr>
              <a:t>I rifiuti solidi urbani sono uti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TextBox 2"/>
          <p:cNvSpPr/>
          <p:nvPr/>
        </p:nvSpPr>
        <p:spPr>
          <a:xfrm>
            <a:off x="1071720" y="1214280"/>
            <a:ext cx="7072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roduzione collettiva: drammatizzazione con burattini su tema ecologico riguardante la raccolta dei rifiu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arte centrale – classe I – conversazione sul mantenimento della pulizia in aula, nei corridoi, nel cortile della scuola; dove si ripongono i rifiuti; a che cosa servono i cassonetti di colore diverso; perché è importante fare la raccolta differenziata dei rifiu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arte centrale - classe III – proposte scritte: Come possiamo riutilizzare i rifiu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arte finale collettiva: lettura delle proposte degli alunni della terza a quelli della prima e all’insegnante. Discussione sulle propos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755640" y="428760"/>
            <a:ext cx="820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creativit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ahoma"/>
              </a:rPr>
              <a:t>à delle insegnanti ha nelle sezioni abbinate un campo inesauribile per esprimer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  <a:ea typeface="Tahoma"/>
              </a:rPr>
              <a:t>Uso del libro di t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  <a:ea typeface="Tahoma"/>
              </a:rPr>
              <a:t>Leggere il testo e formulare delle domande alle quali dovranno rispondere gli altri compag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  <a:ea typeface="Tahoma"/>
              </a:rPr>
              <a:t>Cercare le risposte alle domande formulate dall’insegnante nel testo let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  <a:ea typeface="Tahoma"/>
              </a:rPr>
              <a:t>Leggere il testo e creare una mappa concettuale con i concetti più importan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  <a:ea typeface="Tahoma"/>
              </a:rPr>
              <a:t>Utilizzare l’enciclopedia per bambini per trovare informazioni su argomenti precis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  <a:ea typeface="Tahoma"/>
              </a:rPr>
              <a:t>Ritagliare da riviste e giornali articoli su un argomento a scelta e prepare un cartell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7800"/>
                            </p:stCondLst>
                            <p:childTnLst>
                              <p:par>
                                <p:cTn id="154" nodeType="after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3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Box 1"/>
          <p:cNvSpPr/>
          <p:nvPr/>
        </p:nvSpPr>
        <p:spPr>
          <a:xfrm>
            <a:off x="1428840" y="1428840"/>
            <a:ext cx="635796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e78f"/>
                </a:solidFill>
                <a:latin typeface="Tahoma"/>
              </a:rPr>
              <a:t>Lavoro per progetti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Esemp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al chicco di grano al p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a coltivazione della vite in I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Gli alberi del bosco litoran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Gli uccelli del bosco litoran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a raccolta differenziata dei rifiu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a pesca e i pesca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2:55:35Z</dcterms:created>
  <dc:creator>Antonio Battistella</dc:creator>
  <dc:description/>
  <dc:language>en-US</dc:language>
  <cp:lastModifiedBy>Miro</cp:lastModifiedBy>
  <dcterms:modified xsi:type="dcterms:W3CDTF">2012-10-10T21:38:35Z</dcterms:modified>
  <cp:revision>12</cp:revision>
  <dc:subject/>
  <dc:title>Diapositiva 1</dc:title>
</cp:coreProperties>
</file>