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gif" ContentType="image/gif"/>
  <Override PartName="/ppt/media/image19.png" ContentType="image/png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21.png" ContentType="image/png"/>
  <Override PartName="/ppt/media/image18.jpeg" ContentType="image/jpeg"/>
  <Override PartName="/ppt/media/image15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50.wmf" ContentType="image/x-wmf"/>
  <Override PartName="/ppt/media/image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41.png" ContentType="image/png"/>
  <Override PartName="/ppt/media/image34.wmf" ContentType="image/x-wmf"/>
  <Override PartName="/ppt/media/image38.gif" ContentType="image/gif"/>
  <Override PartName="/ppt/media/image43.png" ContentType="image/png"/>
  <Override PartName="/ppt/media/image39.png" ContentType="image/png"/>
  <Override PartName="/ppt/media/image42.wmf" ContentType="image/x-wmf"/>
  <Override PartName="/ppt/media/image36.jpeg" ContentType="image/jpeg"/>
  <Override PartName="/ppt/media/image44.png" ContentType="image/png"/>
  <Override PartName="/ppt/media/image45.png" ContentType="image/png"/>
  <Override PartName="/ppt/media/image46.jpeg" ContentType="image/jpeg"/>
  <Override PartName="/ppt/media/image47.wmf" ContentType="image/x-wmf"/>
  <Override PartName="/ppt/media/image4.png" ContentType="image/png"/>
  <Override PartName="/ppt/media/image27.png" ContentType="image/png"/>
  <Override PartName="/ppt/media/image51.png" ContentType="image/png"/>
  <Override PartName="/ppt/media/image49.wmf" ContentType="image/x-wmf"/>
  <Override PartName="/ppt/media/image33.gif" ContentType="image/gif"/>
  <Override PartName="/ppt/media/image32.gif" ContentType="image/gif"/>
  <Override PartName="/ppt/media/image31.wmf" ContentType="image/x-wmf"/>
  <Override PartName="/ppt/media/image6.wmf" ContentType="image/x-wmf"/>
  <Override PartName="/ppt/media/image29.wmf" ContentType="image/x-wmf"/>
  <Override PartName="/ppt/media/image30.png" ContentType="image/png"/>
  <Override PartName="/ppt/media/image13.png" ContentType="image/png"/>
  <Override PartName="/ppt/media/image8.wmf" ContentType="image/x-wmf"/>
  <Override PartName="/ppt/media/image52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40.gif" ContentType="image/gif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06508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8B27-5239-4860-801F-200F6E216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AE21-AE8B-4F6D-89E8-5959B9D4D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691-D472-403E-A089-EDFEA518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D674-8A03-4003-BEBB-A2C6126E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312DBD-93AE-434F-B29B-04EFCC23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5FDEA1-88C3-41CC-A273-1B1C2F48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C74DA9-72AD-4874-A3C1-3E7F3E04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7D6735-6E0B-4A48-AA1F-212F20DD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A439EE-F04C-48C9-9E23-9DD25B80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45F89B-F33F-4260-B5DA-A9D48A30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1CAF07-C4B3-4B24-A393-6D39BAF5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944761-5360-4101-88C9-2B45B831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E87E01-77EA-40CA-BA49-30E39716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132AA6-81EC-48D1-97FB-22B28259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DC43-30F5-4B5C-9B5F-212BD11C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0105BD-0EF1-4A0B-97D6-F6BD1CE3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AA5A42-25BB-40FF-8660-0CD6A100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54B0FC-05E1-4391-8BAC-CDD80F1F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A67E5D-37E5-4306-BC59-E3E898C5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663C61-9C0D-4093-B417-F317A2AA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CCD9F6-3FBC-48CE-821A-DE3620C7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68C568-0E71-423E-A7A0-23BE0AAC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0A9493-8959-4585-8E44-719AB221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B0CBC8-F234-4ECD-BF27-B572E39D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45640E-3468-4202-A5F7-3E27ECAF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2B9B-7DF3-42C9-BB3F-D2A94170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C5CDBB-E67A-46A9-A113-092E7C11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69034-8B6B-4524-9951-8DE62AFD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8EA54-0639-4185-B3E8-B83229D1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02A05-EAC2-4F69-B299-1F595A3C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04082-3ADC-4FFD-8E7D-C26497ED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3CB34-228D-487B-BF09-4D35B2ED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32BFA-AE52-439C-BD7A-370602A1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B91E2-4011-4056-A13E-FA0C832A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439A-EAE3-48C1-852A-753CD505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B304F-CAB0-4E53-8E0D-81190208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C218C-034E-4FBE-90CC-1D56C74D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8F6B5-2D3C-43D1-BC17-D49AD258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53A7E-FDD2-4B90-8863-AF710C57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8038D-5AB0-43B4-AA3A-35D96197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D187C-B123-467F-9BFF-D7892ED6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C980C-37FF-40A8-98C8-C701CBF6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419B2-CC6F-4B01-93FF-DFAC227A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B3E3A-F6F5-400C-9DC0-B7889071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27B81-F45F-45B6-9136-4A4FEB3C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E5A-544A-4CFF-941C-5366CDB9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BAC18-8655-48AB-91BF-A4E99ADE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CB6A0-EF26-425E-848F-DA0F445D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0E1EA-F81D-417B-BCC9-6099EA64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39E4B-7C78-41DE-8A0E-13294512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8B47D-686C-4A76-920D-DF5D1875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0AFF2-1D0B-4708-826F-CCA21958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D80E0-D2BE-4069-B92C-D6A74FDA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4AB4D1-E281-4F69-B0C2-F01C5F45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998C39-8493-435B-806C-80CA2D87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9E1933-4E8D-4C07-9A44-031D8FD0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463-26FB-4489-8871-F9D8141F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F69F4C-8F5C-471C-B457-2F1FC504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8FBE97-3E3D-4CB2-B090-FF620E71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DA2F80-3790-4B19-90A1-8285A73F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996DDC-26B9-41AD-9479-ACB89963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40090-7A7D-4EE4-9809-CAFB3713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FDB316-A1DB-4108-A24D-5C1875AC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99DDC0-7541-4EF5-853E-2F05DCF9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D710BD-25CE-40BE-BFAC-1B2F69B8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C31ACB-3818-4D3D-AF80-51ECE12C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B6883-F626-4A95-97C9-6156C5F8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837-1B1A-495B-99B7-0445CAC1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9B079-C9FB-4C2B-A0F8-743A97A8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FAC39-3362-482F-9262-08615924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DA874-BF07-4ABA-B3C5-08C76BAF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2B206-4CC2-432C-A32B-FC4D4D89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11FB2-5549-489A-BB4E-3931F9A9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3CCE0-0DCE-4A73-9A2F-FFF2D21A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0B361-B700-4B76-88F1-68535ADC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F5E6B-58AA-4EED-9969-5C758377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EC9B7-2378-4553-A256-939800D9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DD006-434E-4713-A257-B906D27C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5B1-D2D8-4684-ADB8-88EBBAA9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70339-D3E7-41B0-96A7-E5BC71F8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FC87C-2B1D-4C50-84B0-CF00632B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DF68D-9CFD-4475-B7C9-63870EDF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5F39B-7B37-48D8-9028-6FB1AB9C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05CAF-1D10-4EE2-857D-07383D27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2C9D6-1C9C-40DD-ADD9-48895F3E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12DBD-A4BC-41FE-854A-A650533D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2CA86-B981-45C8-AC48-B3121155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ABDA8-8C6A-4CBF-991D-6207F706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4FFB3-B32A-421A-B90C-7ABF904E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678-B07A-4A5A-B993-FE2ED825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7516A-010D-4DF1-AAA4-C68B4078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F5DA8-ECCE-4E6B-A8D6-A73A5C5C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A58A7-CBE8-4D03-B452-AB63D887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E6ECD-5877-49C3-B3FB-CCE166E7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56D78-2916-42A9-8888-936EC70A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D2836-EF5C-4EBA-9ACC-61572958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64EEF-294D-4DA3-AA98-68ED225C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BBC55-F278-480B-9C39-28BFB9E1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B21FC-341A-4EF8-BC15-BEC2CFFA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E120E-8281-4772-881E-3D90939E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24E-250D-4572-9F70-C14C091F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48E58-2538-4B62-A812-0DB98432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5B2D2-F2C0-4048-ACD2-CDC1A143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185FD-49DF-4252-B7D7-EBCD54DD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9D378-3627-4873-9C7C-1DAA89E1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23685-6BD9-4B36-BEFB-30B5CC18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B00D2-0291-49CC-80CD-3B2B5974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2FBBA-C760-42D1-A2EA-919ED91F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B2072-1E9F-4748-B1E4-E9908ECC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378DE-9B23-4270-A41A-9EF57B33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DD948-E2D3-4AE4-B8FB-A665F2CE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5C6-818A-4F5E-AC5D-F5C93E73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C4B93-679F-46BF-AA8E-F06FA510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64269-D18A-4B3A-84C0-2606F860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EFF5D-F6B6-4BF3-84B8-829A544F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88A80-3260-4773-92CA-BCF2C7C7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F934E-65FC-4CC2-983A-44DAD932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B8EF8-989B-4B1D-A9D7-20A2DEF0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9A5DA-DE46-4185-8EC4-6116D186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029E61-3244-4FE5-B851-FDB9E903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70ED42-73FE-4573-916B-3A5D7930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5A069E-0193-4CCF-B53C-5FF00CB4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ravokutnik s dijagonalno zaobljenim kut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Pravokutnik s dijagonalno zaobljenim kut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44d2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44d2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0FB9-DB5B-4496-BB58-7A86341FFEE6}" type="slidenum">
              <a:rPr b="0" lang="en-US" sz="1200" spc="-1" strike="noStrike">
                <a:solidFill>
                  <a:srgbClr val="444d26"/>
                </a:solidFill>
                <a:latin typeface="Rockwel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06508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Pravokutnik s dijagonalno zaobljenim kut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07" name="Pravokutnik s dijagonalno zaobljenim kut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06508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d8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d8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0492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12B2-F722-437A-B03F-C61F645481E7}" type="slidenum">
              <a:rPr b="0" lang="en-US" sz="1600" spc="-1" strike="noStrike">
                <a:solidFill>
                  <a:srgbClr val="40492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Pravokutnik s dijagonalno zaobljenim kut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Pravokutnik s dijagonalno zaobljenim kut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Pravokutnik s dijagonalno zaobljenim kutom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Pravokutnik s dijagonalno zaobljenim kutom 6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06508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d8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d8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0492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457F-6CC6-4DF7-825D-6140A7E9C305}" type="slidenum">
              <a:rPr b="0" lang="en-US" sz="1600" spc="-1" strike="noStrike">
                <a:solidFill>
                  <a:srgbClr val="40492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Pravokutnik s dijagonalno zaobljenim kut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Pravokutnik s dijagonalno zaobljenim kut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ravokutnik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06508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d8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d8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0492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7B46-64D2-47F3-ADB9-F79726D663D4}" type="slidenum">
              <a:rPr b="0" lang="en-US" sz="1600" spc="-1" strike="noStrike">
                <a:solidFill>
                  <a:srgbClr val="40492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Pravokutnik s dijagonalno zaobljenim kut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Pravokutnik s dijagonalno zaobljenim kut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ravokutnik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06508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d8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d8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0492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B826-0603-497A-89CC-4B3D43340E71}" type="slidenum">
              <a:rPr b="0" lang="en-US" sz="1600" spc="-1" strike="noStrike">
                <a:solidFill>
                  <a:srgbClr val="40492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Pravokutnik s dijagonalno zaobljenim kut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Pravokutnik s dijagonalno zaobljenim kut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ravokutnik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06508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d8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d8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0492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2A75-A04F-4C0F-8C03-F0866609D702}" type="slidenum">
              <a:rPr b="0" lang="en-US" sz="1600" spc="-1" strike="noStrike">
                <a:solidFill>
                  <a:srgbClr val="40492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Pravokutnik s dijagonalno zaobljenim kut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Pravokutnik s dijagonalno zaobljenim kut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ravokutnik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ravokutnik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06508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d8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d8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0492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5D6C-66EC-42A5-A15E-2FE62E620F56}" type="slidenum">
              <a:rPr b="0" lang="en-US" sz="1600" spc="-1" strike="noStrike">
                <a:solidFill>
                  <a:srgbClr val="40492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Pravokutnik s dijagonalno zaobljenim kut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Pravokutnik s dijagonalno zaobljenim kut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avokutnik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06508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d8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d8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0492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A346-333B-4D58-9216-8D4A5F3E16BB}" type="slidenum">
              <a:rPr b="0" lang="en-US" sz="1600" spc="-1" strike="noStrike">
                <a:solidFill>
                  <a:srgbClr val="40492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Pravokutnik s dijagonalno zaobljenim kut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Pravokutnik s dijagonalno zaobljenim kut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06508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d8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d8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0492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E750-1890-4B2E-B8C4-30ED3D5401CB}" type="slidenum">
              <a:rPr b="0" lang="en-US" sz="1600" spc="-1" strike="noStrike">
                <a:solidFill>
                  <a:srgbClr val="40492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Pravokutnik s dijagonalno zaobljenim kut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2" name="Pravokutnik s dijagonalno zaobljenim kut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ravokutni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06508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d8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d8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0492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328E-AE73-4F6C-A45B-B2CC8E62EE82}" type="slidenum">
              <a:rPr b="0" lang="en-US" sz="1600" spc="-1" strike="noStrike">
                <a:solidFill>
                  <a:srgbClr val="40492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1" descr=""/>
          <p:cNvPicPr/>
          <p:nvPr/>
        </p:nvPicPr>
        <p:blipFill>
          <a:blip r:embed="rId1"/>
          <a:stretch/>
        </p:blipFill>
        <p:spPr>
          <a:xfrm>
            <a:off x="676440" y="438120"/>
            <a:ext cx="7894440" cy="28227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" descr="C:\Documents and Settings\Korisnik\Local Settings\Temporary Internet Files\Content.IE5\23CRJEBJ\MCj04376430000[1].png"/>
          <p:cNvPicPr/>
          <p:nvPr/>
        </p:nvPicPr>
        <p:blipFill>
          <a:blip r:embed="rId2"/>
          <a:stretch/>
        </p:blipFill>
        <p:spPr>
          <a:xfrm>
            <a:off x="2643120" y="3143160"/>
            <a:ext cx="36576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Naslov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42200" cy="22190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93" name="Picture 5" descr="kontejner.jpg"/>
          <p:cNvPicPr/>
          <p:nvPr/>
        </p:nvPicPr>
        <p:blipFill>
          <a:blip r:embed="rId2"/>
          <a:stretch/>
        </p:blipFill>
        <p:spPr>
          <a:xfrm>
            <a:off x="1285920" y="2500200"/>
            <a:ext cx="70009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>
            <a:off x="285840" y="59508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accolti dai cittadini in cassonetti o campane distinte per materia (la carta, la plastica, il vetro, l’alluminio, 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ferro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 divisi a monte nelle case e recuperati a domicilio dai comuni (il cosiddett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istem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“porta 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orta”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engono destinati ad impianti di trattamento dei rifiu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i vengono depurati dalla presenza di materiali estranei e non omogene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i vengono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vviati agli impianti industriali di produzione che impiegano quelle che, a questo punto, sono divenute “materie prime second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3" descr="C:\Documents and Settings\Korisnik\Local Settings\Temporary Internet Files\Content.IE5\94F3D5B1\MCj03266380000[1].wmf"/>
          <p:cNvPicPr/>
          <p:nvPr/>
        </p:nvPicPr>
        <p:blipFill>
          <a:blip r:embed="rId1"/>
          <a:stretch/>
        </p:blipFill>
        <p:spPr>
          <a:xfrm>
            <a:off x="7143840" y="3786120"/>
            <a:ext cx="181908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Naslov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 txBox="1"/>
          <p:nvPr/>
        </p:nvSpPr>
        <p:spPr>
          <a:xfrm>
            <a:off x="428760" y="1643040"/>
            <a:ext cx="4038480" cy="4525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Nel contenitore blu raccogliamo la CARTA. Ne fanno parte giornali, depliant pieghevoli, libri, carta usata per scrivere e stampare, quaderni, scatole di cartone e altro. 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E’ interessante sapere che la carta da giornale si può riciclare almeno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7 volte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98" name="Picture 1" descr="C:\Documents and Settings\Korisnik\Local Settings\Temporary Internet Files\Content.IE5\13Q4P0C4\MCj03963220000[1].wmf"/>
          <p:cNvPicPr/>
          <p:nvPr/>
        </p:nvPicPr>
        <p:blipFill>
          <a:blip r:embed="rId2"/>
          <a:stretch/>
        </p:blipFill>
        <p:spPr>
          <a:xfrm>
            <a:off x="4071960" y="5000760"/>
            <a:ext cx="1857240" cy="16063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C:\Documents and Settings\Korisnik\Local Settings\Temporary Internet Files\Content.IE5\1TLSZ4G1\MMj02828040000[1].gif"/>
          <p:cNvPicPr/>
          <p:nvPr/>
        </p:nvPicPr>
        <p:blipFill>
          <a:blip r:embed="rId3"/>
          <a:stretch/>
        </p:blipFill>
        <p:spPr>
          <a:xfrm>
            <a:off x="285840" y="571680"/>
            <a:ext cx="1409760" cy="14094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C:\Documents and Settings\Korisnik\Local Settings\Temporary Internet Files\Content.IE5\NJWJMUWL\MMj02828030000[1].gif"/>
          <p:cNvPicPr/>
          <p:nvPr/>
        </p:nvPicPr>
        <p:blipFill>
          <a:blip r:embed="rId4"/>
          <a:stretch/>
        </p:blipFill>
        <p:spPr>
          <a:xfrm>
            <a:off x="6858000" y="471492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" descr="C:\Documents and Settings\Korisnik\Local Settings\Temporary Internet Files\Content.IE5\Y3O90JZB\MCj03408180000[1].wmf"/>
          <p:cNvPicPr/>
          <p:nvPr/>
        </p:nvPicPr>
        <p:blipFill>
          <a:blip r:embed="rId5"/>
          <a:stretch/>
        </p:blipFill>
        <p:spPr>
          <a:xfrm>
            <a:off x="5357880" y="2214720"/>
            <a:ext cx="30718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Naslov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000"/>
            </a:solidFill>
            <a:miter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a1d"/>
                </a:solidFill>
                <a:latin typeface="Rockwell"/>
              </a:rPr>
              <a:t>I RIFIUTI DI PLASTICA </a:t>
            </a:r>
            <a:r>
              <a:rPr b="0" lang="hr-HR" sz="2800" spc="-1" strike="noStrike">
                <a:solidFill>
                  <a:srgbClr val="333a1d"/>
                </a:solidFill>
                <a:latin typeface="Rockwell"/>
              </a:rPr>
              <a:t>si raccolgono nei cassonetti di colore giallo. 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a1d"/>
                </a:solidFill>
                <a:latin typeface="Rockwell"/>
              </a:rPr>
              <a:t>A Pola si raccolgono i rifiuti anche con il sistema “porta a porta”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04" name="Picture 7" descr="kontejneri.jpg"/>
          <p:cNvPicPr/>
          <p:nvPr/>
        </p:nvPicPr>
        <p:blipFill>
          <a:blip r:embed="rId2"/>
          <a:stretch/>
        </p:blipFill>
        <p:spPr>
          <a:xfrm>
            <a:off x="4648320" y="2467080"/>
            <a:ext cx="403848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Naslov 1" descr=""/>
          <p:cNvPicPr/>
          <p:nvPr/>
        </p:nvPicPr>
        <p:blipFill>
          <a:blip r:embed="rId1"/>
          <a:stretch/>
        </p:blipFill>
        <p:spPr>
          <a:xfrm>
            <a:off x="353880" y="-73080"/>
            <a:ext cx="7083720" cy="148104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a1d"/>
                </a:solidFill>
                <a:latin typeface="Rockwell"/>
              </a:rPr>
              <a:t>IL VETRO  - si raccoglie nei cassonetti di colore verde, poi si riduce in pezzettini e si trasporta nelle fabbriche di vetro dove fanno nuovi oggetti di vetro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Rockwell"/>
              </a:rPr>
              <a:t>I RIFIUTI PERICOLOSI </a:t>
            </a:r>
            <a:r>
              <a:rPr b="0" lang="hr-HR" sz="2800" spc="-1" strike="noStrike">
                <a:solidFill>
                  <a:srgbClr val="000000"/>
                </a:solidFill>
                <a:latin typeface="Rockwell"/>
              </a:rPr>
              <a:t>– </a:t>
            </a: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pile e batterie scariche, cellulari, medicinali, solventi, oli, vernici, </a:t>
            </a:r>
            <a:r>
              <a:rPr b="0" lang="it-IT" sz="2400" spc="-1" strike="noStrike">
                <a:solidFill>
                  <a:srgbClr val="000000"/>
                </a:solidFill>
                <a:latin typeface="Rockwell"/>
              </a:rPr>
              <a:t>diluenti, bombolette</a:t>
            </a: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Rockwell"/>
              </a:rPr>
              <a:t> antiruggine, contenitori di</a:t>
            </a: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Rockwell"/>
              </a:rPr>
              <a:t>acquaragia, </a:t>
            </a: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ecc. devono essere deposti in contenitori specifici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Rockwel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08" name="Picture 1" descr="C:\Documents and Settings\Korisnik\Local Settings\Temporary Internet Files\Content.IE5\94F3D5B1\MMj02828020000[1].gif"/>
          <p:cNvPicPr/>
          <p:nvPr/>
        </p:nvPicPr>
        <p:blipFill>
          <a:blip r:embed="rId2"/>
          <a:stretch/>
        </p:blipFill>
        <p:spPr>
          <a:xfrm>
            <a:off x="3143160" y="5000760"/>
            <a:ext cx="140976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Naslov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solidFill>
            <a:srgbClr val="fefcdf"/>
          </a:solidFill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Rockwell"/>
              </a:rPr>
              <a:t>I cassonetti per i </a:t>
            </a:r>
            <a:r>
              <a:rPr b="1" lang="hr-HR" sz="3200" spc="-1" strike="noStrike">
                <a:solidFill>
                  <a:srgbClr val="000000"/>
                </a:solidFill>
                <a:latin typeface="Rockwell"/>
              </a:rPr>
              <a:t>barattoli</a:t>
            </a:r>
            <a:r>
              <a:rPr b="0" lang="hr-HR" sz="3200" spc="-1" strike="noStrike">
                <a:solidFill>
                  <a:srgbClr val="000000"/>
                </a:solidFill>
                <a:latin typeface="Rockwell"/>
              </a:rPr>
              <a:t> e le </a:t>
            </a:r>
            <a:r>
              <a:rPr b="1" lang="hr-HR" sz="3200" spc="-1" strike="noStrike">
                <a:solidFill>
                  <a:srgbClr val="000000"/>
                </a:solidFill>
                <a:latin typeface="Rockwell"/>
              </a:rPr>
              <a:t>lattine</a:t>
            </a:r>
            <a:r>
              <a:rPr b="0" lang="hr-HR" sz="3200" spc="-1" strike="noStrike">
                <a:solidFill>
                  <a:srgbClr val="000000"/>
                </a:solidFill>
                <a:latin typeface="Rockwell"/>
              </a:rPr>
              <a:t> sono di colore grigio. I barattoli, le scatole e le lattine si fanno di alluminio e ferro. Possono essere riciclate un’infinità di volte.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85840" indent="-28584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Rockwell"/>
              </a:rPr>
              <a:t>I RIFIUTI ORGANICI </a:t>
            </a:r>
            <a:r>
              <a:rPr b="0" lang="hr-HR" sz="2000" spc="-1" strike="noStrike">
                <a:solidFill>
                  <a:srgbClr val="000000"/>
                </a:solidFill>
                <a:latin typeface="Rockwell"/>
              </a:rPr>
              <a:t>– erba secca, </a:t>
            </a:r>
            <a:r>
              <a:rPr b="0" lang="it-IT" sz="2000" spc="-1" strike="noStrike">
                <a:solidFill>
                  <a:srgbClr val="000000"/>
                </a:solidFill>
                <a:latin typeface="Rockwell"/>
              </a:rPr>
              <a:t>avanzi di cibo, di frutta e verdura, gusci d’uovo, fondi di caffè e filtri di tè, pane</a:t>
            </a:r>
            <a:r>
              <a:rPr b="0" lang="hr-HR" sz="2000" spc="-1" strike="noStrike">
                <a:solidFill>
                  <a:srgbClr val="000000"/>
                </a:solidFill>
                <a:latin typeface="Rockwell"/>
              </a:rPr>
              <a:t>, </a:t>
            </a:r>
            <a:r>
              <a:rPr b="0" lang="it-IT" sz="2000" spc="-1" strike="noStrike">
                <a:solidFill>
                  <a:srgbClr val="000000"/>
                </a:solidFill>
                <a:latin typeface="Rockwell"/>
              </a:rPr>
              <a:t>foglie e fiori</a:t>
            </a:r>
            <a:r>
              <a:rPr b="0" lang="hr-HR" sz="2000" spc="-1" strike="noStrike">
                <a:solidFill>
                  <a:srgbClr val="000000"/>
                </a:solidFill>
                <a:latin typeface="Rockwell"/>
              </a:rPr>
              <a:t>, </a:t>
            </a:r>
            <a:r>
              <a:rPr b="0" lang="it-IT" sz="2000" spc="-1" strike="noStrike">
                <a:solidFill>
                  <a:srgbClr val="000000"/>
                </a:solidFill>
                <a:latin typeface="Rockwell"/>
              </a:rPr>
              <a:t>carta assorbente, tovaglioli e fazzoletti di carta</a:t>
            </a:r>
            <a:r>
              <a:rPr b="0" lang="hr-HR" sz="2000" spc="-1" strike="noStrike">
                <a:solidFill>
                  <a:srgbClr val="000000"/>
                </a:solidFill>
                <a:latin typeface="Rockwell"/>
              </a:rPr>
              <a:t>, </a:t>
            </a:r>
            <a:r>
              <a:rPr b="0" lang="it-IT" sz="2000" spc="-1" strike="noStrike">
                <a:solidFill>
                  <a:srgbClr val="000000"/>
                </a:solidFill>
                <a:latin typeface="Rockwell"/>
              </a:rPr>
              <a:t>carta e cartone sporchi di cibo</a:t>
            </a:r>
            <a:r>
              <a:rPr b="0" lang="hr-HR" sz="2000" spc="-1" strike="noStrike">
                <a:solidFill>
                  <a:srgbClr val="000000"/>
                </a:solidFill>
                <a:latin typeface="Rockwell"/>
              </a:rPr>
              <a:t>, ecc.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Rockwell"/>
              </a:rPr>
              <a:t>L'organico sarà trasformato in un prezioso fertilizzante ecologico: il compost.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Rockwell"/>
              </a:rPr>
              <a:t>Tale concime è migliore e più sano dei concimi artificiali. 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12" name="Picture 1" descr="C:\Documents and Settings\Korisnik\Local Settings\Temporary Internet Files\Content.IE5\13Q4P0C4\MMj02828010000[1].gif"/>
          <p:cNvPicPr/>
          <p:nvPr/>
        </p:nvPicPr>
        <p:blipFill>
          <a:blip r:embed="rId2"/>
          <a:stretch/>
        </p:blipFill>
        <p:spPr>
          <a:xfrm>
            <a:off x="3357720" y="4143240"/>
            <a:ext cx="14094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Naslov 1" descr=""/>
          <p:cNvPicPr/>
          <p:nvPr/>
        </p:nvPicPr>
        <p:blipFill>
          <a:blip r:embed="rId1"/>
          <a:stretch/>
        </p:blipFill>
        <p:spPr>
          <a:xfrm>
            <a:off x="1779480" y="-42840"/>
            <a:ext cx="6364440" cy="148104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7200" y="164592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56680" indent="-25668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Evitiamo l’inquinamento dell’ambiente.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56680" indent="-25668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Salvaguardiamo la natura.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56680" indent="-25668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Favoriamo una vita sana di tutti gli esseri viventi.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56680" indent="-25668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Risparmiamo boschi e altre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56680" indent="-25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   </a:t>
            </a: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risorse.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56680" indent="-25668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Risparmiamo acqua e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56680" indent="-25668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corrente elettrica.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56680" indent="-25668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Diminuiamo la quantità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56680" indent="-25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  </a:t>
            </a: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di rifiuti.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56680" indent="-25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56680" indent="-25668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15" name="Picture 1" descr="C:\Documents and Settings\Korisnik\Local Settings\Temporary Internet Files\Content.IE5\JP0BY6ZR\MCj04133840000[1].wmf"/>
          <p:cNvPicPr/>
          <p:nvPr/>
        </p:nvPicPr>
        <p:blipFill>
          <a:blip r:embed="rId2"/>
          <a:stretch/>
        </p:blipFill>
        <p:spPr>
          <a:xfrm>
            <a:off x="6286680" y="3786120"/>
            <a:ext cx="2257200" cy="25210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C:\Documents and Settings\Korisnik\Local Settings\Temporary Internet Files\Content.IE5\23CRJEBJ\MCj04315820000[1].png"/>
          <p:cNvPicPr/>
          <p:nvPr/>
        </p:nvPicPr>
        <p:blipFill>
          <a:blip r:embed="rId3"/>
          <a:stretch/>
        </p:blipFill>
        <p:spPr>
          <a:xfrm>
            <a:off x="0" y="2858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Naslov 1" descr=""/>
          <p:cNvPicPr/>
          <p:nvPr/>
        </p:nvPicPr>
        <p:blipFill>
          <a:blip r:embed="rId1"/>
          <a:stretch/>
        </p:blipFill>
        <p:spPr>
          <a:xfrm>
            <a:off x="317520" y="281160"/>
            <a:ext cx="8375760" cy="12236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285840" y="1571400"/>
            <a:ext cx="40384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06508"/>
                </a:solidFill>
                <a:latin typeface="Rockwell"/>
              </a:rPr>
              <a:t>Conservate un ambiente pulito per le giovani generazioni!</a:t>
            </a:r>
            <a:br>
              <a:rPr sz="2800"/>
            </a:br>
            <a:r>
              <a:rPr b="1" lang="hr-HR" sz="2800" spc="-1" strike="noStrike">
                <a:solidFill>
                  <a:srgbClr val="506508"/>
                </a:solidFill>
                <a:latin typeface="Rockwell"/>
              </a:rPr>
              <a:t> </a:t>
            </a:r>
            <a:r>
              <a:rPr b="0" lang="hr-HR" sz="2800" spc="-1" strike="noStrike">
                <a:solidFill>
                  <a:srgbClr val="506508"/>
                </a:solidFill>
                <a:latin typeface="Rockwell"/>
              </a:rPr>
              <a:t>I  bambini sono pronti ad aiutarvi</a:t>
            </a:r>
            <a:r>
              <a:rPr b="1" lang="hr-HR" sz="2800" spc="-1" strike="noStrike">
                <a:solidFill>
                  <a:srgbClr val="506508"/>
                </a:solidFill>
                <a:latin typeface="Rockwel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68560" indent="-2685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Rockwell"/>
              </a:rPr>
              <a:t>Per gli acquisti usate sacchetti di stoffa o cesti di vimini al posto dei sacchetti di plastica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68560" indent="-2685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Rockwell"/>
              </a:rPr>
              <a:t>Acquistate prodotti non inquinanti che contengono simboli di biodegradabilità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20" name="Slika 4" descr="Eliminiamo i sacchetti&#13;&#10;di plastica"/>
          <p:cNvPicPr/>
          <p:nvPr/>
        </p:nvPicPr>
        <p:blipFill>
          <a:blip r:embed="rId2"/>
          <a:stretch/>
        </p:blipFill>
        <p:spPr>
          <a:xfrm>
            <a:off x="4429080" y="4143240"/>
            <a:ext cx="1643040" cy="2286000"/>
          </a:xfrm>
          <a:prstGeom prst="rect">
            <a:avLst/>
          </a:prstGeom>
          <a:ln w="0">
            <a:noFill/>
          </a:ln>
        </p:spPr>
      </p:pic>
      <p:pic>
        <p:nvPicPr>
          <p:cNvPr id="521" name="Slika 6" descr="eko-poljop-logo.jpg"/>
          <p:cNvPicPr/>
          <p:nvPr/>
        </p:nvPicPr>
        <p:blipFill>
          <a:blip r:embed="rId3"/>
          <a:stretch/>
        </p:blipFill>
        <p:spPr>
          <a:xfrm>
            <a:off x="6215040" y="371484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C:\Documents and Settings\Korisnik\Local Settings\Temporary Internet Files\Content.IE5\Y3O90JZB\MCj04381750000[1].wmf"/>
          <p:cNvPicPr/>
          <p:nvPr/>
        </p:nvPicPr>
        <p:blipFill>
          <a:blip r:embed="rId4"/>
          <a:stretch/>
        </p:blipFill>
        <p:spPr>
          <a:xfrm>
            <a:off x="6572160" y="214200"/>
            <a:ext cx="1822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ravokutnik 1"/>
          <p:cNvSpPr/>
          <p:nvPr/>
        </p:nvSpPr>
        <p:spPr>
          <a:xfrm>
            <a:off x="571680" y="500040"/>
            <a:ext cx="6500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  <a:ea typeface="Arial"/>
              </a:rPr>
              <a:t>Riutilizzate gli oggetti scartati per altri scop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  <a:ea typeface="Arial"/>
              </a:rPr>
              <a:t>Utilizzate il vuoto a rendere e non quello a perd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  <a:ea typeface="Arial"/>
              </a:rPr>
              <a:t>Sistemate in tutti i rioni di Pola i cassonetti per la raccolta differenzi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  <a:ea typeface="Arial"/>
              </a:rPr>
              <a:t>Separate i rifiuti organici per farne com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  <a:ea typeface="Arial"/>
              </a:rPr>
              <a:t>Raccogliete i medicinali scaduti in luoghi sicu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Usate batterie ricaricabi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C:\Documents and Settings\Korisnik\Local Settings\Temporary Internet Files\Content.IE5\JP0BY6ZR\MCj04376310000[1].png"/>
          <p:cNvPicPr/>
          <p:nvPr/>
        </p:nvPicPr>
        <p:blipFill>
          <a:blip r:embed="rId1"/>
          <a:stretch/>
        </p:blipFill>
        <p:spPr>
          <a:xfrm>
            <a:off x="5486400" y="100008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C:\Documents and Settings\Korisnik\Local Settings\Temporary Internet Files\Content.IE5\Y3O90JZB\MCj04382310000[1].wmf"/>
          <p:cNvPicPr/>
          <p:nvPr/>
        </p:nvPicPr>
        <p:blipFill>
          <a:blip r:embed="rId2"/>
          <a:stretch/>
        </p:blipFill>
        <p:spPr>
          <a:xfrm>
            <a:off x="4000680" y="3643200"/>
            <a:ext cx="2714400" cy="28638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C:\Documents and Settings\Korisnik\Local Settings\Temporary Internet Files\Content.IE5\LRD3LEC6\MCj04376630000[1].wmf"/>
          <p:cNvPicPr/>
          <p:nvPr/>
        </p:nvPicPr>
        <p:blipFill>
          <a:blip r:embed="rId3"/>
          <a:stretch/>
        </p:blipFill>
        <p:spPr>
          <a:xfrm rot="2050200">
            <a:off x="929880" y="4336560"/>
            <a:ext cx="17589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Naslov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357120" y="1500120"/>
            <a:ext cx="83296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71440" indent="-271440">
              <a:lnSpc>
                <a:spcPct val="8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ECOLOGIA -  è la scienza  che studia i rapporti tra gli esseri viventi e l’ambiente fisico. La parola  ecologia  ha avuto origine dalle parole greche : oicos = casa  e  logos = parola, sapere, scienza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COMPOSTAGGIO – processso di decomposizione  e trasformazione dei rifiuti organici in compost /humus/ concime/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AMBIENTE – ambiente naturale (aria , terreno, acqua, flora, fauna) e sociale, creato dall’uomo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RIFIUTI – oggetti e materiali scartati perché non servono più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RIFIUTI PERICOLOSI– rifiuti che possono danneggiare seriamente la salute degli alunni e di tutti gli uomini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SPAZZATURA-sono rifiuti che non si possono riutilizzare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RICICLAGGIO – trasformazione dei rifiuti raccolti mediante la raccolta differenziata per farne nuovi prodotti.  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29" name="Picture 4" descr="C:\Documents and Settings\Korisnik\Local Settings\Temporary Internet Files\Content.IE5\Y3O90JZB\MCj04376870000[1].wmf"/>
          <p:cNvPicPr/>
          <p:nvPr/>
        </p:nvPicPr>
        <p:blipFill>
          <a:blip r:embed="rId2"/>
          <a:stretch/>
        </p:blipFill>
        <p:spPr>
          <a:xfrm>
            <a:off x="7264440" y="3214800"/>
            <a:ext cx="187956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ravokutnik 1"/>
          <p:cNvSpPr/>
          <p:nvPr/>
        </p:nvSpPr>
        <p:spPr>
          <a:xfrm>
            <a:off x="500040" y="428760"/>
            <a:ext cx="835812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tti i giorni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le famigli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vengono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cartat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mol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rifiuti domestic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tre il 30% è composto da scarti di cucina ovvero avanzi di cibo, gusci d’uovo, scarti di verdure e frutta, carne, pesce, ossa, fondi di caffè, filtri di tè, eccete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o che rimane è una piccola percentuale di sostanze che necessitano di smaltimenti separati (pile o batterie, farmaci scaduti, cartucce di inchiostro per fotocopiatrici e stampant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2" descr="C:\Documents and Settings\Korisnik\Local Settings\Temporary Internet Files\Content.IE5\94F3D5B1\MCj02811110000[1].wmf"/>
          <p:cNvPicPr/>
          <p:nvPr/>
        </p:nvPicPr>
        <p:blipFill>
          <a:blip r:embed="rId1"/>
          <a:stretch/>
        </p:blipFill>
        <p:spPr>
          <a:xfrm>
            <a:off x="6786720" y="5072040"/>
            <a:ext cx="183672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Box 1"/>
          <p:cNvSpPr/>
          <p:nvPr/>
        </p:nvSpPr>
        <p:spPr>
          <a:xfrm>
            <a:off x="571680" y="642960"/>
            <a:ext cx="7929360" cy="52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asi tutto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l resto,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bbandonato dentro i sacchetti, bidoni o cassonett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si può recuperare e avviare a nuove utilizzazioni attraverso processi di recupero, trasformazione e riciclagg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333a1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Dobbiamo impegnarci a produrre meno rifiuti e riciclare tutto ciò che è riutilizzab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a1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Purtroppo alcuni bambini e adulti gettano spesso i rifiuti nella natura. Così la inquinano</a:t>
            </a:r>
            <a:r>
              <a:rPr b="0" lang="hr-HR" sz="2800" spc="-1" strike="noStrike">
                <a:solidFill>
                  <a:srgbClr val="333a1d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Naslov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45764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a1d"/>
                </a:solidFill>
                <a:latin typeface="Arial"/>
                <a:ea typeface="Arial"/>
              </a:rPr>
              <a:t>Vetro  -  1000 anni.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a1d"/>
                </a:solidFill>
                <a:latin typeface="Arial"/>
                <a:ea typeface="Arial"/>
              </a:rPr>
              <a:t>Sacchetto di plastica - 100 – 1000  anni.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a1d"/>
                </a:solidFill>
                <a:latin typeface="Arial"/>
                <a:ea typeface="Arial"/>
              </a:rPr>
              <a:t>Lattine – 20 - 100 anni.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a1d"/>
                </a:solidFill>
                <a:latin typeface="Arial"/>
                <a:ea typeface="Arial"/>
              </a:rPr>
              <a:t>Giornali  – 3 – 12 mesi. 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a1d"/>
                </a:solidFill>
                <a:latin typeface="Arial"/>
                <a:ea typeface="Arial"/>
              </a:rPr>
              <a:t>Torsoli di mela 3 – 6  mesi.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  <a:ea typeface="Arial"/>
              </a:rPr>
              <a:t>Piatti e bicchieri di plastica 100 - 1000 anni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a1d"/>
                </a:solidFill>
                <a:latin typeface="Arial"/>
                <a:ea typeface="Arial"/>
              </a:rPr>
              <a:t>Polistirolo – mai.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64" name="Picture 7" descr="C:\Documents and Settings\Korisnik\Local Settings\Temporary Internet Files\Content.IE5\23CRJEBJ\MCj02979810000[1].wmf"/>
          <p:cNvPicPr/>
          <p:nvPr/>
        </p:nvPicPr>
        <p:blipFill>
          <a:blip r:embed="rId2"/>
          <a:stretch/>
        </p:blipFill>
        <p:spPr>
          <a:xfrm rot="20281200">
            <a:off x="4465800" y="3782520"/>
            <a:ext cx="1214280" cy="428760"/>
          </a:xfrm>
          <a:prstGeom prst="rect">
            <a:avLst/>
          </a:prstGeom>
          <a:ln w="0">
            <a:noFill/>
          </a:ln>
        </p:spPr>
      </p:pic>
      <p:pic>
        <p:nvPicPr>
          <p:cNvPr id="465" name="Slika 7" descr="najlon.jpg"/>
          <p:cNvPicPr/>
          <p:nvPr/>
        </p:nvPicPr>
        <p:blipFill>
          <a:blip r:embed="rId3"/>
          <a:stretch/>
        </p:blipFill>
        <p:spPr>
          <a:xfrm rot="1240200">
            <a:off x="5819400" y="1595160"/>
            <a:ext cx="2500200" cy="18572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9" descr="http://www.amaroma.it/public/images/raccolta_differenziata/degradazione/mela_prato.png"/>
          <p:cNvPicPr/>
          <p:nvPr/>
        </p:nvPicPr>
        <p:blipFill>
          <a:blip r:embed="rId4"/>
          <a:stretch/>
        </p:blipFill>
        <p:spPr>
          <a:xfrm>
            <a:off x="5715000" y="3500280"/>
            <a:ext cx="1028880" cy="9432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1" descr="http://www.amaroma.it/public/images/raccolta_differenziata/degradazione/lattina_prato.png"/>
          <p:cNvPicPr/>
          <p:nvPr/>
        </p:nvPicPr>
        <p:blipFill>
          <a:blip r:embed="rId5"/>
          <a:stretch/>
        </p:blipFill>
        <p:spPr>
          <a:xfrm>
            <a:off x="7715160" y="3929040"/>
            <a:ext cx="1028880" cy="9428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3" descr="http://www.amaroma.it/public/images/raccolta_differenziata/degradazione/bottiglia_prato.png"/>
          <p:cNvPicPr/>
          <p:nvPr/>
        </p:nvPicPr>
        <p:blipFill>
          <a:blip r:embed="rId6"/>
          <a:stretch/>
        </p:blipFill>
        <p:spPr>
          <a:xfrm>
            <a:off x="4429080" y="2214720"/>
            <a:ext cx="1028880" cy="9428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5" descr="http://www.amaroma.it/public/images/raccolta_differenziata/degradazione/bicchiere_prato.png"/>
          <p:cNvPicPr/>
          <p:nvPr/>
        </p:nvPicPr>
        <p:blipFill>
          <a:blip r:embed="rId7"/>
          <a:stretch/>
        </p:blipFill>
        <p:spPr>
          <a:xfrm>
            <a:off x="6429240" y="4643280"/>
            <a:ext cx="1028880" cy="9432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7" descr="http://www.amaroma.it/public/images/raccolta_differenziata/degradazione/rivista_prato.png"/>
          <p:cNvPicPr/>
          <p:nvPr/>
        </p:nvPicPr>
        <p:blipFill>
          <a:blip r:embed="rId8"/>
          <a:stretch/>
        </p:blipFill>
        <p:spPr>
          <a:xfrm>
            <a:off x="7643880" y="5214960"/>
            <a:ext cx="1028520" cy="9428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9" descr="http://www.amaroma.it/public/images/raccolta_differenziata/degradazione/busta_prato.png"/>
          <p:cNvPicPr/>
          <p:nvPr/>
        </p:nvPicPr>
        <p:blipFill>
          <a:blip r:embed="rId9"/>
          <a:stretch/>
        </p:blipFill>
        <p:spPr>
          <a:xfrm>
            <a:off x="4786200" y="5072040"/>
            <a:ext cx="10288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Naslov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Rockwel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a1d"/>
                </a:solidFill>
                <a:latin typeface="Arial"/>
                <a:ea typeface="Arial"/>
              </a:rPr>
              <a:t>Inquinano la natura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a1d"/>
                </a:solidFill>
                <a:latin typeface="Arial"/>
                <a:ea typeface="Arial"/>
              </a:rPr>
              <a:t>Mettono in pericolo la vita umana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a1d"/>
                </a:solidFill>
                <a:latin typeface="Arial"/>
                <a:ea typeface="Arial"/>
              </a:rPr>
              <a:t>Mettono in pericolo la vita delle piante e degli animali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a1d"/>
                </a:solidFill>
                <a:latin typeface="Arial"/>
                <a:ea typeface="Arial"/>
              </a:rPr>
              <a:t>Diffondono malattie infettive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a1d"/>
                </a:solidFill>
                <a:latin typeface="Arial"/>
                <a:ea typeface="Arial"/>
              </a:rPr>
              <a:t>Possono essere infiammabili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75" name="Picture 1" descr="C:\Documents and Settings\Korisnik\Local Settings\Temporary Internet Files\Content.IE5\94F3D5B1\MCj00904960000[1].wmf"/>
          <p:cNvPicPr/>
          <p:nvPr/>
        </p:nvPicPr>
        <p:blipFill>
          <a:blip r:embed="rId2"/>
          <a:stretch/>
        </p:blipFill>
        <p:spPr>
          <a:xfrm>
            <a:off x="4786200" y="1285920"/>
            <a:ext cx="40719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 flipH="1">
            <a:off x="785880" y="358920"/>
            <a:ext cx="7215120" cy="642600"/>
          </a:xfrm>
          <a:prstGeom prst="rect">
            <a:avLst/>
          </a:prstGeom>
          <a:solidFill>
            <a:srgbClr val="c4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a1d"/>
                </a:solidFill>
                <a:latin typeface="Arial"/>
              </a:rPr>
              <a:t>Che cosa sono i rifiut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7" descr="MPj04069540000[1]"/>
          <p:cNvPicPr/>
          <p:nvPr/>
        </p:nvPicPr>
        <p:blipFill>
          <a:blip r:embed="rId1"/>
          <a:stretch/>
        </p:blipFill>
        <p:spPr>
          <a:xfrm>
            <a:off x="4143240" y="3643200"/>
            <a:ext cx="4810320" cy="261936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3"/>
          <p:cNvSpPr/>
          <p:nvPr/>
        </p:nvSpPr>
        <p:spPr>
          <a:xfrm>
            <a:off x="500040" y="1170720"/>
            <a:ext cx="76438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a1d"/>
                </a:solidFill>
                <a:latin typeface="Calibri"/>
                <a:ea typeface="Calibri"/>
              </a:rPr>
              <a:t>I rifiuti sono oggetti che non ci servono pi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a1d"/>
                </a:solidFill>
                <a:latin typeface="Calibri"/>
                <a:ea typeface="Calibri"/>
              </a:rPr>
              <a:t>NON TUTTI I RIFIUTI SONO SPAZZATURA, ma solo quelli non riutilizzabi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a1d"/>
                </a:solidFill>
                <a:latin typeface="Calibri"/>
                <a:ea typeface="Calibri"/>
              </a:rPr>
              <a:t>I rifiuti si raccolgo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a1d"/>
                </a:solidFill>
                <a:latin typeface="Calibri"/>
                <a:ea typeface="Calibri"/>
              </a:rPr>
              <a:t>e smaltisco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a1d"/>
                </a:solidFill>
                <a:latin typeface="Calibri"/>
                <a:ea typeface="Calibri"/>
              </a:rPr>
              <a:t>nelle discariche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a1d"/>
                </a:solidFill>
                <a:latin typeface="Calibri"/>
                <a:ea typeface="Calibri"/>
              </a:rPr>
              <a:t>negli inceneritor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Naslov 1" descr=""/>
          <p:cNvPicPr/>
          <p:nvPr/>
        </p:nvPicPr>
        <p:blipFill>
          <a:blip r:embed="rId1"/>
          <a:stretch/>
        </p:blipFill>
        <p:spPr>
          <a:xfrm>
            <a:off x="450720" y="-171360"/>
            <a:ext cx="8485200" cy="11048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 txBox="1"/>
          <p:nvPr/>
        </p:nvSpPr>
        <p:spPr>
          <a:xfrm>
            <a:off x="213840" y="1646280"/>
            <a:ext cx="42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produzione e la gestione dei rifiuti negli ultimi decenni ha mostrato una crescit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norm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n Itali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alla metà degli anni ‘90 è quasi raddoppiat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- ta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da farne uno dei problemi più urgenti per il futuro del pianeta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333a1d"/>
                </a:solidFill>
                <a:latin typeface="Arial"/>
                <a:ea typeface="Arial"/>
              </a:rPr>
              <a:t>Impariamo come possiamo diminuire la quantità di rifiuti.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82" name="Picture 1" descr="C:\Documents and Settings\Korisnik\Local Settings\Temporary Internet Files\Content.IE5\1TLSZ4G1\MCj04382190000[1].wmf"/>
          <p:cNvPicPr/>
          <p:nvPr/>
        </p:nvPicPr>
        <p:blipFill>
          <a:blip r:embed="rId2"/>
          <a:stretch/>
        </p:blipFill>
        <p:spPr>
          <a:xfrm>
            <a:off x="4643280" y="1143000"/>
            <a:ext cx="35006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Naslov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1600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4648320" y="1428840"/>
            <a:ext cx="403848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8720" indent="-28872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88720" indent="-28872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Rockwell"/>
              </a:rPr>
              <a:t>La </a:t>
            </a:r>
            <a:r>
              <a:rPr b="0" i="1" lang="it-IT" sz="2600" spc="-1" strike="noStrike">
                <a:solidFill>
                  <a:srgbClr val="000000"/>
                </a:solidFill>
                <a:latin typeface="Rockwell"/>
              </a:rPr>
              <a:t>raccolta differenziata</a:t>
            </a:r>
            <a:r>
              <a:rPr b="0" lang="it-IT" sz="2600" spc="-1" strike="noStrike">
                <a:solidFill>
                  <a:srgbClr val="000000"/>
                </a:solidFill>
                <a:latin typeface="Rockwell"/>
              </a:rPr>
              <a:t> è un sistema di raccolta dei rifiuti che consente di raggruppare quelli urbani in base </a:t>
            </a:r>
            <a:r>
              <a:rPr b="0" lang="hr-HR" sz="2600" spc="-1" strike="noStrike">
                <a:solidFill>
                  <a:srgbClr val="000000"/>
                </a:solidFill>
                <a:latin typeface="Rockwell"/>
              </a:rPr>
              <a:t>ai materiali</a:t>
            </a:r>
            <a:r>
              <a:rPr b="0" lang="it-IT" sz="2600" spc="-1" strike="noStrike">
                <a:solidFill>
                  <a:srgbClr val="000000"/>
                </a:solidFill>
                <a:latin typeface="Rockwell"/>
              </a:rPr>
              <a:t>, compres</a:t>
            </a:r>
            <a:r>
              <a:rPr b="0" lang="hr-HR" sz="2600" spc="-1" strike="noStrike">
                <a:solidFill>
                  <a:srgbClr val="000000"/>
                </a:solidFill>
                <a:latin typeface="Rockwell"/>
              </a:rPr>
              <a:t>i</a:t>
            </a:r>
            <a:r>
              <a:rPr b="0" lang="it-IT" sz="26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Rockwell"/>
              </a:rPr>
              <a:t>quelli</a:t>
            </a:r>
            <a:r>
              <a:rPr b="0" lang="it-IT" sz="2600" spc="-1" strike="noStrike">
                <a:solidFill>
                  <a:srgbClr val="000000"/>
                </a:solidFill>
                <a:latin typeface="Rockwell"/>
              </a:rPr>
              <a:t> organic</a:t>
            </a:r>
            <a:r>
              <a:rPr b="0" lang="hr-HR" sz="2600" spc="-1" strike="noStrike">
                <a:solidFill>
                  <a:srgbClr val="000000"/>
                </a:solidFill>
                <a:latin typeface="Rockwell"/>
              </a:rPr>
              <a:t>i </a:t>
            </a:r>
            <a:r>
              <a:rPr b="0" lang="it-IT" sz="2600" spc="-1" strike="noStrike">
                <a:solidFill>
                  <a:srgbClr val="000000"/>
                </a:solidFill>
                <a:latin typeface="Rockwell"/>
              </a:rPr>
              <a:t>e di destinarli al riciclaggio, e quindi al riutilizzo di materia prima. 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88720" indent="-28872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85" name="Picture 0" descr="recycle.gif"/>
          <p:cNvPicPr/>
          <p:nvPr/>
        </p:nvPicPr>
        <p:blipFill>
          <a:blip r:embed="rId2"/>
          <a:stretch/>
        </p:blipFill>
        <p:spPr>
          <a:xfrm>
            <a:off x="428760" y="2000160"/>
            <a:ext cx="403848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Naslov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145080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333a1d"/>
                </a:solidFill>
                <a:latin typeface="Arial"/>
                <a:ea typeface="Arial"/>
              </a:rPr>
              <a:t>IL SIMBOLO  per oggetti riciclabili è formato da  tre frecce  che indicano: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333a1d"/>
                </a:solidFill>
                <a:latin typeface="Arial"/>
                <a:ea typeface="Arial"/>
              </a:rPr>
              <a:t>raccogliere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333a1d"/>
                </a:solidFill>
                <a:latin typeface="Arial"/>
                <a:ea typeface="Arial"/>
              </a:rPr>
              <a:t>trasformare in nuovi oggetti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333a1d"/>
                </a:solidFill>
                <a:latin typeface="Arial"/>
                <a:ea typeface="Arial"/>
              </a:rPr>
              <a:t>usare nuovamente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88" name="Picture 5" descr="144px-Recycle001_svg.png"/>
          <p:cNvPicPr/>
          <p:nvPr/>
        </p:nvPicPr>
        <p:blipFill>
          <a:blip r:embed="rId2"/>
          <a:stretch/>
        </p:blipFill>
        <p:spPr>
          <a:xfrm>
            <a:off x="785880" y="1928880"/>
            <a:ext cx="3571920" cy="37148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" descr="C:\Documents and Settings\Korisnik\Local Settings\Temporary Internet Files\Content.IE5\Y3O90JZB\MCj04381770000[1].wmf"/>
          <p:cNvPicPr/>
          <p:nvPr/>
        </p:nvPicPr>
        <p:blipFill>
          <a:blip r:embed="rId3"/>
          <a:stretch/>
        </p:blipFill>
        <p:spPr>
          <a:xfrm>
            <a:off x="7072200" y="3214800"/>
            <a:ext cx="1428840" cy="1643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" descr="riciclo_anim.gif"/>
          <p:cNvPicPr/>
          <p:nvPr/>
        </p:nvPicPr>
        <p:blipFill>
          <a:blip r:embed="rId4"/>
          <a:stretch/>
        </p:blipFill>
        <p:spPr>
          <a:xfrm>
            <a:off x="1643040" y="2714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22:46:42Z</dcterms:created>
  <dc:creator/>
  <dc:description/>
  <cp:keywords>ekologija</cp:keywords>
  <dc:language>en-US</dc:language>
  <cp:lastModifiedBy/>
  <dcterms:modified xsi:type="dcterms:W3CDTF">2014-04-21T19:09:35Z</dcterms:modified>
  <cp:revision>1</cp:revision>
  <dc:subject/>
  <dc:title>-Alda  Šlend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33</vt:r8>
  </property>
  <property fmtid="{D5CDD505-2E9C-101B-9397-08002B2CF9AE}" pid="3" name="_Version">
    <vt:lpwstr>12.0.4518</vt:lpwstr>
  </property>
</Properties>
</file>