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921-9846-455A-9A4D-614DD4C7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6E2-267B-456E-BE38-A75BB1ED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23A-5D3A-47B9-BDE4-A050658E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DD4-D78B-41E2-9643-DF069AF9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3C6B-E79C-4081-9475-1BFD357F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89D5-C882-422B-8DA6-55BB9EAF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3C2A-95CB-4AA9-9891-69B03B6B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E72F-6FCC-4FD0-90EA-CFBBF3CB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A69E-4013-4BD6-9D01-EBA59F00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2E87-03FE-40C9-A4D0-1DB79E5B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6372-4CD4-47AF-BE36-6BEFF6B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EA5-FEAA-4087-901E-7C78B080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AE0-7329-43CB-819D-23FA1F5A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DABC-A5EC-4A3A-B269-B14B2F2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D792-AFD4-4F4D-97E6-C77680ED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C0BD-1DA8-45BE-B6ED-16A6E1DF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1A16-F317-43A8-AA74-5C1A13B9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D70-89AB-4D7A-A022-124F2CDF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544-AB45-4D54-A063-C69400BB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753-0D4C-4C72-AD47-03A5838D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CF8-9DA2-4102-A362-19D53CC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099-DFA3-406F-AC94-043F65A6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1F3-22D9-44DF-BE54-9F72030C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198-E309-4992-AC51-FC625C7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BE48-DDAC-4762-85CA-44E7D6009285}" type="slidenum">
              <a:rPr b="0" lang="hr-H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816A-A844-4249-8B55-4385C8819734}" type="slidenum">
              <a:rPr b="0" lang="hr-H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400800" cy="16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82400"/>
                </a:solidFill>
                <a:latin typeface="Arial Black"/>
              </a:rPr>
              <a:t>I metodi d’insegnament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Nevia Močin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82400"/>
                </a:solidFill>
                <a:latin typeface="Times New Roman"/>
              </a:rPr>
              <a:t>Didattica della natura e socie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82400"/>
                </a:solidFill>
                <a:latin typeface="Times New Roman"/>
              </a:rPr>
              <a:t>Insegnamento di 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82400"/>
                </a:solidFill>
                <a:latin typeface="Times New Roman"/>
              </a:rPr>
              <a:t>V an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1000080" y="2714760"/>
          <a:ext cx="32734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714760"/>
                    <a:ext cx="3273480" cy="3200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Le domande devono essere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57160" y="1766520"/>
            <a:ext cx="8072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inguisticamente corrette (ordine giusto delle parole, senza interruzioni a metà dom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ben chiare e determinate (es. Non va bene “Dove si trova Sebenico?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deguate all’età degli alunni (senza vocaboli sconosciuti o espressioni poco chi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idatticamente corrette (lasciare tempo per riflettere, far parlare un alunno alla volta, evitare domande retoriche, complesse, che confondono l’alunno, evitare di ripetere le risposte degli alun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Esempi di doman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28440" y="1643040"/>
            <a:ext cx="7902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e più semplici richiedono di elencare, di far vedere o descrivere qual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omande più complesse – richiedono di spiegare, argomentare, accertare, dimostrare, risolvere, valutare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s. Che cosa succede quando la neve e il ghiaccio delle montagne iniziano a sciogliersi? Che cosa tiene in aria l’aquilone? Dove si sono formate le città nelle regioni montane? Perché alcuni uccelli migrano in autunno? Perché pi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Evitare di: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85520" y="149976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ar confermare con brevi risposte le affermazioni dell’insegnante – es. Non è vero che ora siamo in inver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ar completare il pensiero dell’insegnante: es. Se la riscaldiamo, l’acqua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Favor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’esposizione di idee nuove, suggerimenti, informazioni interessanti sull’argomento trat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ricerca di informazioni e opinioni per comprendere meglio ciò che si dis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capacità di coordinare e sintetizzare le idee espr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Metodo dei lavori scritt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28440" y="1643040"/>
            <a:ext cx="7902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olto usato nell’insegnamento della natura e soci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tile in prevalenza nelle fasi di ripetizione e veri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ntagg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viluppare l’espressione scri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nsolidare e precisare il sapere dell’alu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timolare l’indipendenza nello 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rricchire il vocabolario dell’alu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Forme frequenti di lavori scritt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57160" y="1571400"/>
            <a:ext cx="807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piato di appunti dalla lavagna o di altri te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crittura di relazioni brevi in base a esperienze viss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tesura di saggi brevi in base a temi concordati e indicazioni precise sui limiti e la forma da osserv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isposte alle dom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iassu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appe concettu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Regole da osserva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crivere in modo ordinato, ortograficamente e sintatticamente corretto, rispettando tutte le regole della lingua ital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crivere con chiarezza e coer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Evitare troppi appunti alla lavagna, sul lucido, sulla slide del Pow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on copiare mentre l’insegnante spi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Saper prendere appunt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1640" y="1766880"/>
            <a:ext cx="77691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per sottolineare le informazioni essenzi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per prendere appunti durante le osservazioni a breve ter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mpilare il diario delle osserv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nnotare notizie sentite alla radio, alla televisione, leggendo giornalini per bambini, facendo un viaggio, e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Arial"/>
              </a:rPr>
              <a:t>Stile visuale</a:t>
            </a:r>
            <a:r>
              <a:rPr b="1" lang="hr-HR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28800" y="1766520"/>
            <a:ext cx="41702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mparo meglio osserv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 piace vedere i profess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mo star seduto in primo b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enso tramite imm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 sono utili i gra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e illustr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film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071880" y="5715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82400"/>
                </a:solidFill>
                <a:latin typeface="Arial"/>
              </a:rPr>
              <a:t>6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66680" y="228600"/>
            <a:ext cx="56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Arial"/>
              </a:rPr>
              <a:t>Stili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5022360" y="1766880"/>
            <a:ext cx="3808440" cy="411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5029200" y="1600200"/>
            <a:ext cx="3886200" cy="44956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PE02376_"/>
          <p:cNvPicPr/>
          <p:nvPr/>
        </p:nvPicPr>
        <p:blipFill>
          <a:blip r:embed="rId9"/>
          <a:stretch/>
        </p:blipFill>
        <p:spPr>
          <a:xfrm>
            <a:off x="5334120" y="2133720"/>
            <a:ext cx="2971800" cy="379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77004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Arial"/>
              </a:rPr>
              <a:t>Uditivo 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404352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pprendo meglio ascol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 piace parlare con gli altri sugli argomenti di 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cordo meglio se studio a voc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mo registrare il testo su nastro o cd 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71800" y="5257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82400"/>
                </a:solidFill>
                <a:latin typeface="Arial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022360" y="1766880"/>
            <a:ext cx="3808440" cy="4113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86400" y="1600200"/>
            <a:ext cx="3352680" cy="4495680"/>
          </a:xfrm>
          <a:prstGeom prst="rect">
            <a:avLst/>
          </a:prstGeom>
          <a:solidFill>
            <a:srgbClr val="005c1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9" descr="j0078766"/>
          <p:cNvPicPr/>
          <p:nvPr/>
        </p:nvPicPr>
        <p:blipFill>
          <a:blip r:embed="rId6"/>
          <a:stretch/>
        </p:blipFill>
        <p:spPr>
          <a:xfrm>
            <a:off x="5715000" y="1752480"/>
            <a:ext cx="2895480" cy="4249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77004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Arial"/>
              </a:rPr>
              <a:t>Cinestetico 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42656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pprendo con maggior efficacia tramite il movimento, il tatto e l’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n posso stare a lungo se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 piace agire, costruire qualcosa e non leggere e scriv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28960" y="5357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82400"/>
                </a:solidFill>
                <a:latin typeface="Arial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22360" y="1766880"/>
            <a:ext cx="3808440" cy="4113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562720" y="1676520"/>
            <a:ext cx="3276360" cy="4419360"/>
          </a:xfrm>
          <a:prstGeom prst="rect">
            <a:avLst/>
          </a:prstGeom>
          <a:solidFill>
            <a:srgbClr val="005c1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9" descr="j0078702"/>
          <p:cNvPicPr/>
          <p:nvPr/>
        </p:nvPicPr>
        <p:blipFill>
          <a:blip r:embed="rId5"/>
          <a:stretch/>
        </p:blipFill>
        <p:spPr>
          <a:xfrm>
            <a:off x="5715000" y="182880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Strategie, metodi e proced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57160" y="1642680"/>
            <a:ext cx="8072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trategie – insieme di metodi e procedure didattiche messe in atto dall’insegnante per favorire l’apprendimento e sviluppare le capacità de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i – insieme di procedure didattiche impiegate dalle insegnanti nel processo form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cedure didattiche – comportamenti appresi in vista di obiettivi formativi da raggiung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Classificazione dei metod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1640" y="157176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1. Metodi verb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nvers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ll’esposi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l lavoro sul t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i lavori scri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2. Metodi visiv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lla dimost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todo dei lavori graf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3. Metodo dei lavori prat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Metodi verbal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28800" y="114264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Metodo dell’esposi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l più antico nella storia dell’inseg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stituisce i 2/3 dell’attività in cla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ncor’oggi risulta indispensabile in determinati c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on va usato se gli alunni possono conoscere il fenomeno o il tema in altri modi e poco per l’apprendimento delle abi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spetti dell’esposizione: racconto, spiegazione, descri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82400"/>
                </a:solidFill>
                <a:latin typeface="Times New Roman"/>
              </a:rPr>
              <a:t>Il metodo dell’esposizione dipende dall’abilità del saper: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71360" y="1714320"/>
            <a:ext cx="7769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unicare con effi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tivare 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estire la cla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oscere il presapere de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oscere gli stili di apprendimento degli alunni (verbale, visuale, gestua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69b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ssare obiettivi formativi raggiungib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Comunicare con efficac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28440" y="1214280"/>
            <a:ext cx="8001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i trasmette informazioni in modo efficace se si pensa in modo efficiente, capacità che si traduce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capacità di pensiero guid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capacità di pensiero autonomo (senza aiuti di alcun gen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distorsione della comunicazione può dipendere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formulazione del messaggio (es. ripetizioni inutili, passaggi non mediati, omissioni, ecc.)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l codice non condiviso tra emittente e destina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l canale (es. aspetti acustici dell’au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a disponibilità all’ascolto dell’alu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482400"/>
                </a:solidFill>
                <a:latin typeface="Times New Roman"/>
              </a:rPr>
              <a:t>Ruolo dell’insegnante e </a:t>
            </a:r>
            <a:br>
              <a:rPr sz="4000"/>
            </a:br>
            <a:r>
              <a:rPr b="0" lang="hr-HR" sz="4000" spc="-1" strike="noStrike">
                <a:solidFill>
                  <a:srgbClr val="482400"/>
                </a:solidFill>
                <a:latin typeface="Times New Roman"/>
              </a:rPr>
              <a:t>comunicazione efficac</a:t>
            </a: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28440" y="1766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candire i contenuti disciplinari in unità progressive con evidenziati i concetti fondamen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ttivare in modo intenzionale e sistematico processi di metariflessione e metacognizione degli alu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laborare strategie che accrescano la concentrazione degli alunni sugli aspetti importanti  della l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muovere processi di feedback sulla valutazione della propia prestazione rispetto alle aspet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Metodo della conversazion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1640" y="1766520"/>
            <a:ext cx="776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i basa sulle domande e sulle risposte sia dell’insegnante che dell’alu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trettamente collegata con le altre forme di inseg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ende possibile la comunicazione interpers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ende attivi gli alunni, li stimola alla riflessione, consolida le loro conoscenze, li abitua al lavoro auton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Conversazione effic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28440" y="1643040"/>
            <a:ext cx="7902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erché la conversazione sia efficace bisog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rre domande su esperienze vissute o presapere acquisito da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onoscere la fonte del sapere de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pere se gli alunni sono abituati o meno ad esporre le proprie opin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muovere uno spirito cri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far partecipare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favorire l’ascolto attento di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4:18:57Z</dcterms:created>
  <dc:creator>vlado</dc:creator>
  <dc:description/>
  <dc:language>en-US</dc:language>
  <cp:lastModifiedBy>Miro</cp:lastModifiedBy>
  <dcterms:modified xsi:type="dcterms:W3CDTF">2014-01-06T21:17:32Z</dcterms:modified>
  <cp:revision>54</cp:revision>
  <dc:subject/>
  <dc:title>POUČAVANJE</dc:title>
</cp:coreProperties>
</file>